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3C4-188A-4D8E-88EB-15E95ED0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B9D-4643-47DA-BB63-41817D7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6F5-983A-49CF-BB5A-E4340129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A32-19E5-488F-ABDF-F71D19A0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F55-2916-4AC2-8454-07DF50C4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FBE-0B3D-486A-AE4E-AD66944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32B-D63F-42A2-BDC5-F5CECA5B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9C7-1519-426E-BBC7-D58FAA4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8FD-6F39-4203-B6F4-CCA8E677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656D-12C8-4656-A272-FDFC146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015-2EE5-4F41-9F83-8D13910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7AA-F92F-4E53-9908-B8BE8434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4A0A-472E-4431-9D4F-EE28D4FF8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imes New Roman"/>
              </a:rPr>
              <a:t>Ovplyvňovanie integračného procesu do Európskej únie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Natura 2000 - minulosť, súčasnosť a budúcnos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va Viestová a kolektív DAP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APHNE - Inštitút aplikovanej ekoló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_a_logo_f1" descr=""/>
          <p:cNvPicPr/>
          <p:nvPr/>
        </p:nvPicPr>
        <p:blipFill>
          <a:blip r:embed="rId1"/>
          <a:stretch/>
        </p:blipFill>
        <p:spPr>
          <a:xfrm>
            <a:off x="3429000" y="4800600"/>
            <a:ext cx="2133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685800"/>
            <a:ext cx="762012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plyvňovanie integračného proce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WWF Accession Initiative (5 ročný projek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. začiatok intenzívnej práce pri budovaní sústavy Natura 2000 na Slovens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I. začiatok spolupráce s ďalšími kandidátskymi krajinami na úrovni EÚ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orava10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556272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2280"/>
            <a:ext cx="8686800" cy="58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Harmonogram aktivít pri príprave N2000 (*podpora WWF 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rok (júl 1999 - jún 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vá informačná konferencia o sústave Natura 2000 na Slovens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dopĺňanie druhov a biotopov do príloh smerníc - začiatok negociačného proces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čala sa spolupráca s MP SR pri príprave programu SAPARD (agro-environmentálne sch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rok (júl 2000 - jún 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Pozičného dokumentu MVO k procesu rokovaní o vstupe Slovenska do EÚ v oblasti životného prostr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vypracovanie aproximačnej stratégie pre MŽP SR - časť ochrany prírody a kraj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 o programe LIFE a príprava podkladov pre vstup SR do programu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jekt PIN MATRA „Budovanie sústavy Natura 2000 na Slovensku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(metodika na identifikáciu území N2000, metodika pre prípravu manažm. plánov, interpretačný manuál pre biotopy, tvorba databázy a GIS, informačné materiály a konferencie, vedecký návrh chránených vtáčích území, atď.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7200"/>
            <a:ext cx="8381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3. rok (júl 2001 - jún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organizovanie 1. Národnej konferencie pre dotknuté subjekty o Natura 2000 - „Natura 2000, ochrana prírody v treťom tisícročí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vyšovanie povedomia verejnosti o sústave Natura 2000 - preklad, príprava a tlač informačných materiálov o Natura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4. rok (júl 2002 - jún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ríprava a zabezpečenie odbornej konferencie o Natura 2000 na Slovensku, odborné práce v skupinách pre biotopy a rastliny, vtáky, živočíchy (november 200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Trilaterálny program starostlivosti &amp; Natura 2000 (5. Trilaterálna konferencia, máj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informovanie o Natura 2000 v regióne Pomoravia v rámci projektu „Ochrana prírody v prihraničných územiach Natura 2000 v Českej republike a v okolitých krajinách prostredníctvom spolupráce MVO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53416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Times New Roman"/>
              </a:rPr>
              <a:t>5. rok (júl 2003 - jún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emináre pre poľnohospodárov v 5 pilotných oblastiach pre opatrenie č. 6 programu SAPARD (Poľnohospodárske výrobné postupy smerujúce k ochrane životného prostredia a krajiny - tzv. agro-environmentálne schém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spolupráca a podpora MŽP SR a ŠOP SR pri pripomienkovaní a schvaľovaní vládneho materiálu - Národný zoznam navrhovaných území európskeho významu (pSCI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založenie platformy MVO pre ďalší proces implementácie Natura 2000 na Slovens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*príprava a publikovanie „tieňového“ zozna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0000"/>
                </a:solidFill>
                <a:latin typeface="Times New Roman"/>
              </a:rPr>
              <a:t>KONIEC integračného procesu do E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ky 2004 - 2007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kračovanie projektu - WWF S.E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Proces implementácie Natura 2000 na Slovensku bude pokračovať (na úrovni SR aj na úrovni EÚ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. Zabezpečenie predbežnej ochrany navrhovaných území Natura 2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. Zabezpečiť finančné prostriedky pre územia Natura 2000 a ochranu prírody na Slovensku a v EÚ (prostredníctvom štrukturálnych fondov a štátnych zdroj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II. Pripraviť a implementovať metodiku na určenie priaznivého stavu druhov a biotopov (na úrovni SR aj E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IV. Pripraviť a zabezpečiť programy starostlivosti pre územia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. Komunikácia s dotknutými subjektami a informovanie o cieľoch a finančných možnostiach pre implementáciu sústavy Natura 2000 na Slovensku a v EÚ, mediálne aktivity o sústave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VI. Prepojenie ochrany prírody s poľnohospodárstvom (cez Plán rozvoja vidieka) a inými sekto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3:13:52Z</dcterms:created>
  <dc:creator>Hela</dc:creator>
  <dc:description/>
  <dc:language>en-US</dc:language>
  <cp:lastModifiedBy>zuzka</cp:lastModifiedBy>
  <dcterms:modified xsi:type="dcterms:W3CDTF">2004-06-14T16:42:29Z</dcterms:modified>
  <cp:revision>57</cp:revision>
  <dc:subject/>
  <dc:title>Agri-environmental programmes in Slovakia</dc:title>
</cp:coreProperties>
</file>