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566-3D61-4852-8A34-6AEF182A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DCF9-A648-463C-979E-D672FEBE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CD0-E479-481D-BC85-AC903349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679-1A5B-41B6-A6B8-084071BD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A84-6564-4180-BED0-4234EC5D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492-347E-4C4D-B366-CD1CC171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AA99-D9F4-4E9D-93B1-41AB4C67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EE7-D26A-43A4-8B4B-53DC961C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1E8-4829-4C8E-9C8F-25E86D1B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551-5448-444E-9F2B-250DFAD6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263-FC20-48BB-89AC-47285E6A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D1AB-8367-44DF-AB33-53AFCA9B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EB71-1DB1-4722-8CD2-3BB97C2F3E8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FINOVANIE PRIAZNIVÉHO STAVU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ŽIVOČÍŠNYCH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RUH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Roman Rajtar, Andrej Saxa </a:t>
            </a:r>
            <a:br>
              <a:rPr sz="20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Štátna ochrana prírody Slovenskej republik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Centrum ochrany prírody a krajiny</a:t>
            </a:r>
            <a:br>
              <a:rPr sz="20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Lazovná 10, Banská Bystrica </a:t>
            </a:r>
            <a:br>
              <a:rPr sz="2000"/>
            </a:b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rajtar@sopsr.sk, saxa@sopsr.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564840" y="838080"/>
            <a:ext cx="37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. Celkové vyhodnotenie stavu :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2286000"/>
            <a:ext cx="8305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4. Manažmentové opatrenia potrebné pre zachovanie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priaznivého stavu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druh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ácia rybolovného využívania prirodzených biotopov výskyt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medzenie rekreačného využívania časti biotop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ácia ostatných negatívnych antropických vplyvov najmä obráb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ôdy, chovu zvierat v blízkosti biotopov výskytu at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traňovanie exotických druhov korytnači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ržiavanie a vytváranie nových vhodných biotopov kladenia vaj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produkčných), napr. odstaňovanie náletu drev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ká a chemická ochrana hniezd, podpora prezimovania vyliahnut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venilov (zakrývanie a odkrývanie hniez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990360" y="15238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né myslenie pri definovaní FCS v základných rámcoch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ná komunikácia v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mci pracovných skupín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onalé poznanie ekológie jednotlivých druhov v podmienkach Slovenska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dlhodobých trendov (minulých, súčasných a predpokladaných) vo vývoji druh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o a priestorovo dynamický a flexibilný model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zahraničných prístupov pri definovaní priaznivého stavu a jeho nadväznosti na vypracovanie metodiky monitoringu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nanie viacerých metodických prístupov v monitoringu druhov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iadavky EK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premietnutie do parametrov charakterizujúcich priaznivý resp. nepriaznivý stav a následne parametrov zisťovaných v monitor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lnenie zá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d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ncí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ožiada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ek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ova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a priaznivého stavu živočíšneho druhu z 20. 1. 2004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lnenie zá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d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ncí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o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ožiada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ek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novan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ia priaznivého stavu živočíšneho druhu z 20. 1. 2004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stnosti parametrov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ižné, ľahko sledovateľné a merateľ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vyhodnocovanie a analýzy nesmú byť veľmi komplikova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ážajúce a reagujúce na významné dopady a ohrozen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znivého stav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 príliš citlivé (reagujúce aj na nevýznamné zásah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ytávajúce účinky manažmentových opatr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stihujúce biotopové podmienky druhov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ovať FCS druhu vo vzťahu k jeho biotop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strednictvom neho (dostatok vhodných biotopo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jednotlvé vývojové resp. vekové štádia dru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nie váhy jednotlivých parametrov (napr.1-1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možnosť celkového vyhodnotenia (napr. A, B, C, D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LÍDRI PRACOVNÝCH SKUPÍ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76520" y="13716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stavov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RNDr. Oto Majzlan, Ph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jživelníky, plazy, ry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Dr. Ján Kaut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cavce okrem netopier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 Ing. Rudolf Kropil, C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op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Mgr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ter Kaň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á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r. Rastislav Ryban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Pre ktoré živočíšne druhy priaznivý stav stanovuje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1. Pre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živočíchov z prílohy II, IV a V Smernice o ochrane biotopov, voľne žijúcich živočíchov a voľne rastúcich rastlí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2. Pre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tákov z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prílohy I  Smernice o ochrane vo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ľ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ne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  <a:ea typeface="MS Mincho"/>
              </a:rPr>
              <a:t>ijúcich vtákov a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grujú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ru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vtákov (druhy zaradené v Bonnskej konvenc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666880" y="1828800"/>
            <a:ext cx="426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Bezstavovce -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Cicavce - 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Obojživelníky -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Ryby - 27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lazy -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táky – 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–––––––––––––––––––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SPOLU: 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080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ty </a:t>
            </a: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 živočíšnyc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uhov európskeho významu pre hodnotenie FCS na Slovensk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905120"/>
            <a:ext cx="289584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30960" y="533520"/>
            <a:ext cx="53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Kritéria hodnotenia stav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1828800"/>
            <a:ext cx="5730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* Populá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* Bio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* Ohro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914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95280" y="1219320"/>
            <a:ext cx="6629040" cy="761760"/>
            <a:chOff x="1295280" y="1219320"/>
            <a:chExt cx="6629040" cy="761760"/>
          </a:xfrm>
        </p:grpSpPr>
        <p:grpSp>
          <p:nvGrpSpPr>
            <p:cNvPr id="55" name=""/>
            <p:cNvGrpSpPr/>
            <p:nvPr/>
          </p:nvGrpSpPr>
          <p:grpSpPr>
            <a:xfrm>
              <a:off x="1304280" y="1221840"/>
              <a:ext cx="6609240" cy="756360"/>
              <a:chOff x="1304280" y="1221840"/>
              <a:chExt cx="6609240" cy="75636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1304280" y="1221840"/>
                <a:ext cx="4316400" cy="378000"/>
                <a:chOff x="1304280" y="1221840"/>
                <a:chExt cx="4316400" cy="37800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1304280" y="1221840"/>
                  <a:ext cx="4316400" cy="378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1304280" y="1221840"/>
                  <a:ext cx="4316040" cy="378000"/>
                  <a:chOff x="1304280" y="1221840"/>
                  <a:chExt cx="4316040" cy="37800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1438560" y="1221840"/>
                    <a:ext cx="4047480" cy="3780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1304280" y="1221840"/>
                    <a:ext cx="431604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5621040" y="1221840"/>
                <a:ext cx="2292480" cy="378000"/>
                <a:chOff x="5621040" y="1221840"/>
                <a:chExt cx="2292480" cy="37800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5621040" y="1221840"/>
                  <a:ext cx="2292480" cy="378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5621040" y="1221840"/>
                  <a:ext cx="2292120" cy="378000"/>
                  <a:chOff x="5621040" y="1221840"/>
                  <a:chExt cx="2292120" cy="37800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5755320" y="1221840"/>
                    <a:ext cx="2022840" cy="3780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621040" y="1221840"/>
                    <a:ext cx="229212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" name=""/>
              <p:cNvGrpSpPr/>
              <p:nvPr/>
            </p:nvGrpSpPr>
            <p:grpSpPr>
              <a:xfrm>
                <a:off x="1304280" y="1599840"/>
                <a:ext cx="2023920" cy="378000"/>
                <a:chOff x="1304280" y="1599840"/>
                <a:chExt cx="2023920" cy="3780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304280" y="1599840"/>
                  <a:ext cx="2023920" cy="378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" name=""/>
                <p:cNvGrpSpPr/>
                <p:nvPr/>
              </p:nvGrpSpPr>
              <p:grpSpPr>
                <a:xfrm>
                  <a:off x="1304280" y="1599840"/>
                  <a:ext cx="2023560" cy="378000"/>
                  <a:chOff x="1304280" y="1599840"/>
                  <a:chExt cx="2023560" cy="37800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>
                    <a:off x="1438560" y="1599840"/>
                    <a:ext cx="1754280" cy="3780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304280" y="1599840"/>
                    <a:ext cx="202356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" name=""/>
              <p:cNvGrpSpPr/>
              <p:nvPr/>
            </p:nvGrpSpPr>
            <p:grpSpPr>
              <a:xfrm>
                <a:off x="3328560" y="1599840"/>
                <a:ext cx="2291760" cy="378000"/>
                <a:chOff x="3328560" y="1599840"/>
                <a:chExt cx="2291760" cy="378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3328560" y="1599840"/>
                  <a:ext cx="2291760" cy="3780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" name=""/>
                <p:cNvGrpSpPr/>
                <p:nvPr/>
              </p:nvGrpSpPr>
              <p:grpSpPr>
                <a:xfrm>
                  <a:off x="3328560" y="1599840"/>
                  <a:ext cx="2291400" cy="378000"/>
                  <a:chOff x="3328560" y="1599840"/>
                  <a:chExt cx="2291400" cy="3780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3462120" y="1599840"/>
                    <a:ext cx="2023560" cy="3780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(B1, B2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3328560" y="1599840"/>
                    <a:ext cx="229140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" name=""/>
              <p:cNvGrpSpPr/>
              <p:nvPr/>
            </p:nvGrpSpPr>
            <p:grpSpPr>
              <a:xfrm>
                <a:off x="5621040" y="1599840"/>
                <a:ext cx="2292480" cy="378000"/>
                <a:chOff x="5621040" y="1599840"/>
                <a:chExt cx="2292480" cy="378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621040" y="1599840"/>
                  <a:ext cx="2292480" cy="378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"/>
                <p:cNvGrpSpPr/>
                <p:nvPr/>
              </p:nvGrpSpPr>
              <p:grpSpPr>
                <a:xfrm>
                  <a:off x="5621040" y="1599840"/>
                  <a:ext cx="2292120" cy="378000"/>
                  <a:chOff x="5621040" y="1599840"/>
                  <a:chExt cx="2292120" cy="378000"/>
                </a:xfrm>
              </p:grpSpPr>
              <p:sp>
                <p:nvSpPr>
                  <p:cNvPr id="79" name=""/>
                  <p:cNvSpPr/>
                  <p:nvPr/>
                </p:nvSpPr>
                <p:spPr>
                  <a:xfrm>
                    <a:off x="5755320" y="1599840"/>
                    <a:ext cx="2022840" cy="3780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5621040" y="1599840"/>
                    <a:ext cx="2292120" cy="378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" name=""/>
              <p:cNvGrpSpPr/>
              <p:nvPr/>
            </p:nvGrpSpPr>
            <p:grpSpPr>
              <a:xfrm>
                <a:off x="1304280" y="1977840"/>
                <a:ext cx="2023920" cy="360"/>
                <a:chOff x="1304280" y="1977840"/>
                <a:chExt cx="2023920" cy="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04280" y="1977840"/>
                  <a:ext cx="2023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304280" y="1977840"/>
                  <a:ext cx="202392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3328560" y="1977840"/>
                <a:ext cx="2291760" cy="360"/>
                <a:chOff x="3328560" y="1977840"/>
                <a:chExt cx="2291760" cy="3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328560" y="1977840"/>
                  <a:ext cx="229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328560" y="1977840"/>
                  <a:ext cx="22917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621040" y="1977840"/>
                <a:ext cx="2292480" cy="360"/>
                <a:chOff x="5621040" y="1977840"/>
                <a:chExt cx="2292480" cy="3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621040" y="1977840"/>
                  <a:ext cx="2292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621040" y="1977840"/>
                  <a:ext cx="229248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1295280" y="1219320"/>
              <a:ext cx="6629040" cy="761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240" y="79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981080"/>
            <a:ext cx="9874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38080" y="2514600"/>
            <a:ext cx="7467480" cy="914400"/>
            <a:chOff x="838080" y="2514600"/>
            <a:chExt cx="7467480" cy="914400"/>
          </a:xfrm>
        </p:grpSpPr>
        <p:grpSp>
          <p:nvGrpSpPr>
            <p:cNvPr id="94" name=""/>
            <p:cNvGrpSpPr/>
            <p:nvPr/>
          </p:nvGrpSpPr>
          <p:grpSpPr>
            <a:xfrm>
              <a:off x="846360" y="2517120"/>
              <a:ext cx="7449480" cy="909360"/>
              <a:chOff x="846360" y="2517120"/>
              <a:chExt cx="7449480" cy="90936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846360" y="2517120"/>
                <a:ext cx="3462480" cy="357840"/>
                <a:chOff x="846360" y="2517120"/>
                <a:chExt cx="3462480" cy="3578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846360" y="2517120"/>
                  <a:ext cx="3462480" cy="3578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"/>
                <p:cNvGrpSpPr/>
                <p:nvPr/>
              </p:nvGrpSpPr>
              <p:grpSpPr>
                <a:xfrm>
                  <a:off x="846360" y="2517120"/>
                  <a:ext cx="3462120" cy="357840"/>
                  <a:chOff x="846360" y="2517120"/>
                  <a:chExt cx="3462120" cy="35784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970920" y="2517120"/>
                    <a:ext cx="3213360" cy="35784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 - 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46360" y="2517120"/>
                    <a:ext cx="3462120" cy="357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4309200" y="2517120"/>
                <a:ext cx="3986640" cy="357840"/>
                <a:chOff x="4309200" y="2517120"/>
                <a:chExt cx="3986640" cy="3578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309200" y="2517120"/>
                  <a:ext cx="3986640" cy="357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4309200" y="2517120"/>
                  <a:ext cx="3986280" cy="357840"/>
                  <a:chOff x="4309200" y="2517120"/>
                  <a:chExt cx="3986280" cy="35784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4433760" y="2517120"/>
                    <a:ext cx="3736800" cy="3578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- 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4309200" y="2517120"/>
                    <a:ext cx="3986280" cy="357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846360" y="2874960"/>
                <a:ext cx="1706760" cy="550800"/>
                <a:chOff x="846360" y="2874960"/>
                <a:chExt cx="1706760" cy="5508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846360" y="2874960"/>
                  <a:ext cx="1706760" cy="5508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846360" y="2874960"/>
                  <a:ext cx="1706400" cy="550800"/>
                  <a:chOff x="846360" y="2874960"/>
                  <a:chExt cx="1706400" cy="550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970920" y="2874960"/>
                    <a:ext cx="1456920" cy="5508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1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v.dobr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846360" y="2874960"/>
                    <a:ext cx="170640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0" name=""/>
              <p:cNvGrpSpPr/>
              <p:nvPr/>
            </p:nvGrpSpPr>
            <p:grpSpPr>
              <a:xfrm>
                <a:off x="2553480" y="2874960"/>
                <a:ext cx="1755000" cy="550800"/>
                <a:chOff x="2553480" y="2874960"/>
                <a:chExt cx="1755000" cy="5508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553480" y="2874960"/>
                  <a:ext cx="1755000" cy="55080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" name=""/>
                <p:cNvGrpSpPr/>
                <p:nvPr/>
              </p:nvGrpSpPr>
              <p:grpSpPr>
                <a:xfrm>
                  <a:off x="2553480" y="2874960"/>
                  <a:ext cx="1754640" cy="550800"/>
                  <a:chOff x="2553480" y="2874960"/>
                  <a:chExt cx="1754640" cy="55080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2677320" y="2874960"/>
                    <a:ext cx="1506600" cy="55080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2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–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d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obr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2553480" y="2874960"/>
                    <a:ext cx="175464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" name=""/>
              <p:cNvGrpSpPr/>
              <p:nvPr/>
            </p:nvGrpSpPr>
            <p:grpSpPr>
              <a:xfrm>
                <a:off x="4309200" y="2874960"/>
                <a:ext cx="1926360" cy="550800"/>
                <a:chOff x="4309200" y="2874960"/>
                <a:chExt cx="1926360" cy="550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309200" y="2874960"/>
                  <a:ext cx="1926360" cy="550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4309200" y="2874960"/>
                  <a:ext cx="1926000" cy="550800"/>
                  <a:chOff x="4309200" y="2874960"/>
                  <a:chExt cx="1926000" cy="55080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4433760" y="2874960"/>
                    <a:ext cx="1677240" cy="550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1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n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edostatočn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309200" y="2874960"/>
                    <a:ext cx="192600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6235920" y="2874960"/>
                <a:ext cx="2059560" cy="550800"/>
                <a:chOff x="6235920" y="2874960"/>
                <a:chExt cx="2059560" cy="5508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235920" y="2874960"/>
                  <a:ext cx="2059560" cy="5508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6235920" y="2874960"/>
                  <a:ext cx="2059200" cy="550800"/>
                  <a:chOff x="6235920" y="2874960"/>
                  <a:chExt cx="2059200" cy="5508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6360480" y="2874960"/>
                    <a:ext cx="1809720" cy="55080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2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 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kritick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6235920" y="2874960"/>
                    <a:ext cx="2059200" cy="550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" name=""/>
              <p:cNvGrpSpPr/>
              <p:nvPr/>
            </p:nvGrpSpPr>
            <p:grpSpPr>
              <a:xfrm>
                <a:off x="846360" y="3426120"/>
                <a:ext cx="1706760" cy="360"/>
                <a:chOff x="846360" y="3426120"/>
                <a:chExt cx="1706760" cy="3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846360" y="3426120"/>
                  <a:ext cx="1706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46360" y="3426120"/>
                  <a:ext cx="17067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553480" y="3426120"/>
                <a:ext cx="1755000" cy="360"/>
                <a:chOff x="2553480" y="3426120"/>
                <a:chExt cx="1755000" cy="3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553480" y="3426120"/>
                  <a:ext cx="1755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53480" y="3426120"/>
                  <a:ext cx="175500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309200" y="3426120"/>
                <a:ext cx="1926360" cy="360"/>
                <a:chOff x="4309200" y="3426120"/>
                <a:chExt cx="1926360" cy="3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309200" y="3426120"/>
                  <a:ext cx="1926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309200" y="3426120"/>
                  <a:ext cx="19263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6235920" y="3426120"/>
                <a:ext cx="2059560" cy="360"/>
                <a:chOff x="6235920" y="3426120"/>
                <a:chExt cx="2059560" cy="3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235920" y="3426120"/>
                  <a:ext cx="2059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235920" y="3426120"/>
                  <a:ext cx="2059560" cy="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838080" y="2514600"/>
              <a:ext cx="7467480" cy="914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240" y="3139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3352680"/>
            <a:ext cx="11397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d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" y="5950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800600"/>
            <a:ext cx="21337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del 4</a:t>
            </a:r>
            <a:r>
              <a:rPr b="1" lang="sk-SK" sz="1600" spc="-1" strike="noStrike">
                <a:solidFill>
                  <a:srgbClr val="0000ff"/>
                </a:solidFill>
                <a:latin typeface="Times New Roman"/>
              </a:rPr>
              <a:t> (finál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2960" y="498600"/>
            <a:ext cx="65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voj definovania kategórií pre FCS živ. druhu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19320" y="5334120"/>
            <a:ext cx="6780960" cy="1014120"/>
            <a:chOff x="1219320" y="5334120"/>
            <a:chExt cx="6780960" cy="1014120"/>
          </a:xfrm>
        </p:grpSpPr>
        <p:grpSp>
          <p:nvGrpSpPr>
            <p:cNvPr id="144" name=""/>
            <p:cNvGrpSpPr/>
            <p:nvPr/>
          </p:nvGrpSpPr>
          <p:grpSpPr>
            <a:xfrm>
              <a:off x="1228680" y="5337000"/>
              <a:ext cx="6760800" cy="1006920"/>
              <a:chOff x="1228680" y="5337000"/>
              <a:chExt cx="6760800" cy="100692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228680" y="5337000"/>
                <a:ext cx="4185360" cy="440640"/>
                <a:chOff x="1228680" y="5337000"/>
                <a:chExt cx="4185360" cy="440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228680" y="5337000"/>
                  <a:ext cx="4185360" cy="4406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" name=""/>
                <p:cNvGrpSpPr/>
                <p:nvPr/>
              </p:nvGrpSpPr>
              <p:grpSpPr>
                <a:xfrm>
                  <a:off x="1228680" y="5337000"/>
                  <a:ext cx="4184640" cy="440640"/>
                  <a:chOff x="1228680" y="5337000"/>
                  <a:chExt cx="4184640" cy="4406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1366200" y="5337000"/>
                    <a:ext cx="3909600" cy="44064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1228680" y="5337000"/>
                    <a:ext cx="4184640" cy="44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5414760" y="5337000"/>
                <a:ext cx="2574720" cy="440640"/>
                <a:chOff x="5414760" y="5337000"/>
                <a:chExt cx="2574720" cy="4406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414760" y="5337000"/>
                  <a:ext cx="2574720" cy="4406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5414760" y="5337000"/>
                  <a:ext cx="2574000" cy="440640"/>
                  <a:chOff x="5414760" y="5337000"/>
                  <a:chExt cx="2574000" cy="44064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5551560" y="5337000"/>
                    <a:ext cx="2299680" cy="44064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414760" y="5337000"/>
                    <a:ext cx="2574000" cy="440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1228680" y="5777640"/>
                <a:ext cx="2070360" cy="566280"/>
                <a:chOff x="1228680" y="5777640"/>
                <a:chExt cx="2070360" cy="566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1228680" y="5777640"/>
                  <a:ext cx="2070360" cy="5662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1228680" y="5777640"/>
                  <a:ext cx="2069640" cy="566280"/>
                  <a:chOff x="1228680" y="5777640"/>
                  <a:chExt cx="2069640" cy="56628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1366200" y="5777640"/>
                    <a:ext cx="1794600" cy="566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obrý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228680" y="5777640"/>
                    <a:ext cx="2069640" cy="566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3299760" y="5777640"/>
                <a:ext cx="2114280" cy="566280"/>
                <a:chOff x="3299760" y="5777640"/>
                <a:chExt cx="2114280" cy="5662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299760" y="5777640"/>
                  <a:ext cx="2114280" cy="5662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" name=""/>
                <p:cNvGrpSpPr/>
                <p:nvPr/>
              </p:nvGrpSpPr>
              <p:grpSpPr>
                <a:xfrm>
                  <a:off x="3299760" y="5777640"/>
                  <a:ext cx="2113560" cy="566280"/>
                  <a:chOff x="3299760" y="5777640"/>
                  <a:chExt cx="2113560" cy="5662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436560" y="5777640"/>
                    <a:ext cx="1839240" cy="56628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emerný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299760" y="5777640"/>
                    <a:ext cx="2113560" cy="566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5" name=""/>
              <p:cNvGrpSpPr/>
              <p:nvPr/>
            </p:nvGrpSpPr>
            <p:grpSpPr>
              <a:xfrm>
                <a:off x="5414760" y="5777640"/>
                <a:ext cx="2574720" cy="566280"/>
                <a:chOff x="5414760" y="5777640"/>
                <a:chExt cx="2574720" cy="566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5414760" y="5777640"/>
                  <a:ext cx="2574720" cy="566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5414760" y="5777640"/>
                  <a:ext cx="2574000" cy="566280"/>
                  <a:chOff x="5414760" y="5777640"/>
                  <a:chExt cx="2574000" cy="56628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>
                    <a:off x="5551560" y="5777640"/>
                    <a:ext cx="2299680" cy="5662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414760" y="5777640"/>
                    <a:ext cx="2574000" cy="566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0" name=""/>
            <p:cNvSpPr/>
            <p:nvPr/>
          </p:nvSpPr>
          <p:spPr>
            <a:xfrm>
              <a:off x="1219320" y="5334120"/>
              <a:ext cx="6780960" cy="1014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14400" y="3886200"/>
            <a:ext cx="7391160" cy="979560"/>
            <a:chOff x="914400" y="3886200"/>
            <a:chExt cx="7391160" cy="979560"/>
          </a:xfrm>
        </p:grpSpPr>
        <p:grpSp>
          <p:nvGrpSpPr>
            <p:cNvPr id="172" name=""/>
            <p:cNvGrpSpPr/>
            <p:nvPr/>
          </p:nvGrpSpPr>
          <p:grpSpPr>
            <a:xfrm>
              <a:off x="922320" y="3888720"/>
              <a:ext cx="7373520" cy="973440"/>
              <a:chOff x="922320" y="3888720"/>
              <a:chExt cx="7373520" cy="97344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922320" y="3888720"/>
                <a:ext cx="5318640" cy="378720"/>
                <a:chOff x="922320" y="3888720"/>
                <a:chExt cx="5318640" cy="378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922320" y="3888720"/>
                  <a:ext cx="5318640" cy="378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922320" y="3888720"/>
                  <a:ext cx="5318280" cy="378720"/>
                  <a:chOff x="922320" y="3888720"/>
                  <a:chExt cx="5318280" cy="378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042920" y="3888720"/>
                    <a:ext cx="5077440" cy="378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922320" y="3888720"/>
                    <a:ext cx="5318280" cy="378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6241320" y="3888720"/>
                <a:ext cx="2054520" cy="378720"/>
                <a:chOff x="6241320" y="3888720"/>
                <a:chExt cx="2054520" cy="378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241320" y="3888720"/>
                  <a:ext cx="2054520" cy="378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6241320" y="3888720"/>
                  <a:ext cx="2054160" cy="378720"/>
                  <a:chOff x="6241320" y="3888720"/>
                  <a:chExt cx="2054160" cy="378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6361560" y="3888720"/>
                    <a:ext cx="1813680" cy="378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241320" y="3888720"/>
                    <a:ext cx="2054160" cy="378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922320" y="4267440"/>
                <a:ext cx="1612080" cy="594720"/>
                <a:chOff x="922320" y="4267440"/>
                <a:chExt cx="1612080" cy="594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922320" y="4267440"/>
                  <a:ext cx="1612080" cy="594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922320" y="4267440"/>
                  <a:ext cx="1611720" cy="594720"/>
                  <a:chOff x="922320" y="4267440"/>
                  <a:chExt cx="1611720" cy="594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1042560" y="4267440"/>
                    <a:ext cx="1370520" cy="594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A - výborn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922320" y="4267440"/>
                    <a:ext cx="161172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2534760" y="4267440"/>
                <a:ext cx="1651320" cy="594720"/>
                <a:chOff x="2534760" y="4267440"/>
                <a:chExt cx="1651320" cy="59472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534760" y="4267440"/>
                  <a:ext cx="1651320" cy="594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2534760" y="4267440"/>
                  <a:ext cx="1650960" cy="594720"/>
                  <a:chOff x="2534760" y="4267440"/>
                  <a:chExt cx="1650960" cy="594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2655000" y="4267440"/>
                    <a:ext cx="1409760" cy="594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B –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obr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2534760" y="4267440"/>
                    <a:ext cx="165096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4186800" y="4267440"/>
                <a:ext cx="2054160" cy="594720"/>
                <a:chOff x="4186800" y="4267440"/>
                <a:chExt cx="2054160" cy="5947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186800" y="4267440"/>
                  <a:ext cx="2054160" cy="5947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4186800" y="4267440"/>
                  <a:ext cx="2053800" cy="594720"/>
                  <a:chOff x="4186800" y="4267440"/>
                  <a:chExt cx="2053800" cy="594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306680" y="4267440"/>
                    <a:ext cx="1813680" cy="5947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C - dostatočný - hraničn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186800" y="4267440"/>
                    <a:ext cx="205380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6241320" y="4267440"/>
                <a:ext cx="2054520" cy="594720"/>
                <a:chOff x="6241320" y="4267440"/>
                <a:chExt cx="2054520" cy="5947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6241320" y="4267440"/>
                  <a:ext cx="2054520" cy="594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6241320" y="4267440"/>
                  <a:ext cx="2054160" cy="594720"/>
                  <a:chOff x="6241320" y="4267440"/>
                  <a:chExt cx="2054160" cy="594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6361560" y="4267440"/>
                    <a:ext cx="1813680" cy="594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D -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600" spc="-1" strike="noStrike">
                        <a:solidFill>
                          <a:srgbClr val="ff0000"/>
                        </a:solidFill>
                        <a:latin typeface="Times New Roman"/>
                        <a:ea typeface="Times New Roman"/>
                      </a:rPr>
                      <a:t>nepriaznivý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241320" y="4267440"/>
                    <a:ext cx="2054160" cy="594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3" name=""/>
            <p:cNvSpPr/>
            <p:nvPr/>
          </p:nvSpPr>
          <p:spPr>
            <a:xfrm>
              <a:off x="914400" y="3886200"/>
              <a:ext cx="7391160" cy="979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78320" y="838080"/>
            <a:ext cx="567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Kategórie hodnotenia stav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Times New Roman"/>
              </a:rPr>
              <a:t>živočíšnych druhov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95280" y="2666880"/>
            <a:ext cx="6552720" cy="2784960"/>
            <a:chOff x="1295280" y="2666880"/>
            <a:chExt cx="6552720" cy="2784960"/>
          </a:xfrm>
        </p:grpSpPr>
        <p:grpSp>
          <p:nvGrpSpPr>
            <p:cNvPr id="206" name=""/>
            <p:cNvGrpSpPr/>
            <p:nvPr/>
          </p:nvGrpSpPr>
          <p:grpSpPr>
            <a:xfrm>
              <a:off x="1295280" y="2666880"/>
              <a:ext cx="4368600" cy="937080"/>
              <a:chOff x="1295280" y="2666880"/>
              <a:chExt cx="4368600" cy="937080"/>
            </a:xfrm>
          </p:grpSpPr>
          <p:sp>
            <p:nvSpPr>
              <p:cNvPr id="207" name=""/>
              <p:cNvSpPr/>
              <p:nvPr/>
            </p:nvSpPr>
            <p:spPr>
              <a:xfrm>
                <a:off x="1295280" y="2666880"/>
                <a:ext cx="436860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1295280" y="2666880"/>
                <a:ext cx="4368240" cy="909000"/>
                <a:chOff x="1295280" y="2666880"/>
                <a:chExt cx="4368240" cy="90900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1306800" y="2680200"/>
                  <a:ext cx="434412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AZNIVÝ STA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295280" y="2666880"/>
                  <a:ext cx="436824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" name=""/>
            <p:cNvGrpSpPr/>
            <p:nvPr/>
          </p:nvGrpSpPr>
          <p:grpSpPr>
            <a:xfrm>
              <a:off x="5664240" y="2666880"/>
              <a:ext cx="2183760" cy="937080"/>
              <a:chOff x="5664240" y="2666880"/>
              <a:chExt cx="2183760" cy="937080"/>
            </a:xfrm>
          </p:grpSpPr>
          <p:sp>
            <p:nvSpPr>
              <p:cNvPr id="212" name=""/>
              <p:cNvSpPr/>
              <p:nvPr/>
            </p:nvSpPr>
            <p:spPr>
              <a:xfrm>
                <a:off x="5664240" y="2666880"/>
                <a:ext cx="218376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5664240" y="2666880"/>
                <a:ext cx="2183400" cy="909000"/>
                <a:chOff x="5664240" y="2666880"/>
                <a:chExt cx="2183400" cy="9090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675760" y="2680200"/>
                  <a:ext cx="216000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PRIAZNIVÝ STAV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664240" y="2666880"/>
                  <a:ext cx="21834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1295280" y="3590640"/>
              <a:ext cx="2040120" cy="937080"/>
              <a:chOff x="1295280" y="3590640"/>
              <a:chExt cx="2040120" cy="937080"/>
            </a:xfrm>
          </p:grpSpPr>
          <p:sp>
            <p:nvSpPr>
              <p:cNvPr id="217" name=""/>
              <p:cNvSpPr/>
              <p:nvPr/>
            </p:nvSpPr>
            <p:spPr>
              <a:xfrm>
                <a:off x="1295280" y="3590640"/>
                <a:ext cx="2040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295280" y="3590640"/>
                <a:ext cx="2039760" cy="909000"/>
                <a:chOff x="1295280" y="3590640"/>
                <a:chExt cx="2039760" cy="909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306800" y="3603960"/>
                  <a:ext cx="2015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295280" y="3590640"/>
                  <a:ext cx="2039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" name=""/>
            <p:cNvGrpSpPr/>
            <p:nvPr/>
          </p:nvGrpSpPr>
          <p:grpSpPr>
            <a:xfrm>
              <a:off x="3335760" y="3590640"/>
              <a:ext cx="2328120" cy="937080"/>
              <a:chOff x="3335760" y="3590640"/>
              <a:chExt cx="2328120" cy="937080"/>
            </a:xfrm>
          </p:grpSpPr>
          <p:sp>
            <p:nvSpPr>
              <p:cNvPr id="222" name=""/>
              <p:cNvSpPr/>
              <p:nvPr/>
            </p:nvSpPr>
            <p:spPr>
              <a:xfrm>
                <a:off x="3335760" y="3590640"/>
                <a:ext cx="2328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3335760" y="3590640"/>
                <a:ext cx="2327760" cy="909000"/>
                <a:chOff x="3335760" y="3590640"/>
                <a:chExt cx="2327760" cy="9090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347280" y="3603960"/>
                  <a:ext cx="2303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335760" y="3590640"/>
                  <a:ext cx="2327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5664240" y="3590640"/>
              <a:ext cx="2183760" cy="937080"/>
              <a:chOff x="5664240" y="3590640"/>
              <a:chExt cx="2183760" cy="937080"/>
            </a:xfrm>
          </p:grpSpPr>
          <p:sp>
            <p:nvSpPr>
              <p:cNvPr id="227" name=""/>
              <p:cNvSpPr/>
              <p:nvPr/>
            </p:nvSpPr>
            <p:spPr>
              <a:xfrm>
                <a:off x="5664240" y="3590640"/>
                <a:ext cx="218376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664240" y="3590640"/>
                <a:ext cx="2183400" cy="909000"/>
                <a:chOff x="5664240" y="3590640"/>
                <a:chExt cx="2183400" cy="909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675760" y="3603960"/>
                  <a:ext cx="216000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664240" y="3590640"/>
                  <a:ext cx="21834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"/>
            <p:cNvGrpSpPr/>
            <p:nvPr/>
          </p:nvGrpSpPr>
          <p:grpSpPr>
            <a:xfrm>
              <a:off x="1295280" y="4514760"/>
              <a:ext cx="2040120" cy="937080"/>
              <a:chOff x="1295280" y="4514760"/>
              <a:chExt cx="2040120" cy="937080"/>
            </a:xfrm>
          </p:grpSpPr>
          <p:sp>
            <p:nvSpPr>
              <p:cNvPr id="232" name=""/>
              <p:cNvSpPr/>
              <p:nvPr/>
            </p:nvSpPr>
            <p:spPr>
              <a:xfrm>
                <a:off x="1295280" y="4514760"/>
                <a:ext cx="2040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1295280" y="4514760"/>
                <a:ext cx="2039760" cy="909000"/>
                <a:chOff x="1295280" y="4514760"/>
                <a:chExt cx="2039760" cy="909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306800" y="4528080"/>
                  <a:ext cx="2015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obr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295280" y="4514760"/>
                  <a:ext cx="2039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3335760" y="4514760"/>
              <a:ext cx="2328120" cy="937080"/>
              <a:chOff x="3335760" y="4514760"/>
              <a:chExt cx="2328120" cy="937080"/>
            </a:xfrm>
          </p:grpSpPr>
          <p:sp>
            <p:nvSpPr>
              <p:cNvPr id="237" name=""/>
              <p:cNvSpPr/>
              <p:nvPr/>
            </p:nvSpPr>
            <p:spPr>
              <a:xfrm>
                <a:off x="3335760" y="4514760"/>
                <a:ext cx="232812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3335760" y="4514760"/>
                <a:ext cx="2327760" cy="909000"/>
                <a:chOff x="3335760" y="4514760"/>
                <a:chExt cx="2327760" cy="9090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347280" y="4528080"/>
                  <a:ext cx="230364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iemern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335760" y="4514760"/>
                  <a:ext cx="232776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" name=""/>
            <p:cNvGrpSpPr/>
            <p:nvPr/>
          </p:nvGrpSpPr>
          <p:grpSpPr>
            <a:xfrm>
              <a:off x="5664240" y="4514760"/>
              <a:ext cx="2183760" cy="937080"/>
              <a:chOff x="5664240" y="4514760"/>
              <a:chExt cx="2183760" cy="937080"/>
            </a:xfrm>
          </p:grpSpPr>
          <p:sp>
            <p:nvSpPr>
              <p:cNvPr id="242" name=""/>
              <p:cNvSpPr/>
              <p:nvPr/>
            </p:nvSpPr>
            <p:spPr>
              <a:xfrm>
                <a:off x="5664240" y="4514760"/>
                <a:ext cx="2183760" cy="9370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5664240" y="4514760"/>
                <a:ext cx="2183400" cy="909000"/>
                <a:chOff x="5664240" y="4514760"/>
                <a:chExt cx="2183400" cy="9090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675760" y="4528080"/>
                  <a:ext cx="2160000" cy="8953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priaznivý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664240" y="4514760"/>
                  <a:ext cx="2183400" cy="90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457200"/>
            <a:ext cx="8686800" cy="61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RÍKLAD DEFINÍCIE FCS ŽIVOČÍŠNEHO DRUH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Názov druhu: </a:t>
            </a:r>
            <a:r>
              <a:rPr b="1" i="1" lang="sk-SK" sz="2000" spc="-1" strike="noStrike">
                <a:solidFill>
                  <a:srgbClr val="000000"/>
                </a:solidFill>
                <a:latin typeface="Times New Roman"/>
              </a:rPr>
              <a:t>Emys orbicularis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(korytnačka močia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. Základná charakteristika druh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Systematické zaradenie druhu: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Kmeň: Chordata (chordá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Trieda:</a:t>
            </a: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Reptilia (pla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ľaď: Emydidae (vodn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: Emys (korytnač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šírenie druh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elkový areál: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žná a stredná Európa (po 55o s.š.), juhozápadná Á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reál rozšírenia na Slovensku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hovýchodné, južné a juhozápadné Slovensko, samostatné lokality, disjunktný areál (nespojit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avné biotopy výskytu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krade, stojaté vody s hustým zárastom, močiarna vegetá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hrozenosti druhu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ý: CR - kriticky ohrozen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CN:  CR - kriticky ohroze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radenie do národnej a medzinárodnej legislatívy: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láška č. 24/2003, HD II,IV, Bern II, I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0"/>
            <a:ext cx="9142920" cy="6857640"/>
            <a:chOff x="0" y="0"/>
            <a:chExt cx="9142920" cy="6857640"/>
          </a:xfrm>
        </p:grpSpPr>
        <p:grpSp>
          <p:nvGrpSpPr>
            <p:cNvPr id="248" name=""/>
            <p:cNvGrpSpPr/>
            <p:nvPr/>
          </p:nvGrpSpPr>
          <p:grpSpPr>
            <a:xfrm>
              <a:off x="1703160" y="0"/>
              <a:ext cx="2316240" cy="391680"/>
              <a:chOff x="1703160" y="0"/>
              <a:chExt cx="2316240" cy="391680"/>
            </a:xfrm>
          </p:grpSpPr>
          <p:sp>
            <p:nvSpPr>
              <p:cNvPr id="249" name=""/>
              <p:cNvSpPr/>
              <p:nvPr/>
            </p:nvSpPr>
            <p:spPr>
              <a:xfrm>
                <a:off x="1703160" y="0"/>
                <a:ext cx="231624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16840" y="5400"/>
                <a:ext cx="2288880" cy="37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 –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4019760" y="0"/>
              <a:ext cx="2643120" cy="391680"/>
              <a:chOff x="4019760" y="0"/>
              <a:chExt cx="2643120" cy="391680"/>
            </a:xfrm>
          </p:grpSpPr>
          <p:sp>
            <p:nvSpPr>
              <p:cNvPr id="252" name=""/>
              <p:cNvSpPr/>
              <p:nvPr/>
            </p:nvSpPr>
            <p:spPr>
              <a:xfrm>
                <a:off x="4019760" y="0"/>
                <a:ext cx="264312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033440" y="5400"/>
                <a:ext cx="2615760" cy="37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 –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663240" y="0"/>
              <a:ext cx="2479680" cy="391680"/>
              <a:chOff x="6663240" y="0"/>
              <a:chExt cx="2479680" cy="391680"/>
            </a:xfrm>
          </p:grpSpPr>
          <p:sp>
            <p:nvSpPr>
              <p:cNvPr id="255" name=""/>
              <p:cNvSpPr/>
              <p:nvPr/>
            </p:nvSpPr>
            <p:spPr>
              <a:xfrm>
                <a:off x="6663240" y="0"/>
                <a:ext cx="247968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76920" y="5400"/>
                <a:ext cx="2451960" cy="374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 –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0" y="0"/>
              <a:ext cx="1702800" cy="766080"/>
              <a:chOff x="0" y="0"/>
              <a:chExt cx="1702800" cy="766080"/>
            </a:xfrm>
          </p:grpSpPr>
          <p:sp>
            <p:nvSpPr>
              <p:cNvPr id="258" name=""/>
              <p:cNvSpPr/>
              <p:nvPr/>
            </p:nvSpPr>
            <p:spPr>
              <a:xfrm>
                <a:off x="0" y="0"/>
                <a:ext cx="170280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0" y="0"/>
                <a:ext cx="1702440" cy="766080"/>
                <a:chOff x="0" y="0"/>
                <a:chExt cx="1702440" cy="7660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3320" y="5400"/>
                  <a:ext cx="1675800" cy="7603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Kritéria hodnoten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0" y="0"/>
                  <a:ext cx="1702440" cy="76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"/>
            <p:cNvGrpSpPr/>
            <p:nvPr/>
          </p:nvGrpSpPr>
          <p:grpSpPr>
            <a:xfrm>
              <a:off x="1703160" y="385920"/>
              <a:ext cx="2316240" cy="391680"/>
              <a:chOff x="1703160" y="385920"/>
              <a:chExt cx="2316240" cy="391680"/>
            </a:xfrm>
          </p:grpSpPr>
          <p:sp>
            <p:nvSpPr>
              <p:cNvPr id="263" name=""/>
              <p:cNvSpPr/>
              <p:nvPr/>
            </p:nvSpPr>
            <p:spPr>
              <a:xfrm>
                <a:off x="1703160" y="385920"/>
                <a:ext cx="231624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1703160" y="385920"/>
                <a:ext cx="2315880" cy="380160"/>
                <a:chOff x="1703160" y="385920"/>
                <a:chExt cx="2315880" cy="38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716840" y="391320"/>
                  <a:ext cx="2288520" cy="37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dobr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703160" y="385920"/>
                  <a:ext cx="231588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4019760" y="385920"/>
              <a:ext cx="2643120" cy="391680"/>
              <a:chOff x="4019760" y="385920"/>
              <a:chExt cx="2643120" cy="391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019760" y="385920"/>
                <a:ext cx="264312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4019760" y="385920"/>
                <a:ext cx="2642760" cy="380160"/>
                <a:chOff x="4019760" y="385920"/>
                <a:chExt cx="2642760" cy="3801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033440" y="391320"/>
                  <a:ext cx="2615400" cy="37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riemern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019760" y="385920"/>
                  <a:ext cx="264276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6663240" y="385920"/>
              <a:ext cx="2479680" cy="391680"/>
              <a:chOff x="6663240" y="385920"/>
              <a:chExt cx="2479680" cy="391680"/>
            </a:xfrm>
          </p:grpSpPr>
          <p:sp>
            <p:nvSpPr>
              <p:cNvPr id="273" name=""/>
              <p:cNvSpPr/>
              <p:nvPr/>
            </p:nvSpPr>
            <p:spPr>
              <a:xfrm>
                <a:off x="6663240" y="385920"/>
                <a:ext cx="2479680" cy="39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6663240" y="385920"/>
                <a:ext cx="2479320" cy="380160"/>
                <a:chOff x="6663240" y="385920"/>
                <a:chExt cx="2479320" cy="3801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676920" y="391320"/>
                  <a:ext cx="2451600" cy="3744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</a:t>
                  </a:r>
                  <a:r>
                    <a:rPr b="1" lang="cs-CZ" sz="18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nepriazniv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663240" y="385920"/>
                  <a:ext cx="2479320" cy="38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0" y="771840"/>
              <a:ext cx="367200" cy="2333520"/>
              <a:chOff x="0" y="771840"/>
              <a:chExt cx="367200" cy="233352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771840"/>
                <a:ext cx="367200" cy="474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0" y="771840"/>
                <a:ext cx="366840" cy="2333520"/>
                <a:chOff x="0" y="771840"/>
                <a:chExt cx="366840" cy="23335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3320" y="777240"/>
                  <a:ext cx="340200" cy="2327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ulá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0" y="771840"/>
                  <a:ext cx="366840" cy="233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367560" y="771840"/>
              <a:ext cx="1334880" cy="474480"/>
              <a:chOff x="367560" y="771840"/>
              <a:chExt cx="1334880" cy="474480"/>
            </a:xfrm>
          </p:grpSpPr>
          <p:sp>
            <p:nvSpPr>
              <p:cNvPr id="283" name=""/>
              <p:cNvSpPr/>
              <p:nvPr/>
            </p:nvSpPr>
            <p:spPr>
              <a:xfrm>
                <a:off x="367560" y="771840"/>
                <a:ext cx="1334880" cy="474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367560" y="771840"/>
                <a:ext cx="1334520" cy="462960"/>
                <a:chOff x="367560" y="771840"/>
                <a:chExt cx="1334520" cy="4629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381240" y="777240"/>
                  <a:ext cx="1307160" cy="457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veľkosť</a:t>
                  </a: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67560" y="771840"/>
                  <a:ext cx="1334520" cy="46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1703160" y="771840"/>
              <a:ext cx="2316240" cy="462960"/>
              <a:chOff x="1703160" y="771840"/>
              <a:chExt cx="2316240" cy="462960"/>
            </a:xfrm>
          </p:grpSpPr>
          <p:sp>
            <p:nvSpPr>
              <p:cNvPr id="288" name=""/>
              <p:cNvSpPr/>
              <p:nvPr/>
            </p:nvSpPr>
            <p:spPr>
              <a:xfrm>
                <a:off x="1716840" y="777240"/>
                <a:ext cx="2288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eľká populácia </a:t>
                </a:r>
                <a:br>
                  <a:rPr sz="1200"/>
                </a:b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100 jedinc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3160" y="771840"/>
                <a:ext cx="2316240" cy="46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019760" y="771840"/>
              <a:ext cx="2643120" cy="462960"/>
              <a:chOff x="4019760" y="771840"/>
              <a:chExt cx="2643120" cy="462960"/>
            </a:xfrm>
          </p:grpSpPr>
          <p:sp>
            <p:nvSpPr>
              <p:cNvPr id="291" name=""/>
              <p:cNvSpPr/>
              <p:nvPr/>
            </p:nvSpPr>
            <p:spPr>
              <a:xfrm>
                <a:off x="4033440" y="777240"/>
                <a:ext cx="2615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riemerná popul. </a:t>
                </a:r>
                <a:br>
                  <a:rPr sz="1200"/>
                </a:b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30 jedinc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19760" y="771840"/>
                <a:ext cx="2643120" cy="46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663240" y="771840"/>
              <a:ext cx="2479680" cy="462960"/>
              <a:chOff x="6663240" y="771840"/>
              <a:chExt cx="2479680" cy="462960"/>
            </a:xfrm>
          </p:grpSpPr>
          <p:sp>
            <p:nvSpPr>
              <p:cNvPr id="294" name=""/>
              <p:cNvSpPr/>
              <p:nvPr/>
            </p:nvSpPr>
            <p:spPr>
              <a:xfrm>
                <a:off x="6676920" y="777240"/>
                <a:ext cx="2451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malá populácia, do 10 jedincov alebo žiadny dôkaz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63240" y="771840"/>
                <a:ext cx="2479680" cy="46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67560" y="1240920"/>
              <a:ext cx="1334880" cy="845280"/>
              <a:chOff x="367560" y="1240920"/>
              <a:chExt cx="1334880" cy="84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367560" y="1240920"/>
                <a:ext cx="1334880" cy="8452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367560" y="1240920"/>
                <a:ext cx="1334520" cy="833760"/>
                <a:chOff x="367560" y="1240920"/>
                <a:chExt cx="1334520" cy="8337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81240" y="1246320"/>
                  <a:ext cx="1307160" cy="8280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štruktúra</a:t>
                  </a:r>
                  <a:r>
                    <a:rPr b="1" lang="cs-CZ" sz="1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7560" y="1240920"/>
                  <a:ext cx="1334520" cy="83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1703160" y="1240920"/>
              <a:ext cx="2316240" cy="833760"/>
              <a:chOff x="1703160" y="1240920"/>
              <a:chExt cx="2316240" cy="833760"/>
            </a:xfrm>
          </p:grpSpPr>
          <p:sp>
            <p:nvSpPr>
              <p:cNvPr id="302" name=""/>
              <p:cNvSpPr/>
              <p:nvPr/>
            </p:nvSpPr>
            <p:spPr>
              <a:xfrm>
                <a:off x="1716840" y="1246320"/>
                <a:ext cx="228888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šetky vekové a druhové skupiny dobre zastúpené, reprodukcia pravidelná a úspešná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703160" y="1240920"/>
                <a:ext cx="2316240" cy="83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019760" y="1240920"/>
              <a:ext cx="2643120" cy="833760"/>
              <a:chOff x="4019760" y="1240920"/>
              <a:chExt cx="2643120" cy="833760"/>
            </a:xfrm>
          </p:grpSpPr>
          <p:sp>
            <p:nvSpPr>
              <p:cNvPr id="305" name=""/>
              <p:cNvSpPr/>
              <p:nvPr/>
            </p:nvSpPr>
            <p:spPr>
              <a:xfrm>
                <a:off x="4033440" y="1246320"/>
                <a:ext cx="261576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šetky vekové kategórie zastúpené ale s nepravidelnosťami, reprodukcia dlhodobo úspešná, malé odchýlk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019760" y="1240920"/>
                <a:ext cx="2643120" cy="83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663240" y="1240920"/>
              <a:ext cx="2479680" cy="833760"/>
              <a:chOff x="6663240" y="1240920"/>
              <a:chExt cx="2479680" cy="833760"/>
            </a:xfrm>
          </p:grpSpPr>
          <p:sp>
            <p:nvSpPr>
              <p:cNvPr id="308" name=""/>
              <p:cNvSpPr/>
              <p:nvPr/>
            </p:nvSpPr>
            <p:spPr>
              <a:xfrm>
                <a:off x="6676920" y="1246320"/>
                <a:ext cx="2451960" cy="82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eľké výkyvy a nepravidelnosti v štruktúre populácie príp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zväčša len staršie jedince, reprodukcia vzácna alebo žiadna populácia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63240" y="1240920"/>
                <a:ext cx="2479680" cy="833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67560" y="2080440"/>
              <a:ext cx="1334880" cy="474840"/>
              <a:chOff x="367560" y="2080440"/>
              <a:chExt cx="1334880" cy="474840"/>
            </a:xfrm>
          </p:grpSpPr>
          <p:sp>
            <p:nvSpPr>
              <p:cNvPr id="311" name=""/>
              <p:cNvSpPr/>
              <p:nvPr/>
            </p:nvSpPr>
            <p:spPr>
              <a:xfrm>
                <a:off x="367560" y="2080440"/>
                <a:ext cx="133488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367560" y="2080440"/>
                <a:ext cx="1334520" cy="463320"/>
                <a:chOff x="367560" y="2080440"/>
                <a:chExt cx="1334520" cy="463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81240" y="2086200"/>
                  <a:ext cx="1307160" cy="457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dynamik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67560" y="2080440"/>
                  <a:ext cx="13345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"/>
            <p:cNvGrpSpPr/>
            <p:nvPr/>
          </p:nvGrpSpPr>
          <p:grpSpPr>
            <a:xfrm>
              <a:off x="1703160" y="2080440"/>
              <a:ext cx="2316240" cy="463320"/>
              <a:chOff x="1703160" y="2080440"/>
              <a:chExt cx="2316240" cy="463320"/>
            </a:xfrm>
          </p:grpSpPr>
          <p:sp>
            <p:nvSpPr>
              <p:cNvPr id="316" name=""/>
              <p:cNvSpPr/>
              <p:nvPr/>
            </p:nvSpPr>
            <p:spPr>
              <a:xfrm>
                <a:off x="1716840" y="2086200"/>
                <a:ext cx="2288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opulácia stabilná/rastúca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03160" y="2080440"/>
                <a:ext cx="231624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019760" y="2080440"/>
              <a:ext cx="2643120" cy="463320"/>
              <a:chOff x="4019760" y="2080440"/>
              <a:chExt cx="2643120" cy="463320"/>
            </a:xfrm>
          </p:grpSpPr>
          <p:sp>
            <p:nvSpPr>
              <p:cNvPr id="319" name=""/>
              <p:cNvSpPr/>
              <p:nvPr/>
            </p:nvSpPr>
            <p:spPr>
              <a:xfrm>
                <a:off x="4033440" y="2086200"/>
                <a:ext cx="2615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lhodobo stabilný stav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19760" y="2080440"/>
                <a:ext cx="264312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663240" y="2080440"/>
              <a:ext cx="2479680" cy="463320"/>
              <a:chOff x="6663240" y="2080440"/>
              <a:chExt cx="2479680" cy="463320"/>
            </a:xfrm>
          </p:grpSpPr>
          <p:sp>
            <p:nvSpPr>
              <p:cNvPr id="322" name=""/>
              <p:cNvSpPr/>
              <p:nvPr/>
            </p:nvSpPr>
            <p:spPr>
              <a:xfrm>
                <a:off x="6676920" y="2086200"/>
                <a:ext cx="2451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pravidelná, ohrozená, klesajúca alebo žiadna popul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63240" y="2080440"/>
                <a:ext cx="247968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67560" y="2549520"/>
              <a:ext cx="1334880" cy="567360"/>
              <a:chOff x="367560" y="2549520"/>
              <a:chExt cx="1334880" cy="567360"/>
            </a:xfrm>
          </p:grpSpPr>
          <p:sp>
            <p:nvSpPr>
              <p:cNvPr id="325" name=""/>
              <p:cNvSpPr/>
              <p:nvPr/>
            </p:nvSpPr>
            <p:spPr>
              <a:xfrm>
                <a:off x="367560" y="2549520"/>
                <a:ext cx="1334880" cy="567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367560" y="2549520"/>
                <a:ext cx="1334520" cy="555840"/>
                <a:chOff x="367560" y="2549520"/>
                <a:chExt cx="1334520" cy="5558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81240" y="2555280"/>
                  <a:ext cx="1307160" cy="549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stupe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ň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pôvodnost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67560" y="2549520"/>
                  <a:ext cx="1334520" cy="55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1703160" y="2549520"/>
              <a:ext cx="2316240" cy="555840"/>
              <a:chOff x="1703160" y="2549520"/>
              <a:chExt cx="2316240" cy="555840"/>
            </a:xfrm>
          </p:grpSpPr>
          <p:sp>
            <p:nvSpPr>
              <p:cNvPr id="330" name=""/>
              <p:cNvSpPr/>
              <p:nvPr/>
            </p:nvSpPr>
            <p:spPr>
              <a:xfrm>
                <a:off x="1716840" y="2555280"/>
                <a:ext cx="228888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utochtónny sta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gt; 90 % podi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03160" y="2549520"/>
                <a:ext cx="231624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019760" y="2549520"/>
              <a:ext cx="2643120" cy="555840"/>
              <a:chOff x="4019760" y="2549520"/>
              <a:chExt cx="2643120" cy="555840"/>
            </a:xfrm>
          </p:grpSpPr>
          <p:sp>
            <p:nvSpPr>
              <p:cNvPr id="333" name=""/>
              <p:cNvSpPr/>
              <p:nvPr/>
            </p:nvSpPr>
            <p:spPr>
              <a:xfrm>
                <a:off x="4033440" y="2555280"/>
                <a:ext cx="26157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utochtónny stav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75 - 90 % podi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019760" y="2549520"/>
                <a:ext cx="264312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663240" y="2549520"/>
              <a:ext cx="2479680" cy="555840"/>
              <a:chOff x="6663240" y="2549520"/>
              <a:chExt cx="2479680" cy="555840"/>
            </a:xfrm>
          </p:grpSpPr>
          <p:sp>
            <p:nvSpPr>
              <p:cNvPr id="336" name=""/>
              <p:cNvSpPr/>
              <p:nvPr/>
            </p:nvSpPr>
            <p:spPr>
              <a:xfrm>
                <a:off x="6676920" y="2555280"/>
                <a:ext cx="2451960" cy="54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autochtónny stav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&lt; 75 % časť, príp. allochtónna alebo žiad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63240" y="2549520"/>
                <a:ext cx="247968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3111480"/>
              <a:ext cx="367200" cy="1679040"/>
              <a:chOff x="0" y="3111480"/>
              <a:chExt cx="367200" cy="167904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3111480"/>
                <a:ext cx="367200" cy="4748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3111480"/>
                <a:ext cx="366840" cy="1679040"/>
                <a:chOff x="0" y="3111480"/>
                <a:chExt cx="366840" cy="16790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3320" y="3116880"/>
                  <a:ext cx="340200" cy="16732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oto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0" y="3111480"/>
                  <a:ext cx="366840" cy="16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3" name=""/>
            <p:cNvGrpSpPr/>
            <p:nvPr/>
          </p:nvGrpSpPr>
          <p:grpSpPr>
            <a:xfrm>
              <a:off x="367560" y="3111480"/>
              <a:ext cx="1334880" cy="474840"/>
              <a:chOff x="367560" y="3111480"/>
              <a:chExt cx="1334880" cy="474840"/>
            </a:xfrm>
          </p:grpSpPr>
          <p:sp>
            <p:nvSpPr>
              <p:cNvPr id="344" name=""/>
              <p:cNvSpPr/>
              <p:nvPr/>
            </p:nvSpPr>
            <p:spPr>
              <a:xfrm>
                <a:off x="367560" y="3111480"/>
                <a:ext cx="133488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367560" y="3111480"/>
                <a:ext cx="1334520" cy="463320"/>
                <a:chOff x="367560" y="3111480"/>
                <a:chExt cx="1334520" cy="4633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81240" y="3116880"/>
                  <a:ext cx="1307160" cy="4575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 adult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67560" y="3111480"/>
                  <a:ext cx="1334520" cy="46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8" name=""/>
            <p:cNvGrpSpPr/>
            <p:nvPr/>
          </p:nvGrpSpPr>
          <p:grpSpPr>
            <a:xfrm>
              <a:off x="1703160" y="3111480"/>
              <a:ext cx="2316240" cy="463320"/>
              <a:chOff x="1703160" y="3111480"/>
              <a:chExt cx="2316240" cy="463320"/>
            </a:xfrm>
          </p:grpSpPr>
          <p:sp>
            <p:nvSpPr>
              <p:cNvPr id="349" name=""/>
              <p:cNvSpPr/>
              <p:nvPr/>
            </p:nvSpPr>
            <p:spPr>
              <a:xfrm>
                <a:off x="1716840" y="3116880"/>
                <a:ext cx="22888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štruktúra zachovalá a pestrá, veľmi dobrý sta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03160" y="3111480"/>
                <a:ext cx="231624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019760" y="3111480"/>
              <a:ext cx="2643120" cy="463320"/>
              <a:chOff x="4019760" y="3111480"/>
              <a:chExt cx="2643120" cy="463320"/>
            </a:xfrm>
          </p:grpSpPr>
          <p:sp>
            <p:nvSpPr>
              <p:cNvPr id="352" name=""/>
              <p:cNvSpPr/>
              <p:nvPr/>
            </p:nvSpPr>
            <p:spPr>
              <a:xfrm>
                <a:off x="4033440" y="3116880"/>
                <a:ext cx="26157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kvalitné biotopy v priemernom stav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019760" y="3111480"/>
                <a:ext cx="264312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663240" y="3111480"/>
              <a:ext cx="2479680" cy="463320"/>
              <a:chOff x="6663240" y="3111480"/>
              <a:chExt cx="2479680" cy="463320"/>
            </a:xfrm>
          </p:grpSpPr>
          <p:sp>
            <p:nvSpPr>
              <p:cNvPr id="355" name=""/>
              <p:cNvSpPr/>
              <p:nvPr/>
            </p:nvSpPr>
            <p:spPr>
              <a:xfrm>
                <a:off x="6676920" y="3116880"/>
                <a:ext cx="24519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suboptimálna veľkosť a stav resp. nevhodný biot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663240" y="3111480"/>
                <a:ext cx="2479680" cy="463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67560" y="3580560"/>
              <a:ext cx="1334880" cy="659880"/>
              <a:chOff x="367560" y="3580560"/>
              <a:chExt cx="1334880" cy="659880"/>
            </a:xfrm>
          </p:grpSpPr>
          <p:sp>
            <p:nvSpPr>
              <p:cNvPr id="358" name=""/>
              <p:cNvSpPr/>
              <p:nvPr/>
            </p:nvSpPr>
            <p:spPr>
              <a:xfrm>
                <a:off x="367560" y="3580560"/>
                <a:ext cx="1334880" cy="659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367560" y="3580560"/>
                <a:ext cx="1334520" cy="648360"/>
                <a:chOff x="367560" y="3580560"/>
                <a:chExt cx="1334520" cy="64836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81240" y="3586320"/>
                  <a:ext cx="1307160" cy="64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juvenil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67560" y="3580560"/>
                  <a:ext cx="1334520" cy="64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" name=""/>
            <p:cNvGrpSpPr/>
            <p:nvPr/>
          </p:nvGrpSpPr>
          <p:grpSpPr>
            <a:xfrm>
              <a:off x="1703160" y="3580560"/>
              <a:ext cx="2316240" cy="648360"/>
              <a:chOff x="1703160" y="3580560"/>
              <a:chExt cx="2316240" cy="648360"/>
            </a:xfrm>
          </p:grpSpPr>
          <p:sp>
            <p:nvSpPr>
              <p:cNvPr id="363" name=""/>
              <p:cNvSpPr/>
              <p:nvPr/>
            </p:nvSpPr>
            <p:spPr>
              <a:xfrm>
                <a:off x="1716840" y="3586320"/>
                <a:ext cx="22888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ostatok biotopov v dobrej kvalite a štruktú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703160" y="3580560"/>
                <a:ext cx="231624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019760" y="3580560"/>
              <a:ext cx="2643120" cy="648360"/>
              <a:chOff x="4019760" y="3580560"/>
              <a:chExt cx="2643120" cy="648360"/>
            </a:xfrm>
          </p:grpSpPr>
          <p:sp>
            <p:nvSpPr>
              <p:cNvPr id="366" name=""/>
              <p:cNvSpPr/>
              <p:nvPr/>
            </p:nvSpPr>
            <p:spPr>
              <a:xfrm>
                <a:off x="4033440" y="3586320"/>
                <a:ext cx="26157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biotopy v postačujúcom množstve a stave, celkove vyrovnaná kvalitová štruktúra však niekedy kolíš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019760" y="3580560"/>
                <a:ext cx="264312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6663240" y="3580560"/>
              <a:ext cx="2479680" cy="648360"/>
              <a:chOff x="6663240" y="3580560"/>
              <a:chExt cx="2479680" cy="648360"/>
            </a:xfrm>
          </p:grpSpPr>
          <p:sp>
            <p:nvSpPr>
              <p:cNvPr id="369" name=""/>
              <p:cNvSpPr/>
              <p:nvPr/>
            </p:nvSpPr>
            <p:spPr>
              <a:xfrm>
                <a:off x="6676920" y="3586320"/>
                <a:ext cx="24519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dostatok biotopov, a/alebo nedostatočná kvalitová štruktúra, resp. biotopy chýbajú, alebo sú nevhodn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663240" y="3580560"/>
                <a:ext cx="247968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67560" y="4235040"/>
              <a:ext cx="1334880" cy="567360"/>
              <a:chOff x="367560" y="4235040"/>
              <a:chExt cx="1334880" cy="567360"/>
            </a:xfrm>
          </p:grpSpPr>
          <p:sp>
            <p:nvSpPr>
              <p:cNvPr id="372" name=""/>
              <p:cNvSpPr/>
              <p:nvPr/>
            </p:nvSpPr>
            <p:spPr>
              <a:xfrm>
                <a:off x="367560" y="4235040"/>
                <a:ext cx="1334880" cy="567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3" name=""/>
              <p:cNvGrpSpPr/>
              <p:nvPr/>
            </p:nvGrpSpPr>
            <p:grpSpPr>
              <a:xfrm>
                <a:off x="367560" y="4235040"/>
                <a:ext cx="1334520" cy="555840"/>
                <a:chOff x="367560" y="4235040"/>
                <a:chExt cx="1334520" cy="5558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81240" y="4240440"/>
                  <a:ext cx="1307160" cy="550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klad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vaje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67560" y="4235040"/>
                  <a:ext cx="1334520" cy="555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1703160" y="4235040"/>
              <a:ext cx="2316240" cy="555840"/>
              <a:chOff x="1703160" y="4235040"/>
              <a:chExt cx="2316240" cy="555840"/>
            </a:xfrm>
          </p:grpSpPr>
          <p:sp>
            <p:nvSpPr>
              <p:cNvPr id="377" name=""/>
              <p:cNvSpPr/>
              <p:nvPr/>
            </p:nvSpPr>
            <p:spPr>
              <a:xfrm>
                <a:off x="1716840" y="4240440"/>
                <a:ext cx="228888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dostatok vhodných biotopov v blízkosti vodných biotopo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03160" y="4235040"/>
                <a:ext cx="231624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019760" y="4235040"/>
              <a:ext cx="2643120" cy="555840"/>
              <a:chOff x="4019760" y="4235040"/>
              <a:chExt cx="2643120" cy="555840"/>
            </a:xfrm>
          </p:grpSpPr>
          <p:sp>
            <p:nvSpPr>
              <p:cNvPr id="380" name=""/>
              <p:cNvSpPr/>
              <p:nvPr/>
            </p:nvSpPr>
            <p:spPr>
              <a:xfrm>
                <a:off x="4033440" y="4240440"/>
                <a:ext cx="261576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ostačujúce množstvo blízkych biotopov rôznej kvality a stav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019760" y="4235040"/>
                <a:ext cx="264312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663240" y="4235040"/>
              <a:ext cx="2479680" cy="555840"/>
              <a:chOff x="6663240" y="4235040"/>
              <a:chExt cx="2479680" cy="555840"/>
            </a:xfrm>
          </p:grpSpPr>
          <p:sp>
            <p:nvSpPr>
              <p:cNvPr id="383" name=""/>
              <p:cNvSpPr/>
              <p:nvPr/>
            </p:nvSpPr>
            <p:spPr>
              <a:xfrm>
                <a:off x="6676920" y="4240440"/>
                <a:ext cx="2451960" cy="55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dostatok vhodných resp. úplne chýbajú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663240" y="4235040"/>
                <a:ext cx="2479680" cy="555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0" y="4796640"/>
              <a:ext cx="367200" cy="2049840"/>
              <a:chOff x="0" y="4796640"/>
              <a:chExt cx="367200" cy="2049840"/>
            </a:xfrm>
          </p:grpSpPr>
          <p:sp>
            <p:nvSpPr>
              <p:cNvPr id="386" name=""/>
              <p:cNvSpPr/>
              <p:nvPr/>
            </p:nvSpPr>
            <p:spPr>
              <a:xfrm>
                <a:off x="0" y="4796640"/>
                <a:ext cx="367200" cy="752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" name=""/>
              <p:cNvGrpSpPr/>
              <p:nvPr/>
            </p:nvGrpSpPr>
            <p:grpSpPr>
              <a:xfrm>
                <a:off x="0" y="4796640"/>
                <a:ext cx="366840" cy="2049840"/>
                <a:chOff x="0" y="4796640"/>
                <a:chExt cx="366840" cy="20498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3320" y="4802400"/>
                  <a:ext cx="340200" cy="2043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roz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4796640"/>
                  <a:ext cx="366840" cy="204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0" name=""/>
            <p:cNvGrpSpPr/>
            <p:nvPr/>
          </p:nvGrpSpPr>
          <p:grpSpPr>
            <a:xfrm>
              <a:off x="367560" y="4796640"/>
              <a:ext cx="1334880" cy="752760"/>
              <a:chOff x="367560" y="4796640"/>
              <a:chExt cx="1334880" cy="752760"/>
            </a:xfrm>
          </p:grpSpPr>
          <p:sp>
            <p:nvSpPr>
              <p:cNvPr id="391" name=""/>
              <p:cNvSpPr/>
              <p:nvPr/>
            </p:nvSpPr>
            <p:spPr>
              <a:xfrm>
                <a:off x="367560" y="4796640"/>
                <a:ext cx="1334880" cy="752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367560" y="4796640"/>
                <a:ext cx="1334520" cy="741240"/>
                <a:chOff x="367560" y="4796640"/>
                <a:chExt cx="1334520" cy="7412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381240" y="4802400"/>
                  <a:ext cx="1307160" cy="735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 adult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67560" y="4796640"/>
                  <a:ext cx="1334520" cy="74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1703160" y="4796640"/>
              <a:ext cx="2316240" cy="741240"/>
              <a:chOff x="1703160" y="4796640"/>
              <a:chExt cx="2316240" cy="741240"/>
            </a:xfrm>
          </p:grpSpPr>
          <p:sp>
            <p:nvSpPr>
              <p:cNvPr id="396" name=""/>
              <p:cNvSpPr/>
              <p:nvPr/>
            </p:nvSpPr>
            <p:spPr>
              <a:xfrm>
                <a:off x="1716840" y="4802400"/>
                <a:ext cx="228888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žiad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03160" y="4796640"/>
                <a:ext cx="2316240" cy="74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4019760" y="4796640"/>
              <a:ext cx="2643120" cy="741240"/>
              <a:chOff x="4019760" y="4796640"/>
              <a:chExt cx="2643120" cy="741240"/>
            </a:xfrm>
          </p:grpSpPr>
          <p:sp>
            <p:nvSpPr>
              <p:cNvPr id="399" name=""/>
              <p:cNvSpPr/>
              <p:nvPr/>
            </p:nvSpPr>
            <p:spPr>
              <a:xfrm>
                <a:off x="4033440" y="4802400"/>
                <a:ext cx="261576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gat. vplyvy málo viditeľné, mierne narušeni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019760" y="4796640"/>
                <a:ext cx="2643120" cy="74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6663240" y="4796640"/>
              <a:ext cx="2479680" cy="741240"/>
              <a:chOff x="6663240" y="4796640"/>
              <a:chExt cx="2479680" cy="741240"/>
            </a:xfrm>
          </p:grpSpPr>
          <p:sp>
            <p:nvSpPr>
              <p:cNvPr id="402" name=""/>
              <p:cNvSpPr/>
              <p:nvPr/>
            </p:nvSpPr>
            <p:spPr>
              <a:xfrm>
                <a:off x="6676920" y="4802400"/>
                <a:ext cx="245196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iditeľné narušenia a obmedzenia  narastajúci a intenzívny rybolov, exot. korytnačky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rekreačné využívani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63240" y="4796640"/>
                <a:ext cx="2479680" cy="741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67560" y="5543280"/>
              <a:ext cx="1334880" cy="660240"/>
              <a:chOff x="367560" y="5543280"/>
              <a:chExt cx="1334880" cy="660240"/>
            </a:xfrm>
          </p:grpSpPr>
          <p:sp>
            <p:nvSpPr>
              <p:cNvPr id="405" name=""/>
              <p:cNvSpPr/>
              <p:nvPr/>
            </p:nvSpPr>
            <p:spPr>
              <a:xfrm>
                <a:off x="367560" y="5543280"/>
                <a:ext cx="1334880" cy="660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367560" y="5543280"/>
                <a:ext cx="1334520" cy="648720"/>
                <a:chOff x="367560" y="5543280"/>
                <a:chExt cx="1334520" cy="648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81240" y="5549040"/>
                  <a:ext cx="1307160" cy="6426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juvenilo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67560" y="5543280"/>
                  <a:ext cx="1334520" cy="64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1703160" y="5543280"/>
              <a:ext cx="2316240" cy="648360"/>
              <a:chOff x="1703160" y="5543280"/>
              <a:chExt cx="2316240" cy="648360"/>
            </a:xfrm>
          </p:grpSpPr>
          <p:sp>
            <p:nvSpPr>
              <p:cNvPr id="410" name=""/>
              <p:cNvSpPr/>
              <p:nvPr/>
            </p:nvSpPr>
            <p:spPr>
              <a:xfrm>
                <a:off x="1716840" y="5549040"/>
                <a:ext cx="22888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žiad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03160" y="5543280"/>
                <a:ext cx="231624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4019760" y="5543280"/>
              <a:ext cx="2643120" cy="648360"/>
              <a:chOff x="4019760" y="5543280"/>
              <a:chExt cx="2643120" cy="648360"/>
            </a:xfrm>
          </p:grpSpPr>
          <p:sp>
            <p:nvSpPr>
              <p:cNvPr id="413" name=""/>
              <p:cNvSpPr/>
              <p:nvPr/>
            </p:nvSpPr>
            <p:spPr>
              <a:xfrm>
                <a:off x="4033440" y="5549040"/>
                <a:ext cx="26157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gat. vplyvy málo viditeľné, mierne naruše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019760" y="5543280"/>
                <a:ext cx="264312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6663240" y="5543280"/>
              <a:ext cx="2479680" cy="648360"/>
              <a:chOff x="6663240" y="5543280"/>
              <a:chExt cx="2479680" cy="648360"/>
            </a:xfrm>
          </p:grpSpPr>
          <p:sp>
            <p:nvSpPr>
              <p:cNvPr id="416" name=""/>
              <p:cNvSpPr/>
              <p:nvPr/>
            </p:nvSpPr>
            <p:spPr>
              <a:xfrm>
                <a:off x="6676920" y="5549040"/>
                <a:ext cx="24519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iditeľné  narušenia a obmedzenia, tlaky, intenzívny rybolov, rekreačné využívai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63240" y="5543280"/>
                <a:ext cx="247968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67560" y="6197760"/>
              <a:ext cx="1334880" cy="659880"/>
              <a:chOff x="367560" y="6197760"/>
              <a:chExt cx="1334880" cy="659880"/>
            </a:xfrm>
          </p:grpSpPr>
          <p:sp>
            <p:nvSpPr>
              <p:cNvPr id="419" name=""/>
              <p:cNvSpPr/>
              <p:nvPr/>
            </p:nvSpPr>
            <p:spPr>
              <a:xfrm>
                <a:off x="367560" y="6197760"/>
                <a:ext cx="1334880" cy="659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0" name=""/>
              <p:cNvGrpSpPr/>
              <p:nvPr/>
            </p:nvGrpSpPr>
            <p:grpSpPr>
              <a:xfrm>
                <a:off x="367560" y="6197760"/>
                <a:ext cx="1334520" cy="648360"/>
                <a:chOff x="367560" y="6197760"/>
                <a:chExt cx="1334520" cy="6483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381240" y="6203520"/>
                  <a:ext cx="1307160" cy="642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biotopy klad</a:t>
                  </a:r>
                  <a:r>
                    <a:rPr b="1" lang="sk-SK" sz="1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r>
                    <a:rPr b="1" lang="cs-CZ" sz="16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 vaje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67560" y="6197760"/>
                  <a:ext cx="1334520" cy="64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3" name=""/>
            <p:cNvGrpSpPr/>
            <p:nvPr/>
          </p:nvGrpSpPr>
          <p:grpSpPr>
            <a:xfrm>
              <a:off x="1703160" y="6197760"/>
              <a:ext cx="2316240" cy="648360"/>
              <a:chOff x="1703160" y="6197760"/>
              <a:chExt cx="2316240" cy="648360"/>
            </a:xfrm>
          </p:grpSpPr>
          <p:sp>
            <p:nvSpPr>
              <p:cNvPr id="424" name=""/>
              <p:cNvSpPr/>
              <p:nvPr/>
            </p:nvSpPr>
            <p:spPr>
              <a:xfrm>
                <a:off x="1716840" y="6203520"/>
                <a:ext cx="228888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žiad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703160" y="6197760"/>
                <a:ext cx="231624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4019760" y="6197760"/>
              <a:ext cx="2643120" cy="648360"/>
              <a:chOff x="4019760" y="6197760"/>
              <a:chExt cx="2643120" cy="648360"/>
            </a:xfrm>
          </p:grpSpPr>
          <p:sp>
            <p:nvSpPr>
              <p:cNvPr id="427" name=""/>
              <p:cNvSpPr/>
              <p:nvPr/>
            </p:nvSpPr>
            <p:spPr>
              <a:xfrm>
                <a:off x="4033440" y="6203520"/>
                <a:ext cx="26157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negat. vplyvy málo viditeľné, mierne naruše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019760" y="6197760"/>
                <a:ext cx="264312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663240" y="6197760"/>
              <a:ext cx="2479680" cy="648360"/>
              <a:chOff x="6663240" y="6197760"/>
              <a:chExt cx="2479680" cy="648360"/>
            </a:xfrm>
          </p:grpSpPr>
          <p:sp>
            <p:nvSpPr>
              <p:cNvPr id="430" name=""/>
              <p:cNvSpPr/>
              <p:nvPr/>
            </p:nvSpPr>
            <p:spPr>
              <a:xfrm>
                <a:off x="6676920" y="6203520"/>
                <a:ext cx="245196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2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viditeľné narušenia a obmedzenia, tlak dom. zvierat, človeka, obrábanie pôd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63240" y="6197760"/>
                <a:ext cx="2479680" cy="648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3:49:00Z</dcterms:created>
  <dc:creator>ŠOP SR</dc:creator>
  <dc:description/>
  <dc:language>en-US</dc:language>
  <cp:lastModifiedBy>Saxa</cp:lastModifiedBy>
  <dcterms:modified xsi:type="dcterms:W3CDTF">2004-11-22T07:32:07Z</dcterms:modified>
  <cp:revision>82</cp:revision>
  <dc:subject/>
  <dc:title>DEFINOVANIE PRIAZNIVÉHO STAVU ŽIVOČÍŠNYCH DRUHOV </dc:title>
</cp:coreProperties>
</file>