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5A6-49E3-4508-AA22-CC3C0420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1B0-A574-4C26-BE95-1902ABA3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CF5-19DA-4ED7-A415-4259635D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4C6-4A77-47FD-916A-2A003753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9AF-0160-4120-9E90-F8B70BB4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7627-607C-41D5-AB22-263E002E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647-49D8-4CA4-A376-8A85CBBF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2C8-1357-4099-A438-ADDE0D25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273-218F-42BE-B58D-09B8B569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A7B-72E3-4A54-952A-C4F47948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AE5-4BB9-483B-A568-62572855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5D4-86C7-4153-B852-86CD084A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5421-1D40-468B-8773-346AD5F9D9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2800" y="1168560"/>
            <a:ext cx="6108840" cy="703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vodné úvahy o monitorovacom systéme pre nelesné biot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06560" y="2357280"/>
            <a:ext cx="3391200" cy="3070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Ján Šeff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stislav Las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1160" y="1346040"/>
            <a:ext cx="63244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podával aktuálne informácie o stave všetkých biotop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prepojený s plánovaním a realizáciou manažmen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uskutočniteľný z hľadiska expertných kapací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finančne efektív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napojený na ďalšie monitorovacie systémy (AEP, RSV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93400" y="673200"/>
            <a:ext cx="65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o očakávame od monitorovacieho systému pre nelesné biotop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676520" y="3228840"/>
            <a:ext cx="1904760" cy="900360"/>
            <a:chOff x="1676520" y="3228840"/>
            <a:chExt cx="1904760" cy="900360"/>
          </a:xfrm>
        </p:grpSpPr>
        <p:sp>
          <p:nvSpPr>
            <p:cNvPr id="46" name=""/>
            <p:cNvSpPr/>
            <p:nvPr/>
          </p:nvSpPr>
          <p:spPr>
            <a:xfrm>
              <a:off x="1676520" y="3228840"/>
              <a:ext cx="1904760" cy="9003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28800" y="345744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etodik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486400" y="3228840"/>
            <a:ext cx="1905120" cy="900360"/>
            <a:chOff x="5486400" y="3228840"/>
            <a:chExt cx="1905120" cy="900360"/>
          </a:xfrm>
        </p:grpSpPr>
        <p:sp>
          <p:nvSpPr>
            <p:cNvPr id="49" name=""/>
            <p:cNvSpPr/>
            <p:nvPr/>
          </p:nvSpPr>
          <p:spPr>
            <a:xfrm>
              <a:off x="5486400" y="3228840"/>
              <a:ext cx="1905120" cy="9003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6100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476080" y="2055240"/>
            <a:ext cx="1338840" cy="1258200"/>
            <a:chOff x="2476080" y="2055240"/>
            <a:chExt cx="1338840" cy="1258200"/>
          </a:xfrm>
        </p:grpSpPr>
        <p:sp>
          <p:nvSpPr>
            <p:cNvPr id="52" name=""/>
            <p:cNvSpPr/>
            <p:nvPr/>
          </p:nvSpPr>
          <p:spPr>
            <a:xfrm flipH="1">
              <a:off x="2514240" y="2314440"/>
              <a:ext cx="106668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187400">
              <a:off x="2514240" y="2393640"/>
              <a:ext cx="126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cie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34120" y="2206800"/>
            <a:ext cx="1267920" cy="1048320"/>
            <a:chOff x="5334120" y="2206800"/>
            <a:chExt cx="1267920" cy="1048320"/>
          </a:xfrm>
        </p:grpSpPr>
        <p:sp>
          <p:nvSpPr>
            <p:cNvPr id="55" name=""/>
            <p:cNvSpPr/>
            <p:nvPr/>
          </p:nvSpPr>
          <p:spPr>
            <a:xfrm>
              <a:off x="5334120" y="2314440"/>
              <a:ext cx="11491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209200">
              <a:off x="5331960" y="2562120"/>
              <a:ext cx="129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Paramet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581280" y="3548160"/>
            <a:ext cx="1905120" cy="581040"/>
            <a:chOff x="3581280" y="3548160"/>
            <a:chExt cx="1905120" cy="581040"/>
          </a:xfrm>
        </p:grpSpPr>
        <p:sp>
          <p:nvSpPr>
            <p:cNvPr id="58" name=""/>
            <p:cNvSpPr/>
            <p:nvPr/>
          </p:nvSpPr>
          <p:spPr>
            <a:xfrm flipH="1">
              <a:off x="3581280" y="3838680"/>
              <a:ext cx="19051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600">
              <a:off x="3833280" y="3548160"/>
              <a:ext cx="14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Zabezpečenie monitoring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882880" y="3430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Bud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8000" y="1395360"/>
            <a:ext cx="3405240" cy="4911120"/>
            <a:chOff x="3078000" y="1395360"/>
            <a:chExt cx="3405240" cy="4911120"/>
          </a:xfrm>
        </p:grpSpPr>
        <p:grpSp>
          <p:nvGrpSpPr>
            <p:cNvPr id="62" name=""/>
            <p:cNvGrpSpPr/>
            <p:nvPr/>
          </p:nvGrpSpPr>
          <p:grpSpPr>
            <a:xfrm>
              <a:off x="3429000" y="1395360"/>
              <a:ext cx="1981080" cy="919080"/>
              <a:chOff x="3429000" y="1395360"/>
              <a:chExt cx="1981080" cy="919080"/>
            </a:xfrm>
          </p:grpSpPr>
          <p:sp>
            <p:nvSpPr>
              <p:cNvPr id="63" name=""/>
              <p:cNvSpPr/>
              <p:nvPr/>
            </p:nvSpPr>
            <p:spPr>
              <a:xfrm>
                <a:off x="3505320" y="1395360"/>
                <a:ext cx="1904760" cy="919080"/>
              </a:xfrm>
              <a:prstGeom prst="flowChartAlternateProcess">
                <a:avLst/>
              </a:prstGeom>
              <a:solidFill>
                <a:srgbClr val="339966">
                  <a:alpha val="50000"/>
                </a:srgbClr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1685880"/>
                <a:ext cx="1981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000000"/>
                    </a:solidFill>
                    <a:latin typeface="Arial"/>
                  </a:rPr>
                  <a:t>Definovanie PSZ*  biotop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078000" y="5969160"/>
              <a:ext cx="340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000000"/>
                  </a:solidFill>
                  <a:latin typeface="Arial"/>
                </a:rPr>
                <a:t>*PSZ – priaznivý stav zachova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63560" y="3475080"/>
            <a:ext cx="1904760" cy="900000"/>
            <a:chOff x="1663560" y="3475080"/>
            <a:chExt cx="1904760" cy="900000"/>
          </a:xfrm>
        </p:grpSpPr>
        <p:sp>
          <p:nvSpPr>
            <p:cNvPr id="67" name=""/>
            <p:cNvSpPr/>
            <p:nvPr/>
          </p:nvSpPr>
          <p:spPr>
            <a:xfrm>
              <a:off x="166356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15840" y="3703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Realizáci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473800" y="3475080"/>
            <a:ext cx="1904760" cy="900000"/>
            <a:chOff x="5473800" y="3475080"/>
            <a:chExt cx="1904760" cy="900000"/>
          </a:xfrm>
        </p:grpSpPr>
        <p:sp>
          <p:nvSpPr>
            <p:cNvPr id="70" name=""/>
            <p:cNvSpPr/>
            <p:nvPr/>
          </p:nvSpPr>
          <p:spPr>
            <a:xfrm>
              <a:off x="547380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49760" y="38559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16400" y="1641600"/>
            <a:ext cx="2057400" cy="919080"/>
            <a:chOff x="3416400" y="1641600"/>
            <a:chExt cx="2057400" cy="919080"/>
          </a:xfrm>
        </p:grpSpPr>
        <p:sp>
          <p:nvSpPr>
            <p:cNvPr id="73" name=""/>
            <p:cNvSpPr/>
            <p:nvPr/>
          </p:nvSpPr>
          <p:spPr>
            <a:xfrm>
              <a:off x="3492720" y="1641600"/>
              <a:ext cx="1904760" cy="91908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16400" y="164160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stavu zachovania biotop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63480" y="2301120"/>
            <a:ext cx="1338480" cy="1258200"/>
            <a:chOff x="2463480" y="2301120"/>
            <a:chExt cx="1338480" cy="1258200"/>
          </a:xfrm>
        </p:grpSpPr>
        <p:sp>
          <p:nvSpPr>
            <p:cNvPr id="76" name=""/>
            <p:cNvSpPr/>
            <p:nvPr/>
          </p:nvSpPr>
          <p:spPr>
            <a:xfrm flipH="1">
              <a:off x="2502000" y="2560680"/>
              <a:ext cx="10663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187400">
              <a:off x="2501640" y="2639880"/>
              <a:ext cx="126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Informácie o efektiv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882880" y="693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Fung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159600" y="1641600"/>
            <a:ext cx="1600200" cy="914400"/>
            <a:chOff x="6159600" y="1641600"/>
            <a:chExt cx="1600200" cy="914400"/>
          </a:xfrm>
        </p:grpSpPr>
        <p:sp>
          <p:nvSpPr>
            <p:cNvPr id="80" name=""/>
            <p:cNvSpPr/>
            <p:nvPr/>
          </p:nvSpPr>
          <p:spPr>
            <a:xfrm>
              <a:off x="6159600" y="1641600"/>
              <a:ext cx="1587600" cy="9144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59600" y="18064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Správa o stave pre 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63560" y="4375080"/>
            <a:ext cx="5638680" cy="1366920"/>
            <a:chOff x="1663560" y="4375080"/>
            <a:chExt cx="5638680" cy="1366920"/>
          </a:xfrm>
        </p:grpSpPr>
        <p:sp>
          <p:nvSpPr>
            <p:cNvPr id="83" name=""/>
            <p:cNvSpPr/>
            <p:nvPr/>
          </p:nvSpPr>
          <p:spPr>
            <a:xfrm flipV="1">
              <a:off x="6445080" y="4375080"/>
              <a:ext cx="0" cy="617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1640" y="4408560"/>
              <a:ext cx="0" cy="584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63560" y="4992840"/>
              <a:ext cx="5638680" cy="7491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22280" y="5186520"/>
              <a:ext cx="47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N2000 biotop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319720" y="2560680"/>
            <a:ext cx="1150920" cy="914400"/>
            <a:chOff x="5319720" y="2560680"/>
            <a:chExt cx="1150920" cy="914400"/>
          </a:xfrm>
        </p:grpSpPr>
        <p:sp>
          <p:nvSpPr>
            <p:cNvPr id="88" name=""/>
            <p:cNvSpPr/>
            <p:nvPr/>
          </p:nvSpPr>
          <p:spPr>
            <a:xfrm rot="2209200">
              <a:off x="5693760" y="2811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Dá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5319720" y="2560680"/>
              <a:ext cx="104760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397480" y="209700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762120" y="762120"/>
            <a:ext cx="7812000" cy="5159160"/>
            <a:chOff x="762120" y="762120"/>
            <a:chExt cx="7812000" cy="5159160"/>
          </a:xfrm>
        </p:grpSpPr>
        <p:grpSp>
          <p:nvGrpSpPr>
            <p:cNvPr id="92" name=""/>
            <p:cNvGrpSpPr/>
            <p:nvPr/>
          </p:nvGrpSpPr>
          <p:grpSpPr>
            <a:xfrm>
              <a:off x="766440" y="766080"/>
              <a:ext cx="7802640" cy="5150520"/>
              <a:chOff x="766440" y="766080"/>
              <a:chExt cx="7802640" cy="515052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766440" y="766080"/>
                <a:ext cx="1703520" cy="613440"/>
                <a:chOff x="766440" y="766080"/>
                <a:chExt cx="1703520" cy="6134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831600" y="766080"/>
                  <a:ext cx="157284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66440" y="766080"/>
                  <a:ext cx="170352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469960" y="766080"/>
                <a:ext cx="6099120" cy="613440"/>
                <a:chOff x="2469960" y="766080"/>
                <a:chExt cx="6099120" cy="6134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469960" y="766080"/>
                  <a:ext cx="6099120" cy="61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469960" y="766080"/>
                  <a:ext cx="6099120" cy="613440"/>
                  <a:chOff x="2469960" y="766080"/>
                  <a:chExt cx="6099120" cy="6134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535120" y="766080"/>
                    <a:ext cx="5968080" cy="61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ôsob zberu dá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469960" y="766080"/>
                    <a:ext cx="6099120" cy="61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766440" y="1379520"/>
                <a:ext cx="1703520" cy="1041120"/>
                <a:chOff x="766440" y="1379520"/>
                <a:chExt cx="1703520" cy="10411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66440" y="1379520"/>
                  <a:ext cx="1703520" cy="1041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766440" y="1379520"/>
                  <a:ext cx="1703520" cy="1041120"/>
                  <a:chOff x="766440" y="1379520"/>
                  <a:chExt cx="1703520" cy="10411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831600" y="1379520"/>
                    <a:ext cx="1572840" cy="1041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ritériá hodnoten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66440" y="1379520"/>
                    <a:ext cx="170352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2469960" y="1379520"/>
                <a:ext cx="1316160" cy="1041120"/>
                <a:chOff x="2469960" y="1379520"/>
                <a:chExt cx="1316160" cy="1041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469960" y="1379520"/>
                  <a:ext cx="131616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2469960" y="1379520"/>
                  <a:ext cx="1316160" cy="1041120"/>
                  <a:chOff x="2469960" y="1379520"/>
                  <a:chExt cx="1316160" cy="10411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2535120" y="1379520"/>
                    <a:ext cx="118548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zoznam druho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469960" y="1379520"/>
                    <a:ext cx="131616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" name=""/>
              <p:cNvGrpSpPr/>
              <p:nvPr/>
            </p:nvGrpSpPr>
            <p:grpSpPr>
              <a:xfrm>
                <a:off x="3786120" y="1379520"/>
                <a:ext cx="1250640" cy="1041120"/>
                <a:chOff x="3786120" y="1379520"/>
                <a:chExt cx="1250640" cy="1041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786120" y="1379520"/>
                  <a:ext cx="125064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3786120" y="1379520"/>
                  <a:ext cx="1250640" cy="1041120"/>
                  <a:chOff x="3786120" y="1379520"/>
                  <a:chExt cx="1250640" cy="10411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851280" y="1379520"/>
                    <a:ext cx="111996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emi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vant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786120" y="1379520"/>
                    <a:ext cx="125064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" name=""/>
              <p:cNvGrpSpPr/>
              <p:nvPr/>
            </p:nvGrpSpPr>
            <p:grpSpPr>
              <a:xfrm>
                <a:off x="5036760" y="1379520"/>
                <a:ext cx="1097280" cy="1041120"/>
                <a:chOff x="5036760" y="1379520"/>
                <a:chExt cx="1097280" cy="10411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036760" y="1379520"/>
                  <a:ext cx="109728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" name=""/>
                <p:cNvGrpSpPr/>
                <p:nvPr/>
              </p:nvGrpSpPr>
              <p:grpSpPr>
                <a:xfrm>
                  <a:off x="5036760" y="1379520"/>
                  <a:ext cx="1097280" cy="1041120"/>
                  <a:chOff x="5036760" y="1379520"/>
                  <a:chExt cx="1097280" cy="10411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101920" y="1379520"/>
                    <a:ext cx="96660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ezen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036760" y="1379520"/>
                    <a:ext cx="109728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" name=""/>
              <p:cNvGrpSpPr/>
              <p:nvPr/>
            </p:nvGrpSpPr>
            <p:grpSpPr>
              <a:xfrm>
                <a:off x="6134400" y="1379520"/>
                <a:ext cx="1097280" cy="1041120"/>
                <a:chOff x="6134400" y="1379520"/>
                <a:chExt cx="1097280" cy="1041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134400" y="1379520"/>
                  <a:ext cx="109728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6134400" y="1379520"/>
                  <a:ext cx="1097280" cy="1041120"/>
                  <a:chOff x="6134400" y="1379520"/>
                  <a:chExt cx="1097280" cy="104112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6199560" y="1379520"/>
                    <a:ext cx="96624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iomas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6134400" y="1379520"/>
                    <a:ext cx="109728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"/>
              <p:cNvGrpSpPr/>
              <p:nvPr/>
            </p:nvGrpSpPr>
            <p:grpSpPr>
              <a:xfrm>
                <a:off x="7231680" y="1379520"/>
                <a:ext cx="1337400" cy="1041120"/>
                <a:chOff x="7231680" y="1379520"/>
                <a:chExt cx="1337400" cy="10411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231680" y="1379520"/>
                  <a:ext cx="133740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7231680" y="1379520"/>
                  <a:ext cx="1337400" cy="1041120"/>
                  <a:chOff x="7231680" y="1379520"/>
                  <a:chExt cx="1337400" cy="10411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7296840" y="1379520"/>
                    <a:ext cx="120636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ty jedinco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7231680" y="1379520"/>
                    <a:ext cx="133740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"/>
              <p:cNvGrpSpPr/>
              <p:nvPr/>
            </p:nvGrpSpPr>
            <p:grpSpPr>
              <a:xfrm>
                <a:off x="766440" y="2420640"/>
                <a:ext cx="1703520" cy="613440"/>
                <a:chOff x="766440" y="2420640"/>
                <a:chExt cx="1703520" cy="613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66440" y="2420640"/>
                  <a:ext cx="1703520" cy="613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766440" y="2420640"/>
                  <a:ext cx="1703520" cy="613440"/>
                  <a:chOff x="766440" y="2420640"/>
                  <a:chExt cx="1703520" cy="6134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831600" y="2420640"/>
                    <a:ext cx="1572840" cy="613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ocha zber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66440" y="2420640"/>
                    <a:ext cx="1703520" cy="61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2469960" y="2420640"/>
                <a:ext cx="1316160" cy="613440"/>
                <a:chOff x="2469960" y="2420640"/>
                <a:chExt cx="1316160" cy="613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535120" y="2420640"/>
                  <a:ext cx="1185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9960" y="2420640"/>
                  <a:ext cx="131616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786120" y="2420640"/>
                <a:ext cx="1250640" cy="613440"/>
                <a:chOff x="3786120" y="2420640"/>
                <a:chExt cx="1250640" cy="6134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851280" y="2420640"/>
                  <a:ext cx="11199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786120" y="2420640"/>
                  <a:ext cx="125064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036760" y="2420640"/>
                <a:ext cx="1097280" cy="613440"/>
                <a:chOff x="5036760" y="2420640"/>
                <a:chExt cx="1097280" cy="6134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101920" y="2420640"/>
                  <a:ext cx="9666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36760" y="24206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134400" y="2420640"/>
                <a:ext cx="1097280" cy="613440"/>
                <a:chOff x="6134400" y="2420640"/>
                <a:chExt cx="1097280" cy="613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199560" y="2420640"/>
                  <a:ext cx="96624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34400" y="24206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231680" y="2420640"/>
                <a:ext cx="1337400" cy="613440"/>
                <a:chOff x="7231680" y="2420640"/>
                <a:chExt cx="1337400" cy="6134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296840" y="2420640"/>
                  <a:ext cx="12063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231680" y="2420640"/>
                  <a:ext cx="133740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766440" y="3034440"/>
                <a:ext cx="1703520" cy="613800"/>
                <a:chOff x="766440" y="3034440"/>
                <a:chExt cx="1703520" cy="6138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766440" y="3034440"/>
                  <a:ext cx="1703520" cy="6138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766440" y="3034440"/>
                  <a:ext cx="1703520" cy="613800"/>
                  <a:chOff x="766440" y="3034440"/>
                  <a:chExt cx="1703520" cy="61380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831600" y="3034440"/>
                    <a:ext cx="1572840" cy="6138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cnosť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66440" y="3034440"/>
                    <a:ext cx="1703520" cy="61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6" name=""/>
              <p:cNvGrpSpPr/>
              <p:nvPr/>
            </p:nvGrpSpPr>
            <p:grpSpPr>
              <a:xfrm>
                <a:off x="2469960" y="3034440"/>
                <a:ext cx="1316160" cy="613800"/>
                <a:chOff x="2469960" y="3034440"/>
                <a:chExt cx="1316160" cy="6138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535120" y="3034440"/>
                  <a:ext cx="118548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469960" y="3034440"/>
                  <a:ext cx="131616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786120" y="3034440"/>
                <a:ext cx="1250640" cy="613800"/>
                <a:chOff x="3786120" y="3034440"/>
                <a:chExt cx="1250640" cy="6138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851280" y="3034440"/>
                  <a:ext cx="11199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786120" y="3034440"/>
                  <a:ext cx="125064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36760" y="3034440"/>
                <a:ext cx="1097280" cy="613800"/>
                <a:chOff x="5036760" y="3034440"/>
                <a:chExt cx="1097280" cy="6138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101920" y="3034440"/>
                  <a:ext cx="96660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36760" y="3034440"/>
                  <a:ext cx="109728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134400" y="3034440"/>
                <a:ext cx="1097280" cy="613800"/>
                <a:chOff x="6134400" y="3034440"/>
                <a:chExt cx="1097280" cy="6138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199560" y="3034440"/>
                  <a:ext cx="96624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134400" y="3034440"/>
                  <a:ext cx="109728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231680" y="3034440"/>
                <a:ext cx="1337400" cy="613800"/>
                <a:chOff x="7231680" y="3034440"/>
                <a:chExt cx="1337400" cy="6138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296840" y="3034440"/>
                  <a:ext cx="12063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231680" y="3034440"/>
                  <a:ext cx="133740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766440" y="3648240"/>
                <a:ext cx="1703520" cy="613440"/>
                <a:chOff x="766440" y="3648240"/>
                <a:chExt cx="1703520" cy="613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66440" y="3648240"/>
                  <a:ext cx="1703520" cy="613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766440" y="3648240"/>
                  <a:ext cx="1703520" cy="613440"/>
                  <a:chOff x="766440" y="3648240"/>
                  <a:chExt cx="1703520" cy="61344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831600" y="3648240"/>
                    <a:ext cx="1572840" cy="613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esnosť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66440" y="3648240"/>
                    <a:ext cx="1703520" cy="61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2469960" y="3648240"/>
                <a:ext cx="1316160" cy="613440"/>
                <a:chOff x="2469960" y="3648240"/>
                <a:chExt cx="1316160" cy="6134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535120" y="3648240"/>
                  <a:ext cx="1185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469960" y="3648240"/>
                  <a:ext cx="131616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786120" y="3648240"/>
                <a:ext cx="1250640" cy="613440"/>
                <a:chOff x="3786120" y="3648240"/>
                <a:chExt cx="1250640" cy="6134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851280" y="3648240"/>
                  <a:ext cx="11199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786120" y="3648240"/>
                  <a:ext cx="125064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036760" y="3648240"/>
                <a:ext cx="1097280" cy="613440"/>
                <a:chOff x="5036760" y="3648240"/>
                <a:chExt cx="1097280" cy="6134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101920" y="3648240"/>
                  <a:ext cx="9666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36760" y="36482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134400" y="3648240"/>
                <a:ext cx="1097280" cy="613440"/>
                <a:chOff x="6134400" y="3648240"/>
                <a:chExt cx="1097280" cy="6134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199560" y="3648240"/>
                  <a:ext cx="96624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134400" y="36482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31680" y="3648240"/>
                <a:ext cx="1337400" cy="613440"/>
                <a:chOff x="7231680" y="3648240"/>
                <a:chExt cx="1337400" cy="6134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7296840" y="3648240"/>
                  <a:ext cx="12063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31680" y="3648240"/>
                  <a:ext cx="133740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766440" y="4262040"/>
                <a:ext cx="1703520" cy="827280"/>
                <a:chOff x="766440" y="4262040"/>
                <a:chExt cx="1703520" cy="827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66440" y="4262040"/>
                  <a:ext cx="1703520" cy="8272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" name=""/>
                <p:cNvGrpSpPr/>
                <p:nvPr/>
              </p:nvGrpSpPr>
              <p:grpSpPr>
                <a:xfrm>
                  <a:off x="766440" y="4262040"/>
                  <a:ext cx="1703520" cy="827280"/>
                  <a:chOff x="766440" y="4262040"/>
                  <a:chExt cx="1703520" cy="8272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831600" y="4262040"/>
                    <a:ext cx="1572840" cy="8272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ožnosti štat. spracovan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66440" y="4262040"/>
                    <a:ext cx="1703520" cy="82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" name=""/>
              <p:cNvGrpSpPr/>
              <p:nvPr/>
            </p:nvGrpSpPr>
            <p:grpSpPr>
              <a:xfrm>
                <a:off x="2469960" y="4262040"/>
                <a:ext cx="1316160" cy="827280"/>
                <a:chOff x="2469960" y="4262040"/>
                <a:chExt cx="1316160" cy="8272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2535120" y="4262040"/>
                  <a:ext cx="118548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469960" y="4262040"/>
                  <a:ext cx="131616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786120" y="4262040"/>
                <a:ext cx="1250640" cy="827280"/>
                <a:chOff x="3786120" y="4262040"/>
                <a:chExt cx="1250640" cy="8272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851280" y="4262040"/>
                  <a:ext cx="11199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786120" y="4262040"/>
                  <a:ext cx="125064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036760" y="4262040"/>
                <a:ext cx="1097280" cy="827280"/>
                <a:chOff x="5036760" y="4262040"/>
                <a:chExt cx="1097280" cy="827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101920" y="4262040"/>
                  <a:ext cx="96660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036760" y="426204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134400" y="4262040"/>
                <a:ext cx="1097280" cy="827280"/>
                <a:chOff x="6134400" y="4262040"/>
                <a:chExt cx="1097280" cy="827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199560" y="4262040"/>
                  <a:ext cx="96624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134400" y="426204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7231680" y="4262040"/>
                <a:ext cx="1337400" cy="827280"/>
                <a:chOff x="7231680" y="4262040"/>
                <a:chExt cx="1337400" cy="827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296840" y="4262040"/>
                  <a:ext cx="12063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231680" y="4262040"/>
                  <a:ext cx="133740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766440" y="5089320"/>
                <a:ext cx="1703520" cy="827280"/>
                <a:chOff x="766440" y="5089320"/>
                <a:chExt cx="1703520" cy="827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66440" y="5089320"/>
                  <a:ext cx="1703520" cy="8272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766440" y="5089320"/>
                  <a:ext cx="1703520" cy="827280"/>
                  <a:chOff x="766440" y="5089320"/>
                  <a:chExt cx="1703520" cy="8272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831600" y="5089320"/>
                    <a:ext cx="1572840" cy="8272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ožnosť zachytenia artefaktov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66440" y="5089320"/>
                    <a:ext cx="1703520" cy="82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" name=""/>
              <p:cNvGrpSpPr/>
              <p:nvPr/>
            </p:nvGrpSpPr>
            <p:grpSpPr>
              <a:xfrm>
                <a:off x="2469960" y="5089320"/>
                <a:ext cx="1316160" cy="827280"/>
                <a:chOff x="2469960" y="5089320"/>
                <a:chExt cx="1316160" cy="827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535120" y="5089320"/>
                  <a:ext cx="118548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469960" y="5089320"/>
                  <a:ext cx="131616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786120" y="5089320"/>
                <a:ext cx="1250640" cy="827280"/>
                <a:chOff x="3786120" y="5089320"/>
                <a:chExt cx="1250640" cy="8272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851280" y="5089320"/>
                  <a:ext cx="11199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86120" y="5089320"/>
                  <a:ext cx="125064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036760" y="5089320"/>
                <a:ext cx="1097280" cy="827280"/>
                <a:chOff x="5036760" y="5089320"/>
                <a:chExt cx="1097280" cy="8272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101920" y="5089320"/>
                  <a:ext cx="96660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36760" y="508932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134400" y="5089320"/>
                <a:ext cx="1097280" cy="827280"/>
                <a:chOff x="6134400" y="5089320"/>
                <a:chExt cx="1097280" cy="8272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199560" y="5089320"/>
                  <a:ext cx="96624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34400" y="508932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7231680" y="5089320"/>
                <a:ext cx="1337400" cy="827280"/>
                <a:chOff x="7231680" y="5089320"/>
                <a:chExt cx="1337400" cy="8272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296840" y="5089320"/>
                  <a:ext cx="12063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231680" y="5089320"/>
                  <a:ext cx="133740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762120" y="762120"/>
              <a:ext cx="7812000" cy="5159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831960" y="762120"/>
            <a:ext cx="18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é dáta zbierať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86120" y="1379520"/>
            <a:ext cx="1251000" cy="453708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81160" y="1346040"/>
            <a:ext cx="6985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ostavený na báze najväčšieho informačného systému v správe ŠOP/DAPH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apovacie údaje je potrebné spresniť (hranice, homogénnejšie polygó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yužiť údaje, ktoré budú prichádzať s A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nterval monitoringu by mal byť 5-ročný v ÚEV a 10-ročný pre ostatné lok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93400" y="673200"/>
            <a:ext cx="65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o očakávame od monitorovacieho systému pre nelesné biotop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Guziova</cp:lastModifiedBy>
  <dcterms:modified xsi:type="dcterms:W3CDTF">2004-06-14T18:18:38Z</dcterms:modified>
  <cp:revision>41</cp:revision>
  <dc:subject/>
  <dc:title>Prezentace aplikace PowerPoint</dc:title>
</cp:coreProperties>
</file>