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D5E-4028-4B86-8D4B-CD96BBF9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0B4-48E0-493E-81C8-9C79FBBA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E69-B642-4F76-B7F6-991C56E2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1B2-F911-4EB9-9F26-A8E2065F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2C09-EB03-4794-9352-D4963871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A739-D289-4250-B080-F137E59F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502C-A34B-4034-8140-0B08F821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7D04-AFAB-4BD4-BC80-2D509FE4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AD9D-FA3E-4615-ABA9-AC68F8C6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9675-E8E7-4EBC-9FD4-70D37834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566F-DECF-4527-A6ED-0031F3BE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41A-A3E9-4B01-ACA7-40CE582C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0634-C97A-4030-BE2D-C7B7B487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C994-CF18-4B05-A598-85DC3996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B9D6-36C0-48F1-8D03-280FEC2A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4F43-6AE6-480F-B2F7-50196B0A5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4227-8A0C-4EFC-9250-F04495AF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586-6F77-4E92-96E9-3EA82A5A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704-98F8-4BE6-B048-091AE649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880-A1CB-4BE5-9066-16FD6D4F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7E3-7FCF-4C8D-8E42-4280F5A0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8AB-FDEB-42D2-BEF0-F1DFC011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6EA9-4A8E-4632-B251-55F9951C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603-276D-4F88-9992-E9A6D8B3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21337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8380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7fb22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AADF-8FF7-459E-A275-99C18E1EF72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00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00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C33E-4D55-439D-87D7-3F6B2FAFA08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153280" cy="1828800"/>
          </a:xfrm>
          <a:prstGeom prst="rect">
            <a:avLst/>
          </a:prstGeom>
          <a:noFill/>
          <a:ln w="25560">
            <a:solidFill>
              <a:srgbClr val="3366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Kritériá pre hodnotenie stavu zachovalosti</a:t>
            </a:r>
            <a:r>
              <a:rPr b="1" lang="sk-SK" sz="3000" spc="-1" strike="noStrike">
                <a:solidFill>
                  <a:srgbClr val="336600"/>
                </a:solidFill>
                <a:latin typeface="Times New Roman"/>
              </a:rPr>
              <a:t> (CS)</a:t>
            </a:r>
            <a:br>
              <a:rPr sz="3000"/>
            </a:b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(voľne sa vyskytujúcich) populácií</a:t>
            </a:r>
            <a:br>
              <a:rPr sz="3000"/>
            </a:b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anex</a:t>
            </a:r>
            <a:r>
              <a:rPr b="1" lang="sk-SK" sz="3000" spc="-1" strike="noStrike">
                <a:solidFill>
                  <a:srgbClr val="336600"/>
                </a:solidFill>
                <a:latin typeface="Times New Roman"/>
              </a:rPr>
              <a:t>ový</a:t>
            </a:r>
            <a:r>
              <a:rPr b="1" lang="sk-SK" sz="3000" spc="-1" strike="noStrike">
                <a:solidFill>
                  <a:srgbClr val="336600"/>
                </a:solidFill>
                <a:latin typeface="Times New Roman"/>
                <a:ea typeface="Arial"/>
              </a:rPr>
              <a:t>ch druhov rastlín na Slovensku</a:t>
            </a:r>
            <a:br>
              <a:rPr sz="3000"/>
            </a:br>
            <a:r>
              <a:rPr b="1" lang="sk-SK" sz="3000" spc="-1" strike="noStrike">
                <a:solidFill>
                  <a:srgbClr val="336600"/>
                </a:solidFill>
                <a:latin typeface="Times New Roman"/>
              </a:rPr>
              <a:t>z hľadiska ich ochrany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3505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avol Mer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ď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 ml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Iva Hodálov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Ján Šeffer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Rastislav Lasák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Daniel Dít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ě*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Marta Kubandov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*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iera Ferákov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Anna Kubínska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arol Marhold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333300"/>
                </a:solidFill>
                <a:latin typeface="Times New Roman"/>
              </a:rPr>
              <a:t>* BÚ SAV,  ** DAPHNE,  *** ŠOP SR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457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3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Ve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ľ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kos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ť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 areálu druhu na území Slovenska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zdialenos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medzi dvoma najvzdialenejšími slovenskými populáciami anex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druhu 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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 km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i hodnote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í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sa vychádza z údajov t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zv. „refere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éh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zdroj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”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9718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4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Celková kvalita populácií</a:t>
            </a:r>
            <a:r>
              <a:rPr b="1" lang="en-US" sz="3000" spc="-1" strike="noStrike" u="sng">
                <a:solidFill>
                  <a:srgbClr val="993300"/>
                </a:solidFill>
                <a:uFillTx/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581280"/>
            <a:ext cx="85345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6200" indent="-376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celkový stav zachovalosti jednotlivých populácií anex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druhu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na Slovensku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</a:rPr>
              <a:t>výpočet: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1.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dá populácia získa celkové hodnotenie „A“, „B“, „C“ alebo „D“.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2.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„A“ 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=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1, „B“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2, „C“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=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3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,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„D“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4.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3. V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y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íta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sa priemer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y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: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376200" indent="-376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76200"/>
                <a:tab algn="l" pos="1328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ritériá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.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II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1 –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II.4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platia rovnak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ako pre cievnaté rastliny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2a3d7a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Hodnotenie </a:t>
            </a:r>
            <a:r>
              <a:rPr b="1" lang="sk-SK" sz="2200" spc="-1" strike="noStrike">
                <a:solidFill>
                  <a:srgbClr val="2a3d7a"/>
                </a:solidFill>
                <a:latin typeface="Times New Roman"/>
              </a:rPr>
              <a:t>CS</a:t>
            </a:r>
            <a:r>
              <a:rPr b="1" lang="sk-SK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 populácií druhu </a:t>
            </a:r>
            <a:r>
              <a:rPr b="1" i="1" lang="sk-SK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Liparis loeselii</a:t>
            </a:r>
            <a:r>
              <a:rPr b="1" lang="sk-SK" sz="2200" spc="-1" strike="noStrike">
                <a:solidFill>
                  <a:srgbClr val="2a3d7a"/>
                </a:solidFill>
                <a:latin typeface="Times New Roman"/>
              </a:rPr>
              <a:t> na </a:t>
            </a:r>
            <a:r>
              <a:rPr b="1" lang="en-US" sz="2200" spc="-1" strike="noStrike">
                <a:solidFill>
                  <a:srgbClr val="2a3d7a"/>
                </a:solidFill>
                <a:latin typeface="Times New Roman"/>
                <a:ea typeface="Arial"/>
              </a:rPr>
              <a:t>lokalitnej úrovni</a:t>
            </a:r>
            <a:r>
              <a:rPr b="0" lang="en-US" sz="22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920" y="1071720"/>
          <a:ext cx="8610480" cy="571968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1501560"/>
                <a:gridCol w="1698840"/>
                <a:gridCol w="1600200"/>
                <a:gridCol w="304560"/>
                <a:gridCol w="1143000"/>
                <a:gridCol w="304920"/>
              </a:tblGrid>
              <a:tr h="73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ritérium </a:t>
                      </a: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/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é</a:t>
                      </a:r>
                      <a:r>
                        <a:rPr b="0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ria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eľmi dobrý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obrý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evyhovujúci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Plavecký Peter, Hanšpile (Záhorská nížina)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1. Veľkos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ť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plochy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ýskytu [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</a:t>
                      </a:r>
                      <a:r>
                        <a:rPr b="1" lang="es-AR" sz="1400" spc="-1" strike="noStrike" baseline="30000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]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1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00 – 1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1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2.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 jedincov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5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1 – 5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 – 1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3. Vitalita populácie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it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&gt;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0%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p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dných &gt; 25 %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vit. 25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0 %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lodných 10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25 %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vit. &lt; 25 %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lodných &lt; 10 %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 Stav biotopu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1. ve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os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ť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biotopu [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</a:t>
                      </a:r>
                      <a:r>
                        <a:rPr b="1" lang="es-AR" sz="1400" spc="-1" strike="noStrike" baseline="30000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]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10 000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 000 – 10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5 000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4.2.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%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neofytov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</a:t>
                      </a:r>
                      <a:r>
                        <a:rPr b="1" lang="es-AR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4.3. miera zatieneni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20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20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4. nepriaznivé vplyvy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adne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ierne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ita ohrozená z dlhodobého h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diska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zreteľné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ita ohrozená z krátkodobého h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diska (&lt;  3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r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5. Dynamika populácie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rastúca alebo stabilizovaná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nosť klesla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 &lt; 2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nosť klesla</a:t>
                      </a: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 &gt; 25 %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elkové hodnotenie populácie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Hodnotiaca tabu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ľ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ka stavu biotopu cievnatých rastlí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752480"/>
          <a:ext cx="8610840" cy="3364200"/>
        </p:xfrm>
        <a:graphic>
          <a:graphicData uri="http://schemas.openxmlformats.org/drawingml/2006/table">
            <a:tbl>
              <a:tblPr/>
              <a:tblGrid>
                <a:gridCol w="1324080"/>
                <a:gridCol w="485640"/>
                <a:gridCol w="486000"/>
                <a:gridCol w="485640"/>
                <a:gridCol w="486000"/>
                <a:gridCol w="485640"/>
                <a:gridCol w="485640"/>
                <a:gridCol w="486000"/>
                <a:gridCol w="485640"/>
                <a:gridCol w="485640"/>
                <a:gridCol w="486000"/>
                <a:gridCol w="485640"/>
                <a:gridCol w="486000"/>
                <a:gridCol w="485640"/>
                <a:gridCol w="485640"/>
                <a:gridCol w="48600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1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o</a:t>
                      </a: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osti ohodnotenia biotopu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4.1 – I.4.4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6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3e6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 biotopu*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04920" y="518148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* kritéria I.4.1 a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 I.4.4 sú rovnako významné a hodnotenie stavu biotopu nie je závislé od ich poradia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Hodnotiaca tabuľka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CS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populácií anex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druhov cievnatých rastlín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na lokalitnej úrovni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80880" y="1838160"/>
          <a:ext cx="8610840" cy="4181760"/>
        </p:xfrm>
        <a:graphic>
          <a:graphicData uri="http://schemas.openxmlformats.org/drawingml/2006/table">
            <a:tbl>
              <a:tblPr/>
              <a:tblGrid>
                <a:gridCol w="1427400"/>
                <a:gridCol w="318960"/>
                <a:gridCol w="318960"/>
                <a:gridCol w="320760"/>
                <a:gridCol w="319320"/>
                <a:gridCol w="320400"/>
                <a:gridCol w="319320"/>
                <a:gridCol w="320400"/>
                <a:gridCol w="319320"/>
                <a:gridCol w="320760"/>
                <a:gridCol w="318960"/>
                <a:gridCol w="317520"/>
                <a:gridCol w="322200"/>
                <a:gridCol w="317520"/>
                <a:gridCol w="318960"/>
                <a:gridCol w="322200"/>
                <a:gridCol w="319320"/>
                <a:gridCol w="318960"/>
                <a:gridCol w="320760"/>
                <a:gridCol w="318960"/>
                <a:gridCol w="320760"/>
                <a:gridCol w="318960"/>
                <a:gridCol w="47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2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o</a:t>
                      </a: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osti ohodnotenia populácií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.1 – I.5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7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 zachovalosti populácie*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*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457200" y="5638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188040"/>
            <a:ext cx="853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*ak je kritérium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. I.2 hodnotené ako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„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D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, potom sa stav zachovalosti populácioe hodnotí ako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„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D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“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,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                  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bez ohľadu na hodnoty zvyšn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ých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 kritéri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í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  <a:ea typeface="Arial"/>
              </a:rPr>
              <a:t> I.1, I.3, I.4 a I.5</a:t>
            </a:r>
            <a:r>
              <a:rPr b="1" lang="sk-SK" sz="14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685800" y="1143000"/>
          <a:ext cx="7924680" cy="4572000"/>
        </p:xfrm>
        <a:graphic>
          <a:graphicData uri="http://schemas.openxmlformats.org/drawingml/2006/table">
            <a:tbl>
              <a:tblPr/>
              <a:tblGrid>
                <a:gridCol w="1523880"/>
                <a:gridCol w="1371600"/>
                <a:gridCol w="1371600"/>
                <a:gridCol w="1371600"/>
                <a:gridCol w="1282680"/>
                <a:gridCol w="1003320"/>
              </a:tblGrid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ritérium /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eľmi dobrý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obrý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evyhovujúci stav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(druh na Slovensku chýba)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ritéri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1. 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ít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10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3 – 9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 – 2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432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2. Zmeny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v 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te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lokalít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et lokalít rastie alebo je ± stabilný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kles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tu lokalít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 &lt; 10 </a:t>
                      </a: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%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kles po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č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tu lokalít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o &gt; 10</a:t>
                      </a:r>
                      <a:r>
                        <a:rPr b="1" lang="de-DE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%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4320">
                      <a:solidFill>
                        <a:srgbClr val="5b524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5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3. Ve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ľ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os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ť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lovenského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areálu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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m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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250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5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250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1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4. Celková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kvalita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pulácií</a:t>
                      </a:r>
                      <a:r>
                        <a:rPr b="0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lt; 1,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1,5 – 2,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&gt; 2,5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4320">
                      <a:solidFill>
                        <a:srgbClr val="5b5249"/>
                      </a:solidFill>
                    </a:lnR>
                    <a:lnT>
                      <a:noFill/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0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Celkové hodnotenie </a:t>
                      </a: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lovenských </a:t>
                      </a:r>
                      <a:r>
                        <a:rPr b="1" lang="en-US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populácií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04920" y="228600"/>
            <a:ext cx="8610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Hodnotenie </a:t>
            </a:r>
            <a:r>
              <a:rPr b="1" lang="sk-SK" sz="2200" spc="-1" strike="noStrike">
                <a:solidFill>
                  <a:srgbClr val="993300"/>
                </a:solidFill>
                <a:latin typeface="Times New Roman"/>
              </a:rPr>
              <a:t>CS</a:t>
            </a: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 populácií druhu </a:t>
            </a:r>
            <a:r>
              <a:rPr b="1" i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Liparis loeselii</a:t>
            </a: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 </a:t>
            </a:r>
            <a:r>
              <a:rPr b="1" lang="sk-SK" sz="2200" spc="-1" strike="noStrike">
                <a:solidFill>
                  <a:srgbClr val="993300"/>
                </a:solidFill>
                <a:latin typeface="Times New Roman"/>
              </a:rPr>
              <a:t>n</a:t>
            </a:r>
            <a:r>
              <a:rPr b="1" lang="es-AR" sz="2200" spc="-1" strike="noStrike">
                <a:solidFill>
                  <a:srgbClr val="993300"/>
                </a:solidFill>
                <a:latin typeface="Times New Roman"/>
                <a:ea typeface="Arial"/>
              </a:rPr>
              <a:t>a</a:t>
            </a:r>
            <a:r>
              <a:rPr b="1" lang="sk-SK" sz="2200" spc="-1" strike="noStrike">
                <a:solidFill>
                  <a:srgbClr val="993300"/>
                </a:solidFill>
                <a:latin typeface="Times New Roman"/>
              </a:rPr>
              <a:t> národnej úrovni</a:t>
            </a:r>
            <a:endParaRPr b="0" lang="en-US" sz="2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Hodnotiaca tabu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ľ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ka stavu zachovalosti populácií anexových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 druhov cievnatých rastlín a machorastov na lokalitnej úrovni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981080"/>
          <a:ext cx="7848360" cy="4191120"/>
        </p:xfrm>
        <a:graphic>
          <a:graphicData uri="http://schemas.openxmlformats.org/drawingml/2006/table">
            <a:tbl>
              <a:tblPr/>
              <a:tblGrid>
                <a:gridCol w="2174760"/>
                <a:gridCol w="403200"/>
                <a:gridCol w="352440"/>
                <a:gridCol w="350640"/>
                <a:gridCol w="35100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49200"/>
                <a:gridCol w="352440"/>
                <a:gridCol w="350640"/>
                <a:gridCol w="352440"/>
                <a:gridCol w="351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Mo</a:t>
                      </a: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ž</a:t>
                      </a: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nosti ohodnotenia súboru populácií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6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Hodnotenie kritéria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II.1 – II.4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Stav zachovalosti populácií</a:t>
                      </a:r>
                      <a:r>
                        <a:rPr b="0" lang="en-US" sz="1800" spc="-1" strike="noStrike">
                          <a:solidFill>
                            <a:srgbClr val="333300"/>
                          </a:solidFill>
                          <a:latin typeface="Times New Roman"/>
                          <a:ea typeface="Arial"/>
                        </a:rPr>
                        <a:t> (Conservation Status) 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514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6360" indent="0">
              <a:spcBef>
                <a:spcPts val="15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1200"/>
            </a:b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1. </a:t>
            </a: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Ve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ľ</a:t>
            </a: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kos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ť</a:t>
            </a: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plochy výskytu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4.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Stav biotopu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2. Po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č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et jedincov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5.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Dynamika populácie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br>
              <a:rPr sz="2400"/>
            </a:b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3. Vitalita populácie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53341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521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45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1.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Po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č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et lokalít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3.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Ve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ľ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kos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ť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 areálu na Slovensk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2.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Zmeny v po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č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te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 lokalít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4.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Celková kvalita populácií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45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993300"/>
                </a:solidFill>
                <a:latin typeface="Times New Roman"/>
                <a:ea typeface="Arial"/>
              </a:rPr>
              <a:t> </a:t>
            </a:r>
            <a:r>
              <a:rPr b="1" lang="sk-SK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90720"/>
            <a:ext cx="8534520" cy="1464480"/>
          </a:xfrm>
          <a:prstGeom prst="rect">
            <a:avLst/>
          </a:prstGeom>
          <a:noFill/>
          <a:ln w="255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I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Kritériá pre hodnotenie 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CS</a:t>
            </a:r>
            <a:r>
              <a:rPr b="1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 populácie anex. 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 druhu na konkrétnej </a:t>
            </a:r>
            <a:r>
              <a:rPr b="1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lokalite</a:t>
            </a:r>
            <a:r>
              <a:rPr b="0" lang="en-US" sz="30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(= kritériá lokalitnej úrovne)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997440"/>
            <a:ext cx="8534520" cy="14644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II. 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993300"/>
                </a:solidFill>
                <a:latin typeface="Times New Roman"/>
                <a:ea typeface="Arial"/>
              </a:rPr>
              <a:t>Kritériá pre hodnotenie 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CS</a:t>
            </a:r>
            <a:r>
              <a:rPr b="1" lang="en-US" sz="3000" spc="-1" strike="noStrike">
                <a:solidFill>
                  <a:srgbClr val="993300"/>
                </a:solidFill>
                <a:latin typeface="Times New Roman"/>
                <a:ea typeface="Arial"/>
              </a:rPr>
              <a:t> populácií anex. druhu na národnej 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úrovni                                    (= </a:t>
            </a:r>
            <a:r>
              <a:rPr b="1" lang="en-US" sz="3000" spc="-1" strike="noStrike">
                <a:solidFill>
                  <a:srgbClr val="993300"/>
                </a:solidFill>
                <a:latin typeface="Times New Roman"/>
                <a:ea typeface="Arial"/>
              </a:rPr>
              <a:t>kritéria národnej úrovne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1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s-AR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e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</a:rPr>
              <a:t>ľ</a:t>
            </a:r>
            <a:r>
              <a:rPr b="1" lang="es-AR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kos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</a:rPr>
              <a:t>ť</a:t>
            </a:r>
            <a:r>
              <a:rPr b="1" lang="es-AR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 plochy výskytu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lochy [ha, m</a:t>
            </a:r>
            <a:r>
              <a:rPr b="0" lang="es-AR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dm</a:t>
            </a:r>
            <a:r>
              <a:rPr b="0" lang="es-AR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], ktorú osíd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uje na lokalite anex. druh v podobe fertilných, sterilných alebo poškodených jedinc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eľ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plochy sa stanoví odhadom a zakreslí do mapy 1: 10 000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ymedzenie lokality!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: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ri epifytických druhoch je to v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plochy, na ktorej sa vyskytujú dreviny (spadnuté alebo stojace, vrátane odumierajúcich) osídlené anex. druhom machorastu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2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Po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</a:rPr>
              <a:t>č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et jedincov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ximálny 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et jedincov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(fertilných, sterilných a poškodených spolu) anex. druhu na lokalite za obdobie 6 rok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presný počet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(do 500 ks)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al.  odhad (väčšie populácie,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 prístupný terén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pokryvnosť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a distribúcia na lokali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3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italita populáci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riemerný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ercentuálny podiel kvitnúcich, resp. plodných jedincov z celkového 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tu jedincov anex. druhu na lokalite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a obdobie 6 rok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i stanovovaní stupnice hodnotenia sa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zohľadňuje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schopnosť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vegetatívneho rozmn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ovania,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ivotný (vývinový) cyklus a pod.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: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kritérium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sa 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nehodnotí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4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Stav biotopu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1. 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e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ľ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kos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ť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 biotopu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locha reálneho výskytu druhu + okolitá plocha s vhodnými stanovištnými podmienkami pre výskyt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anex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druhu 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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ha, m</a:t>
            </a:r>
            <a:r>
              <a:rPr b="0" lang="sk-SK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, dm</a:t>
            </a:r>
            <a:r>
              <a:rPr b="0" lang="sk-SK" sz="2400" spc="-1" strike="noStrike" baseline="30000">
                <a:solidFill>
                  <a:srgbClr val="333300"/>
                </a:solidFill>
                <a:latin typeface="Times New Roman"/>
                <a:ea typeface="Arial"/>
              </a:rPr>
              <a:t>2</a:t>
            </a:r>
            <a:r>
              <a:rPr b="0" lang="sk-SK" sz="2400" spc="-1" strike="noStrike">
                <a:solidFill>
                  <a:srgbClr val="3333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e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s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plochy biotopu sa stanoví odhadom a zakreslí do mapy 1: 10 000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2. </a:t>
            </a:r>
            <a:r>
              <a:rPr b="1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percentuálne zastúpenie neofytov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ercentu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álny podiel pokryvnosti neofytných taxónov z celkovej pokryvnosti taxónov vyskytujúcich sa na ploche biotopu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e 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dú lokalitu sa uvedie zoznam neofytných taxónov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6108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3. 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svetelné pomery</a:t>
            </a:r>
            <a:r>
              <a:rPr b="0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iera zatienenia resp. presvetlenia biotopu krovinami a stromami (v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%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)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4.</a:t>
            </a:r>
            <a:r>
              <a:rPr b="0" lang="es-AR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 </a:t>
            </a:r>
            <a:r>
              <a:rPr b="1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nepriaznivé</a:t>
            </a:r>
            <a:r>
              <a:rPr b="0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 </a:t>
            </a:r>
            <a:r>
              <a:rPr b="1" lang="es-AR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vplyvy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re druh nepriaznivá zmena charakteru biotopu </a:t>
            </a:r>
            <a:r>
              <a:rPr b="0" lang="es-AR" sz="24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prirodzenými procesmi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vysychanie, zarastanie ne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iadúcimi druhmi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alebo </a:t>
            </a:r>
            <a:r>
              <a:rPr b="0" lang="es-AR" sz="24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ľudskými aktivitami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(odvod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ovanie, erózia, eutrofizácia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..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pre 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dú lokalitu sa nepriaznivé vplyvy aj bli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ie charakterizujú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(</a:t>
            </a:r>
            <a:r>
              <a:rPr b="1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4.5. 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k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ľ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ú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</a:rPr>
              <a:t>č</a:t>
            </a:r>
            <a:r>
              <a:rPr b="1" lang="sk-SK" sz="24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ový ekologický faktor</a:t>
            </a:r>
            <a:r>
              <a:rPr b="0" lang="sk-SK" sz="2400" spc="-1" strike="noStrike">
                <a:solidFill>
                  <a:srgbClr val="2a3d7a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biotický faktor nevyhnutný pre výskyt anex. druhu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len pri vybraných druhoch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: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i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Marsilea quadrifoli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kolísanie hladiny vody 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as rok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;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i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Cyclamen fatrense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zastúpenie buka v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E</a:t>
            </a:r>
            <a:r>
              <a:rPr b="1" lang="sk-SK" sz="1800" spc="-1" strike="noStrike" baseline="-25000">
                <a:solidFill>
                  <a:srgbClr val="333300"/>
                </a:solidFill>
                <a:latin typeface="Times New Roman"/>
              </a:rPr>
              <a:t>3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,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resp.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E</a:t>
            </a:r>
            <a:r>
              <a:rPr b="1" lang="sk-SK" sz="1800" spc="-1" strike="noStrike" baseline="-25000">
                <a:solidFill>
                  <a:srgbClr val="333300"/>
                </a:solidFill>
                <a:latin typeface="Times New Roman"/>
              </a:rPr>
              <a:t>2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etá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ži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..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: hodnotia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sa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len kritériá č. 4.1 a 4.4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5.</a:t>
            </a:r>
            <a:r>
              <a:rPr b="1" lang="sk-SK" sz="30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2a3d7a"/>
                </a:solidFill>
                <a:uFillTx/>
                <a:latin typeface="Times New Roman"/>
                <a:ea typeface="Arial"/>
              </a:rPr>
              <a:t>Dynamika populácie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mena v 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etnosti populácie anex. druhu na lokalite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                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a posledných 12 rokov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(resp. od za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tia monitoringu)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zoh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ľ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ad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ov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existenciu prípadných prirodzených výkyvov v 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etnosti </a:t>
            </a:r>
            <a:r>
              <a:rPr b="1" lang="en-US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●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machorast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y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:</a:t>
            </a:r>
            <a:r>
              <a:rPr b="0" lang="es-AR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=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meny v hustote populácie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spcBef>
                <a:spcPts val="60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(pri epifytických druhoch aj zmeny v 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te osídlených  stromov)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76200" indent="0"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1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Po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č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et lokalít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6200" indent="0">
              <a:spcBef>
                <a:spcPts val="700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et lokalít anex. druhu na Slovensku, na ktorých bol za posledných 6 rokov zaznamenaný as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1 jedinec</a:t>
            </a:r>
            <a:r>
              <a:rPr b="0" lang="sk-SK" sz="2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pri hodnotení sa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vychádza z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po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t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u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lokalít v období „referen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ného zdroja”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        (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mal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by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by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ť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starší ako 20 rokov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733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2.</a:t>
            </a:r>
            <a:r>
              <a:rPr b="1" lang="sk-SK" sz="30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Zmeny v po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</a:rPr>
              <a:t>č</a:t>
            </a:r>
            <a:r>
              <a:rPr b="1" lang="sk-SK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te lokalít</a:t>
            </a:r>
            <a:r>
              <a:rPr b="1" lang="en-US" sz="3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495680"/>
            <a:ext cx="8610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= </a:t>
            </a:r>
            <a:r>
              <a:rPr b="1" lang="sk-SK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zmeny v po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te lokalít anex. druhu na Slovensku za posledných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12 rokov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 (resp.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od za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č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atia monitoringu</a:t>
            </a:r>
            <a:r>
              <a:rPr b="0" lang="sk-SK" sz="24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3300"/>
                </a:solidFill>
                <a:latin typeface="Wingdings 3"/>
                <a:ea typeface="Wingdings 3"/>
              </a:rPr>
              <a:t>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p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ri 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hodnotení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sa zohľad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</a:rPr>
              <a:t>ň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uje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endemizmus</a:t>
            </a:r>
            <a:r>
              <a:rPr b="1" lang="sk-SK" sz="1800" spc="-1" strike="noStrike">
                <a:solidFill>
                  <a:srgbClr val="333300"/>
                </a:solidFill>
                <a:latin typeface="Times New Roman"/>
                <a:ea typeface="Arial"/>
              </a:rPr>
              <a:t> a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lokalizácia slovenských populácií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</a:rPr>
              <a:t>       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v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</a:rPr>
              <a:t> </a:t>
            </a:r>
            <a:r>
              <a:rPr b="1" lang="sk-SK" sz="1800" spc="-1" strike="noStrike" u="sng">
                <a:solidFill>
                  <a:srgbClr val="333300"/>
                </a:solidFill>
                <a:uFillTx/>
                <a:latin typeface="Times New Roman"/>
                <a:ea typeface="Arial"/>
              </a:rPr>
              <a:t>rámci areálu druhu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3:42:06Z</dcterms:created>
  <dc:creator>Milan</dc:creator>
  <dc:description/>
  <dc:language>en-US</dc:language>
  <cp:lastModifiedBy>Guziova</cp:lastModifiedBy>
  <dcterms:modified xsi:type="dcterms:W3CDTF">2004-06-15T05:25:46Z</dcterms:modified>
  <cp:revision>15</cp:revision>
  <dc:subject/>
  <dc:title>Kritériá pre hodnotenie stavu zachovalosti (CS)  (voľne sa vyskytujúcich) populácií anexových druhov rastlín na Slovensku z hľadiska ich ochrany</dc:title>
</cp:coreProperties>
</file>