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AD6-8956-4478-97A3-6B78A983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8F7-CAE3-42BC-9D58-5851DE85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321-6733-4D35-98EE-AFE2BD68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069A-AB29-4629-8DED-67F2275D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495-83CF-49A9-A93B-833BF160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4364-163E-49A8-BAF3-79B41BD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607-6E84-4C99-B3A0-579A1782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EE0-315F-4C04-85C1-975B3023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D83-8A8C-4430-8AC8-C1EB9AFE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FDC-AC07-4594-9998-2EC588B9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5AE-168A-48FC-98B0-0A41707B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A4EB-37B4-4B46-BFAD-95755A3B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BFDB-5BCC-492A-9883-3FB10E7281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533520"/>
            <a:ext cx="8458200" cy="8856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FINOVANIE A HODNOTENIE PRIAZNIVÉHO STAVU BIOTOPU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Š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ffer</a:t>
            </a: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, Rastislav Lasák, Ivan Jarolímek, Milan Valachovič, </a:t>
            </a:r>
            <a:br>
              <a:rPr sz="1600"/>
            </a:br>
            <a:r>
              <a:rPr b="1" lang="sk-SK" sz="1600" spc="-1" strike="noStrike">
                <a:solidFill>
                  <a:srgbClr val="ffff00"/>
                </a:solidFill>
                <a:latin typeface="Arial"/>
              </a:rPr>
              <a:t>Viera Stanová, Richard Hrivnák, Marta Kubandov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1040" y="3373560"/>
            <a:ext cx="7162560" cy="1008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ATURA 2000 IN SLOVAKIA – BRIDGING 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HE IMPLEMENTATION PROCES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Working Group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382760"/>
            <a:ext cx="750564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. Areál rozšír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definovane dvomi subkritéri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.1 Zmeny počtu a rozšírenia lokalí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jadrí sa mapovým znázornením priestorového rozmiestnenia lokalít, kde sa zvýraznia lokality zaniknuté, existujúce a nov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.2 Zmeny veľkostí plôch lokalí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jadrí sa v grafe a na ma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687760"/>
            <a:ext cx="84200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ypy diagnostických taxón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SEN (Sin Equa Non) 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ktorých prítomnosť v druhovom zázname je nevyhnutná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Negatívne-diferenciálne 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Prítomnosť týchto taxónov vylučuje identifikáciu daného typu. Daný taxón je bližšie špecifikovaný svojou pokryvnosťo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Edifikáto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s pokryvnosťou 3 (t.j. viac ako 50%).  Typ biotopu je identifikovaný prítomnosťou daného, limitného počtu edifikátor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Indikačn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Taxóny s pokryvnosťou väčšou ako 1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Typ biotopu je identifikovaný prítomnosťou daného, limitného počtu indikačných taxón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Charakteristické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axó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: Zoznam taxónov charakterizujúcich biotop. Na stanovenie typu biotopu je potrebná prítomnosť daného, limitného počtu týchto taxóno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76320"/>
            <a:ext cx="8267760" cy="15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1. Identifikácia biot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ruhový zázn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úpis taxónov s hodnotami pokryvností na lokalite biotopu, pokryvnosť je chápaná v zmysle Tansley-ho škál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1130400"/>
            <a:ext cx="80262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oky identifikácie typu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iotop je identifikovaný z druhového záznamu. Každý druhový záznam je analyzovaný/konfrontovaný oproti diagnóze každého nelesného typu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dentifikovanie typu biotopu prebieha postupne. Pričom postup do ďalšieho kroku je podmienený splnením test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1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SEN taxóny, ich prítomnosť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2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negatívne-diferenciálne taxóny ich neprítomnosť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3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iagnóza typu biotopu obsahuje edifikátory, ich požadovaný, limitný počet je podmienkou pre postup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4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ruhový záznam obsahuje požadovaný limitný počet indikačných taxónov postupuje do ďalšieho krok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est 5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k druhový záznam obsahuje požadovaný limitný počet charakteristických taxónov je to ten ty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976320"/>
            <a:ext cx="767052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Hodnotenie stavu biotopu na lokalitnej úrov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e každý biotop je vytvorená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hodnotiaca tabuľ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s limitnými hodnotami - HTL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pre všetky relevantné kritériá a všetky kategórie (Tab 1). Pre potreby celkového ohodnotenia biotopu na lokalite je nevyhnutné získať syntetickú hodnotu stavu biotopu. Pre tento krok je nevyhnutné zvažovať rôznu váhu jednotlivých hodnotiacich kritérií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áhy určujeme takým spôsobom aby súčet váh všetkých kritérií bol rovný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7432" b="0"/>
          <a:stretch/>
        </p:blipFill>
        <p:spPr>
          <a:xfrm>
            <a:off x="533520" y="3305160"/>
            <a:ext cx="7888320" cy="3292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520" y="121428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LH je podkladom pre zaradenie konkrétneho biotopu na lokalite do kategórií hodnotenia stavu biotopu tzv.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lokalitná tabuľka stavu biotopu - LTSB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Tab 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17991" b="0"/>
          <a:stretch/>
        </p:blipFill>
        <p:spPr>
          <a:xfrm>
            <a:off x="533520" y="2446200"/>
            <a:ext cx="7953120" cy="3535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1227240"/>
            <a:ext cx="750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tegóriám jednotlivých kritérií sa pridelia hodnoty podľa tabuľky kvantifikátorov (Tab. 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0" r="20774" b="0"/>
          <a:stretch/>
        </p:blipFill>
        <p:spPr>
          <a:xfrm>
            <a:off x="533520" y="2028960"/>
            <a:ext cx="7837200" cy="3470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976320"/>
            <a:ext cx="79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ríklad výsledná kombinácia hodnôt jednotlivých kritérií podľa LTSB (Tab. 2) j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PNNPC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B=3; A=4; P=3,5; N=1,5; N=1,5; P=3,5; C=2; A=4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Tieto hodnoty sú násobené váhami uvedenými v HTLH daného biotopu (Tab. 4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10362" b="0"/>
          <a:stretch/>
        </p:blipFill>
        <p:spPr>
          <a:xfrm>
            <a:off x="533520" y="2397240"/>
            <a:ext cx="7759440" cy="3036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543384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a týchto hodnôt je váženým priemerom, čo vyjadruje syntetickú hodnotu stavu biotopu. V našom príklade je to hodnot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,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1222200"/>
            <a:ext cx="81406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anovenie intervalu pre zaradenie syntetickej hodnoty do výslednej kategó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ximálny teoretický počet kombinácií výsledkov LTSB je 6144. Avšak maximálny počet syntetických hodnôt pre jednotlivé tieto kombinácie je podstatne nižší, nakoľko väčšina kombinácií LTSB majú rovnakú syntetickú hodnot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Kombinácia z nášho príkladu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BAPNNPC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=2,95 podobne ako aj ďalších 235 kombinácií (BCPPPNAB=2.95,CAPPPNAA=2.95,CAPPPPAB…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e každý typ biotopu sú vytvorené limity hodnôt pre jednotlivé kategórie. Medián určuje hranicu medzi priaznivým a nepriaznivým stavom a začlenenie do jednotlivých kategórií sa deje rozčlenením rozsahu syntetických hodnôt na štyri rovnaké interva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15747" b="0"/>
          <a:stretch/>
        </p:blipFill>
        <p:spPr>
          <a:xfrm>
            <a:off x="533520" y="1665360"/>
            <a:ext cx="7391160" cy="519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969160" y="420840"/>
            <a:ext cx="317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lkový počet kombinácií: 8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. hodnota: 1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. hodnota: 3.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tmetický priemer: 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án: 2.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čet syntetických hodnôt: 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Určenie 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avu biotopu</a:t>
            </a:r>
            <a:r>
              <a:rPr b="1" i="1" lang="sk-SK" sz="2400" spc="-1" strike="noStrike">
                <a:solidFill>
                  <a:srgbClr val="000000"/>
                </a:solidFill>
                <a:latin typeface="Times New Roman"/>
              </a:rPr>
              <a:t> na loka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3320" y="306360"/>
            <a:ext cx="7675560" cy="2857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8640" y="3327480"/>
            <a:ext cx="825840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Celkový počet kombinácií LTSB: 81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in. hodnota: 1.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ax. hodnota: 3.9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ritmetický priemer: 2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Medián: 2.8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čet jedinečných syntetických hodnôt: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raničné syntetické hodnoty kategórií: D|C = 1.22, C|B = 2.13, B|A = 3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Vážené tak, že krit. Počet charakteristikých taxónov malo váhu 0,92 a ostatné kritériá mali váhu 0,01.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9800" y="831960"/>
            <a:ext cx="8318520" cy="27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efinícia priaznivého stavu biotopu podľa Smernice o biotop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mernica, v článku 1(e), definuje priaznivý stav biotopu (BSP), tak ž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. prirodzený areál rozšírenia a plocha, ktorú pokrýva, sú stabilné alebo rast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i. špecifické štruktúry a funkcie, ktoré sú nevyhnutné pre dlhodobé udržanie biotopu, existujú a je pravdepodobné, že budú naďalej existova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ii. stav zachovania typických druhov biotopu je priaznivý podľa definície v článku 1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9800" y="3575160"/>
            <a:ext cx="7975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lánok 1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Údaje o populácii druhu naznačujú, že sa dlhodobo udržuje ako životaschopný prvok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ho prirodzený areál rozšírenia sa nezmenš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istuje dostatok biotopov na zachovanie jeho populác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3840" y="1193760"/>
            <a:ext cx="7137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odnotenie prebieh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tromi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spôsobm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sumarizáciou lokalít podľa syntetických hodnôt pre každý bio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sumarizáciou lokalít podľa jednotlivých kritéri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zobrazením výskytu a kvality lokalít na m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440" y="1979640"/>
            <a:ext cx="5018040" cy="695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3840" y="2784600"/>
            <a:ext cx="820404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čet lokalít zaradených do kategórií A až D podľa syntetickej kategó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kvantifikátory jednotlivých kategórií podľa tabuľky kvantifikátorov (Tab.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sledná S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ostáva k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tegóriu podľa intervalov. Pre kritéria so štyrmi kategóriami sú hranice jednotlivých kategórií pre sumárne hodnoty nasledovné: A: 4 - 3,25; B: 3,25 - 2,5; C: 2,5 - 1,75; D: 1,75 -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840" y="1162080"/>
            <a:ext cx="7759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marizácia lokalít podľa syntetických hodnôt pre každý biot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árna syntetic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hodnot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SSH) sa vyrá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3840" y="5041800"/>
            <a:ext cx="8437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3840" y="1120680"/>
            <a:ext cx="6464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marizácia lokalít podľa jednotlivých kritéri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márna hodnota pre jednotlivé kritériá (SHK) sa vyrát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938240"/>
            <a:ext cx="4295880" cy="601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2540160"/>
            <a:ext cx="81025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počet lokalít zaradených do kategórií A až D daného krité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A-D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kvantifikátory jednotlivých kategórií podľa tabuľky kvantifikátorov (Tab.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sledná hodnota SHK prideľuje kritériu sumárnu kategóriu podľa intervalov. Pre kritéria so štyrmi kategóriami sú hranice jednotlivých kategórií pre sumárne hodnoty nasledovné: A: 4 - 3,25; B: 3,25 - 2,5; C: 2,5 - 1,75; D: 1,75 - 1. Pre kritériá s dvomi kategóriami je hraničná hodnota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3840" y="1257480"/>
            <a:ext cx="81565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2400" y="49680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odnotenie stavu biotopu na národnej úrov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3840" y="1409760"/>
            <a:ext cx="76834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obrazenie výskytu a kvality lokalít na ma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 mapa stavu existujúcich lokalít biotopov rozlíšených podľa kategórií stavu biotopu na loka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. mapa hodnotiaca zmeny rozšírenia lokalít biotopov za sledované obdo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3. mapa hodnotiaca zmeny veľkostí lokalít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0120" y="704880"/>
            <a:ext cx="8623440" cy="42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"Slovenská cesta" k definovaniu (priaznivého) stavu nelesných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dkladom pre definovanie stavu biotopu sú údaje z mapovania nelesných biotopov, ktoré sa realizuje od roku 1999 a jeho základom bolo mapovanie travinných biotopov. Štruktúra získaných dát je dostatočná na to, aby sme hodnotili biotop podľa kritérií stanovených Smernico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tav biotopu hodnotíme na základe piatich kritéri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orizontálna štruktú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rtikálna štruktú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ľkosť lok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hrozenie lok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0120" y="4886280"/>
            <a:ext cx="811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5. napĺňajú požiadavky pre hodnotenia kritéria (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1., 2., 3. a 4. napĺňajú požiadavky pre hodnotenia kritéria (i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1. napĺňajú požiadavky pre hodnotenia kritéria (iii) Smern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1080" y="620640"/>
            <a:ext cx="87724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238400"/>
            <a:ext cx="79502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. Horizontálna štruktú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vorená dvomi subkritériami, ktoré vychádzajú z definovania zoznamov charakteristických a indikačných taxónov pre každý typ biotopu. Podkladom boli upravené druhové zoznamy z Katalógu biotopov Slovenska (Stanová, Valachovič eds.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222720"/>
            <a:ext cx="76453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.1 Počet charakteristick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sa hodnotí podľa počtu charakteristických taxónov vyskytujúcich sa na lokalite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sah pre hodnotenie je daný limitným (najnižším možným) počtom charakteristických taxónov daného biotopu a maximálnym nájdeným počtom charakteristických taxónov daného biotopu. Rozsah sa delí na štyri kategórie A až D stavu biotopu. Intervaly medzi jednotlivými kategóriami sú definované metódou Equal Interv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227240"/>
            <a:ext cx="797544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.2 Počet indikačn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ritérium sa hodnotí podľa počtu indikačných taxónov vyskytujúcich sa na lokalite biotop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zsah pre hodnotenie je daný limitným (najnižším možným) počtom indikačných taxónov daného biotopu a maximálnym nájdeným počtom indikačných taxónov daného biotopu. Rozsah sa delí na štyri kategórie A až D stavu biotopu. Intervaly medzi jednotlivými kategóriami sú definované metódou Equal Inter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997440"/>
            <a:ext cx="76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tervaly sa stanovujú v nultej fáze hodnotenia stavu biotopu. Je nevyhnutné dodržať zásadu, že rozsah a následne intervaly sa môžu meniť len v prípade, že v tejto fáze nemáme dostatočné informácie o rozšírení biotopu a tým stavoch, ktoré môže nadobúdať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157400"/>
            <a:ext cx="74167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. Vertikálna štruktú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 tvorená štyrmi subkritériami pre jednotlivé vertikálne vrstvy E0-E3. Každá vrstva je vyjadrená percentom pokryvnos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typ biotopu má stanovené limitné hodnoty percenta pokryvností pre všetky relevantné etáže, ktoré daný biotop lokality zaraďujú do dvoch kategorií: stav priaznivý (A,B) alebo nepriaznivý (C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030560"/>
            <a:ext cx="7696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3. Veľkosť lok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e každý typ biotopu sú stanovené limitné hodnoty veľkosti biotopu, ktoré daný biotop lokality zaraďujú do dvoch kategorií: stav priaznivý (A,B) alebo nepriaznivý (C,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976320"/>
            <a:ext cx="796284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4. Ohrozenie lok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hrozenie lokality pozostáva z dvoch subkritéri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4.1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skyt expanzívnych autochtónny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kritérium zahŕňa výskyt expanzívnych taxóno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(ET)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 lokalite. Tento údaj je získavaný z druhového záznamu danej lokality, ktorý je porovnávaný s expanzívnymi taxónmi definovanými pre daný biotop. Pre hodnotenie biotopu je rozhodujúca abundancia expanzívnych taxónov na lokal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632040"/>
            <a:ext cx="796284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biotop, v ktorom výskyt expanzívnych autochtónnych taxónov môže spôsobiť jeho ohrozenie, má stanovené limity abudancie pre všetky štyri kategórie A až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: žiadny expanzívny taxón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E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: aspoň jeden expanzívny taxón s abundanciou 1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: aspoň jeden expanzívny taxón s abundanciou 2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: aspoň jeden expanzívny taxón s abundanciou 3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E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E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420840"/>
            <a:ext cx="4991040" cy="5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kritérií stavu bioto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217520"/>
            <a:ext cx="8165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.2 Výskyt inváznych neofytných taxó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bkritérium zahŕňa výskyt neofytných taxónov na lokalite. Tento údaj je získavaný z druhového záznamu danej lokality, ktorý je porovnávaný so zoznamom inváznych neofytných taxónov. Pre hodnotenie biotopu je rozhodujúci počet a pokryvnosť inváznych neofytných taxónov na lokal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997360"/>
            <a:ext cx="78739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aždý biotop, v ktorom výskyt neofytov môže spôsobiť jeho ohrozenie, má stanovené limity počtu a abudancie neofytných taxónov pre všetky štyri kategórie A až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: žiadny neofytný taxón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: jeden neofytný taxón s abundanciou 1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 1 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: jeden neofytný taxón s abundanciou 2 alebo aspoň dva neofytné taxóny s abundaciou 1 (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 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2 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1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: aspoň jeden neofytný taxón s abundanciou 3 alebo aspoň dva neofytné taxóny s abundaciou 2 (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1 NT: 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3)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2 NT: 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</a:rPr>
              <a:t>N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=2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Guziova</cp:lastModifiedBy>
  <dcterms:modified xsi:type="dcterms:W3CDTF">2004-06-14T18:28:57Z</dcterms:modified>
  <cp:revision>49</cp:revision>
  <dc:subject/>
  <dc:title>Prezentace aplikace PowerPoint</dc:title>
</cp:coreProperties>
</file>