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60D-8F6C-4F66-ADE2-C90527E5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CB1B-5042-4E54-95B6-94AB571B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4D3-5C67-4D73-BBA6-A7D7BC51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6C2-B123-4E25-AB5F-169CDC83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0459-D588-4047-A61B-06692E85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5650-058E-4C12-B0A0-CE366456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31C9-2E4E-411C-B26B-446018F6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1386-E6A4-48EE-985A-393B124A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A7B2-A7B3-4260-A5E5-71F216B3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D3BF-A72E-4DDB-8DBB-99C5A88D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E522-70BB-4C71-82A9-1ACFD12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73C-472A-46E5-8339-04495AB4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A8C0-E7E9-4488-A3A2-1A40F50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3D5E-FCD2-4761-B7F1-9379FB0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0D6C-279E-4F7A-8BD7-7124EC03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ED2B-F592-4640-9657-CCCCF696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A006-700A-437B-87CC-8C7E1A90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BE7-77A2-456A-8DF5-3A977A23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23E-8527-42E7-8EE2-7B7FF9F4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1A6-C321-4A03-80B0-BC3CE6F1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C30-4CF7-4113-A392-8EAF1494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EBC-6455-48AC-A637-448F8829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0AB-4B46-4924-9C8C-2137EC5D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FE9-5CD6-447C-803A-DA938E1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21337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7fb22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73D4-8C16-46F6-ACA3-9A48FFC0318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BE84-C214-4FE6-B618-B61E7C00137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153280" cy="182880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Kritériá pre hodnotenie stavu zachovalosti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 (CS)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(voľne sa vyskytujúcich) populácií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anex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ový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ch druhov rastlín na Slovensku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z hľadiska ich ochrany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avol Mer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ď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 ml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Iva Hodál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Ján Šeffer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Rastislav Lasák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aniel Dít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ě*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Marta Kuband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iera Ferák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Anna Kubínsk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arol Marhol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3300"/>
                </a:solidFill>
                <a:latin typeface="Times New Roman"/>
              </a:rPr>
              <a:t>* BÚ SAV,  ** DAPHNE,  *** ŠOP S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3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ľ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ť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 areálu druhu na území Slovenska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zdialen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medzi dvoma najvzdialenejšími slovenskými populáciami anex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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 km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i hodnot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í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a vychádza z údajov t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v. „refer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éh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zdroj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”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9718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4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Celková kvalita populácií</a:t>
            </a:r>
            <a:r>
              <a:rPr b="1" lang="en-US" sz="3000" spc="-1" strike="noStrike" u="sng">
                <a:solidFill>
                  <a:srgbClr val="993300"/>
                </a:solidFill>
                <a:uFillTx/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581280"/>
            <a:ext cx="85345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celkový stav zachovalosti jednotlivých populácií anex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na Slovensku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výpočet: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1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á populácia získa celkové hodnotenie „A“, „B“, „C“ alebo „D“.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2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„A“ 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1, „B“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2, „C“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3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,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„D“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4.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3. V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y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íta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a priemer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y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ritériá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.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I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1 –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I.4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platia rovnak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ako pre cievnaté rastliny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2a3d7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enie 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í druhu </a:t>
            </a:r>
            <a:r>
              <a:rPr b="1" i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Liparis loeselii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</a:rPr>
              <a:t> na </a:t>
            </a:r>
            <a:r>
              <a:rPr b="1" lang="en-US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lokalitnej úrovni</a:t>
            </a:r>
            <a:r>
              <a:rPr b="0" lang="en-US" sz="22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1071720"/>
          <a:ext cx="8610480" cy="571968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1501560"/>
                <a:gridCol w="1698840"/>
                <a:gridCol w="1600200"/>
                <a:gridCol w="304560"/>
                <a:gridCol w="1143000"/>
                <a:gridCol w="30492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um 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/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é</a:t>
                      </a:r>
                      <a:r>
                        <a:rPr b="0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i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eľmi dobrý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obrý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evyhovujúci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Plavecký Peter, Hanšpile (Záhorská nížina)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1. Veľ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plochy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ýskytu [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</a:t>
                      </a:r>
                      <a:r>
                        <a:rPr b="1" lang="es-AR" sz="1400" spc="-1" strike="noStrike" baseline="30000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]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00 – 1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2.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 jedincov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5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1 – 5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– 1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3. Vitalita populáci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it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&gt;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0%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p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dných &gt; 25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it. 25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0 %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lodných 10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5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it. &lt; 25 %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lodných &lt; 10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 Stav biotopu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1. ve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biotopu [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</a:t>
                      </a:r>
                      <a:r>
                        <a:rPr b="1" lang="es-AR" sz="1400" spc="-1" strike="noStrike" baseline="30000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]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0 000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 000 – 10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5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4.2.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%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neofytov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4.3. miera zatieneni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0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0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4. nepriaznivé vplyvy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adne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ierne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ita ohrozená z dlhodobého h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disk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zreteľné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ita ohrozená z krátkodobého h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diska (&lt;  3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5. Dynamika populácie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astúca alebo stabilizovaná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nosť klesla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lt; 2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nosť klesla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gt; 2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elkové hodnotenie populácie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iaca tabu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ľ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ka stavu biotopu cievnatých rastlí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752480"/>
          <a:ext cx="8610840" cy="3364200"/>
        </p:xfrm>
        <a:graphic>
          <a:graphicData uri="http://schemas.openxmlformats.org/drawingml/2006/table">
            <a:tbl>
              <a:tblPr/>
              <a:tblGrid>
                <a:gridCol w="132408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biotopu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1 – I.4.4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biotopu*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04920" y="518148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* kritéria I.4.1 a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I.4.4 sú rovnako významné a hodnotenie stavu biotopu nie je závislé od ich poradia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iaca tabuľka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í anex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druhov cievnatých rastlín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na lokalitnej úrovni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838160"/>
          <a:ext cx="8610840" cy="4181760"/>
        </p:xfrm>
        <a:graphic>
          <a:graphicData uri="http://schemas.openxmlformats.org/drawingml/2006/table">
            <a:tbl>
              <a:tblPr/>
              <a:tblGrid>
                <a:gridCol w="1427400"/>
                <a:gridCol w="318960"/>
                <a:gridCol w="318960"/>
                <a:gridCol w="320760"/>
                <a:gridCol w="319320"/>
                <a:gridCol w="320400"/>
                <a:gridCol w="319320"/>
                <a:gridCol w="320400"/>
                <a:gridCol w="319320"/>
                <a:gridCol w="320760"/>
                <a:gridCol w="318960"/>
                <a:gridCol w="317520"/>
                <a:gridCol w="322200"/>
                <a:gridCol w="317520"/>
                <a:gridCol w="318960"/>
                <a:gridCol w="322200"/>
                <a:gridCol w="319320"/>
                <a:gridCol w="318960"/>
                <a:gridCol w="320760"/>
                <a:gridCol w="318960"/>
                <a:gridCol w="320760"/>
                <a:gridCol w="318960"/>
                <a:gridCol w="47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1 – I.5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zachovalosti populácie*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*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457200" y="5638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188040"/>
            <a:ext cx="853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*ak je kritérium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. I.2 hodnotené ako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„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D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, potom sa stav zachovalosti populácioe hodnotí ako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„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D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                 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bez ohľadu na hodnoty zvyšn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ých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kritéri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í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I.1, I.3, I.4 a I.5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85800" y="1143000"/>
          <a:ext cx="7924680" cy="457200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  <a:gridCol w="1371600"/>
                <a:gridCol w="1371600"/>
                <a:gridCol w="1282680"/>
                <a:gridCol w="100332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um /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eľmi dobrý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obrý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evyhovujúci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(druh na Slovensku chýba)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1. 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ít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3 – 9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– 2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432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2. Zmeny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 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 lokalít rastie alebo je ± stabilný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kles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u 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lt; 10 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%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kles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u 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 &gt; 10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%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432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5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3. Ve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lovenského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reálu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m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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50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5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5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4. Celková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alit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pulácií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,5 – 2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0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elkové hodnotenie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lovenských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pulácií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04920" y="228600"/>
            <a:ext cx="8610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Hodnotenie 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CS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 populácií druhu </a:t>
            </a:r>
            <a:r>
              <a:rPr b="1" i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Liparis loeselii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 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a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 národnej úrovni</a:t>
            </a:r>
            <a:endParaRPr b="0" lang="en-US" sz="2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Hodnotiaca tabu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ľ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ka stavu zachovalosti populácií anexových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druhov cievnatých rastlín a machorastov na lokalitnej úrovni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981080"/>
          <a:ext cx="7848360" cy="4191120"/>
        </p:xfrm>
        <a:graphic>
          <a:graphicData uri="http://schemas.openxmlformats.org/drawingml/2006/table">
            <a:tbl>
              <a:tblPr/>
              <a:tblGrid>
                <a:gridCol w="2174760"/>
                <a:gridCol w="403200"/>
                <a:gridCol w="352440"/>
                <a:gridCol w="350640"/>
                <a:gridCol w="35100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49200"/>
                <a:gridCol w="352440"/>
                <a:gridCol w="350640"/>
                <a:gridCol w="352440"/>
                <a:gridCol w="351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súboru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1 – II.4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zachovalosti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(Conservation Status)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514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6360" indent="0">
              <a:spcBef>
                <a:spcPts val="15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12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1. 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Ve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ľ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kos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ť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plochy výskytu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4.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Stav biotopu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2. Po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et jedincov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5.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Dynamika populácie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3. Vitalita populác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53341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52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1.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Po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et lokalít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3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Ve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ľ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kos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ť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 areálu na Slovensk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2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Zmeny v po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te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lokalít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4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Celková kvalita populácií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90720"/>
            <a:ext cx="8534520" cy="1464480"/>
          </a:xfrm>
          <a:prstGeom prst="rect">
            <a:avLst/>
          </a:prstGeom>
          <a:noFill/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I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Kritériá pre hodnotenie 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e anex. 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 druhu na konkrétnej 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lokalite</a:t>
            </a:r>
            <a:r>
              <a:rPr b="0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(= kritériá lokalitnej úrovne)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997440"/>
            <a:ext cx="8534520" cy="14644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II.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Kritériá pre hodnotenie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CS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 populácií anex. druhu na národnej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úrovni                                    (= 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kritéria národnej úrovne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1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ť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plochy výskytu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lochy [ha, m</a:t>
            </a:r>
            <a:r>
              <a:rPr b="0" lang="es-AR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m</a:t>
            </a:r>
            <a:r>
              <a:rPr b="0" lang="es-AR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], ktorú osí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uje na lokalite anex. druh v podobe fertilných, sterilných alebo poškodených jedinc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e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 sa stanoví odhadom a zakreslí do mapy 1: 10 000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ymedzenie lokality!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i epifytických druhoch je to v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, na ktorej sa vyskytujú dreviny (spadnuté alebo stojace, vrátane odumierajúcich) osídlené anex. druhom machorastu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2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Po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et jedincov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ximálny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 jedinco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fertilných, sterilných a poškodených spolu) anex. druhu na lokalite za obdobie 6 rok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resný počet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(do 500 ks)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al.  odhad (väčšie populácie,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 prístupný terén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pokryvnosť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a distribúcia na lokali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3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italita populáci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iemerný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ercentuálny podiel kvitnúcich, resp. plodných jedincov z celkového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u jedincov anex. druhu na lokalite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a obdobie 6 rok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i stanovovaní stupnice hodnotenia sa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zohľadňuj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chopnos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vegetatívneho rozmn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ovania,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ivotný (vývinový) cyklus a pod.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: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ritérium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sa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nehodnotí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4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Stav biotopu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1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ť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biotopu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locha reálneho výskytu druhu + okolitá plocha s vhodnými stanovištnými podmienkami pre výskyt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anex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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ha, m</a:t>
            </a:r>
            <a:r>
              <a:rPr b="0" lang="sk-SK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m</a:t>
            </a:r>
            <a:r>
              <a:rPr b="0" lang="sk-SK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 biotopu sa stanoví odhadom a zakreslí do mapy 1: 10 000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2.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percentuálne zastúpenie neofyt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ercentu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álny podiel pokryvnosti neofytných taxónov z celkovej pokryvnosti taxónov vyskytujúcich sa na ploche biotopu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e 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ú lokalitu sa uvedie zoznam neofytných taxónov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610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3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svetelné pomery</a:t>
            </a: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iera zatienenia resp. presvetlenia biotopu krovinami a stromami (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%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4.</a:t>
            </a:r>
            <a:r>
              <a:rPr b="0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nepriaznivé</a:t>
            </a:r>
            <a:r>
              <a:rPr b="0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plyv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e druh nepriaznivá zmena charakteru biotopu </a:t>
            </a:r>
            <a:r>
              <a:rPr b="0" lang="es-AR" sz="24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prirodzenými procesmi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ysychanie, zarastanie n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adúcimi druhmi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alebo </a:t>
            </a:r>
            <a:r>
              <a:rPr b="0" lang="es-AR" sz="24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ľudskými aktivitami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odvo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ovanie, erózia, eutrofizáci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.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e 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ú lokalitu sa nepriaznivé vplyvy aj bli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ie charakterizujú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(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5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ú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č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ový ekologický faktor</a:t>
            </a: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biotický faktor nevyhnutný pre výskyt anex. druhu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len pri vybraných druhoch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i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Marsilea quadrifoli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lísanie hladiny vody 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s ro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;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i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Cyclamen fatrens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astúpenie buka v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E</a:t>
            </a:r>
            <a:r>
              <a:rPr b="1" lang="sk-SK" sz="1800" spc="-1" strike="noStrike" baseline="-25000">
                <a:solidFill>
                  <a:srgbClr val="333300"/>
                </a:solidFill>
                <a:latin typeface="Times New Roman"/>
              </a:rPr>
              <a:t>3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,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resp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E</a:t>
            </a:r>
            <a:r>
              <a:rPr b="1" lang="sk-SK" sz="18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et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i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..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 hodnotia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sa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len kritériá č. 4.1 a 4.4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5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Dynamika populáci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a v 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nosti populácie anex. druhu na lokalite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            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a posledných 12 roko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(resp. od za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tia monitoringu)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oh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d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ov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existenciu prípadných prirodzených výkyvov v 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etnosti 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y v hustote populáci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pri epifytických druhoch aj zmeny v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e osídlených  stromov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76200"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1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Po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et lokalít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7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 lokalít anex. druhu na Slovensku, na ktorých bol za posledných 6 rokov zaznamenaný as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1 jedinec</a:t>
            </a:r>
            <a:r>
              <a:rPr b="0" lang="sk-SK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ri hodnotení s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ychádza z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t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u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lokalít v období „refer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ného zdroja”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       (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mal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by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by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starší ako 20 rokov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733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2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Zmeny v po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te lokalít</a:t>
            </a:r>
            <a:r>
              <a:rPr b="1" lang="en-US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495680"/>
            <a:ext cx="8610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y v 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e lokalít anex. druhu na Slovensku za posledných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12 rokov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(resp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od z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tia monitoringu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ri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hodnotení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sa zohľad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uje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endemizmu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a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lokalizácia slovenských populácií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       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v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rámci areálu druhu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3:42:06Z</dcterms:created>
  <dc:creator>Milan</dc:creator>
  <dc:description/>
  <dc:language>en-US</dc:language>
  <cp:lastModifiedBy>Guziova</cp:lastModifiedBy>
  <dcterms:modified xsi:type="dcterms:W3CDTF">2004-06-15T05:25:46Z</dcterms:modified>
  <cp:revision>15</cp:revision>
  <dc:subject/>
  <dc:title>Kritériá pre hodnotenie stavu zachovalosti (CS)  (voľne sa vyskytujúcich) populácií anexových druhov rastlín na Slovensku z hľadiska ich ochrany</dc:title>
</cp:coreProperties>
</file>