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54D-5BB4-4636-8C54-17A64954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515E-9E5D-4CC5-8AB8-9B6731F8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603-EA23-452D-9A3F-6B4A49AD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600-5F0A-48E0-8FF9-8C58E22A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1A2-7543-441C-B0BA-A583D172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B5E2-ECB9-464C-A891-A4F62ADD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F527-0080-4DE0-9F43-AA46A9A9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2B5-F7FC-4F83-A121-99F7678F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E86-B5E4-471A-9183-7D63C3F0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4E46-5BB5-490C-9666-FAF908B7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04D1-6C54-4FE9-9D32-D3D2760B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E6C-27EE-4B4E-ACCC-BCE71FD9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6561-C005-4901-B728-65288F5CA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Ovplyvňovanie integračného procesu do Európskej únie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Natura 2000 - minulosť, súčasnosť a budúcnos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276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va Viestová a kolektív DAPH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APHNE - Inštitút aplikovanej ekoló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_a_logo_f1" descr=""/>
          <p:cNvPicPr/>
          <p:nvPr/>
        </p:nvPicPr>
        <p:blipFill>
          <a:blip r:embed="rId1"/>
          <a:stretch/>
        </p:blipFill>
        <p:spPr>
          <a:xfrm>
            <a:off x="3429000" y="4800600"/>
            <a:ext cx="2133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685800"/>
            <a:ext cx="762012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plyvňovanie integračného proce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WWF Accession Initiative (5 ročný proje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I. začiatok intenzívnej práce pri budovaní sústavy Natura 2000 na Slovens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II. začiatok spolupráce s ďalšími kandidátskymi krajinami na úrovni EÚ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orava10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556272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2280"/>
            <a:ext cx="8686800" cy="58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Harmonogram aktivít pri príprave N2000 (*podpora WWF A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 rok (júl 1999 - jún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prvá informačná konferencia o sústave Natura 2000 na Slovensk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dopĺňanie druhov a biotopov do príloh smerníc - začiatok negociačného proce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začala sa spolupráca s MP SR pri príprave programu SAPARD (agro-environmentálne sché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 rok (júl 2000 - jún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príprava Pozičného dokumentu MVO k procesu rokovaní o vstupe Slovenska do EÚ v oblasti životného prostr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vypracovanie aproximačnej stratégie pre MŽP SR - časť ochrany prírody a kraj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seminár o programe LIFE a príprava podkladov pre vstup SR do programu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projekt PIN MATRA „Budovanie sústavy Natura 2000 na Slovensku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(metodika na identifikáciu území N2000, metodika pre prípravu manažm. plánov, interpretačný manuál pre biotopy, tvorba databázy a GIS, informačné materiály a konferencie, vedecký návrh chránených vtáčích území, atď.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38188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3. rok (júl 2001 - jún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organizovanie 1. Národnej konferencie pre dotknuté subjekty o Natura 2000 - „Natura 2000, ochrana prírody v treťom tisícročí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zvyšovanie povedomia verejnosti o sústave Natura 2000 - preklad, príprava a tlač informačných materiálov o Natura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4. rok (júl 2002 - jún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príprava a zabezpečenie odbornej konferencie o Natura 2000 na Slovensku, odborné práce v skupinách pre biotopy a rastliny, vtáky, živočíchy (november 200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Trilaterálny program starostlivosti &amp; Natura 2000 (5. Trilaterálna konferencia, máj 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informovanie o Natura 2000 v regióne Pomoravia v rámci projektu „Ochrana prírody v prihraničných územiach Natura 2000 v Českej republike a v okolitých krajinách prostredníctvom spolupráce MVO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2280"/>
            <a:ext cx="8534160" cy="45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5. rok (júl 2003 - jún 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semináre pre poľnohospodárov v 5 pilotných oblastiach pre opatrenie č. 6 programu SAPARD (Poľnohospodárske výrobné postupy smerujúce k ochrane životného prostredia a krajiny - tzv. agro-environmentálne schém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spolupráca a podpora MŽP SR a ŠOP SR pri pripomienkovaní a schvaľovaní vládneho materiálu - Národný zoznam navrhovaných území európskeho významu (pSCI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založenie platformy MVO pre ďalší proces implementácie Natura 2000 na Slovens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príprava a publikovanie „tieňového“ zozna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Times New Roman"/>
              </a:rPr>
              <a:t>KONIEC integračného procesu do E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ky 2004 - 2007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kračovanie projektu - WWF S.E.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Proces implementácie Natura 2000 na Slovensku bude pokračovať (na úrovni SR aj na úrovni EÚ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. Zabezpečenie predbežnej ochrany navrhovaných území Natura 2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I. Zabezpečiť finančné prostriedky pre územia Natura 2000 a ochranu prírody na Slovensku a v EÚ (prostredníctvom štrukturálnych fondov a štátnych zdrojo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II. Pripraviť a implementovať metodiku na určenie priaznivého stavu druhov a biotopov (na úrovni SR aj E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V. Pripraviť a zabezpečiť programy starostlivosti pre územia Natura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. Komunikácia s dotknutými subjektami a informovanie o cieľoch a finančných možnostiach pre implementáciu sústavy Natura 2000 na Slovensku a v EÚ, mediálne aktivity o sústave Natura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I. Prepojenie ochrany prírody s poľnohospodárstvom (cez Plán rozvoja vidieka) a inými sektor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13:13:52Z</dcterms:created>
  <dc:creator>Hela</dc:creator>
  <dc:description/>
  <dc:language>en-US</dc:language>
  <cp:lastModifiedBy>zuzka</cp:lastModifiedBy>
  <dcterms:modified xsi:type="dcterms:W3CDTF">2004-06-14T16:42:29Z</dcterms:modified>
  <cp:revision>57</cp:revision>
  <dc:subject/>
  <dc:title>Agri-environmental programmes in Slovakia</dc:title>
</cp:coreProperties>
</file>