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7FB8-E0F2-467C-A1E8-9062F334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E916-9C1D-4B58-8FBE-E22D93C6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F3B8-4D50-433F-AA34-450C64CC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C5D4-CB1F-493B-A6DA-A3F150A95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E1C6-6D2D-48A5-BC81-98AFD971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A630-B76D-439B-8F5E-74CE456E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340C-015E-4D31-94A5-C1EC6453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C6A5-129A-426A-AC3E-38FB7757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D988-7F13-4137-980B-94C6CDFB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F03E-A281-47BA-8DF6-00B6F61A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38FF-FF06-4173-94A8-FF46A164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2DA1-ACEA-4731-8D32-FF721FAA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F897-4337-4029-BB59-7EF4BD21C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erajšie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časné spôsoby mapovania lesných biotopov na Slovensku</a:t>
            </a:r>
            <a:br>
              <a:rPr sz="2000"/>
            </a:b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odnotiaca správa k bodu 3.1 programu aktivít NATURA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 – lesné biotopy)</a:t>
            </a:r>
            <a:br>
              <a:rPr sz="1600"/>
            </a:b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ávu vypracovali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Ing. Š. </a:t>
            </a:r>
            <a:r>
              <a:rPr b="1" i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melko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rSc. (EFRA Zvolen), Ing. I. </a:t>
            </a:r>
            <a:r>
              <a:rPr b="1" i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zman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Lesoprojekt  Zvolen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. P. </a:t>
            </a:r>
            <a:r>
              <a:rPr b="1" i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ák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ŠOP Banská Bystrica), Ing. J. </a:t>
            </a:r>
            <a:r>
              <a:rPr b="1" i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kovič</a:t>
            </a:r>
            <a:r>
              <a:rPr b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Sc. (LVÚ Zvol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sa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huj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arakteristik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istujúcich databáz o lesoch SR vrátane spôsobov ich získav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is metodického postupu spracovania základných údajov o lesných biotopoch pre potreby NATURA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údenie možností využitia existujúcich databáz a náčrt konceptu monitorovania lesných biotopov v rámci NATURA 2000/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467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Koncept monitorovania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0663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v biotop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dnotiť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pridelením kvalitatívnej kategórie (známky) A, B, C, D osobitne pre každé kritérium a indiká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súhrnné zhodnotenie stavu biotopu podľa čiastkových hodnotení jednotlivých kritérií a indikátorov použiť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číselné kvantifikátory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, ktoré zohľadnia rozdielnu váhu kritérií a indikátorov a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výsledný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alitový stavy biotopu A,B,C,D vyjadria jednou číselnou hodnotou  (napr. 87 %), ktorá udá stupeň relatívneho priblíženia sa konkrétneho biotopu k "optimu" (k najpriaznivejšiemu 100 % stav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kový stav biotopu k danému časovému okamžiku charakterizovať jeho výmerou, kvalitovou kategóriou a číselným kvantifkátorom, pri biotopoch zložených z viacerých lokalít alebo častí aj relatívnym zastúpením resp. variabilitou uvedených ukazovateľov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menu stavu biotopu medzi dvomi periodickými zisťovaniami vyjadriť diferenciou uvedených ukazovateľov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 hodnotení stavu biotopu a jeho zmeny uplatniť biometrické princípy monitorovania (zohľadniť vypovedaciu hodnotu – mieru presnosti zistenia charakteristík pre jeden i druhý stav aj pre jeho diferenciu)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á charakteristika existujúcich databáz o lesoc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átane spôsobov  ich získavania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 súčasnosti sú k dispozícii viaceré databázy o lesoch Slovenska, z ktorých pre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čel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u NATURA 2000 má potencionálne najväčší význam nasledovných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äť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podársko-úpravnícke zisťovanie stavu l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sťovania v rámci prieskumov prírodných pomerov – prieskum ekológie l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ing zdravotného stavu lesov SR v sieti 16 x 16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lexnejší monitoring stavu lesov SR v sieti 4 x 4 k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Ďalšie databázy o lesných ekosystémoch – výstupy z vedeckých projekt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 Hospodársko-úpravnícke zisťovanie stav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a</a:t>
            </a:r>
            <a:br>
              <a:rPr sz="2800"/>
            </a:b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najpodrobnejším zisťovaním a vykonáva ho Lesoprojekt na celom lesnom pôdnom fonde SR opakovane v 10-ročných intervaloch (každoročne na 1/10 celkovej výmery) v rámci pravidelných obnov lesných hospodárskych plánov (LH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kladom je rozčlenenie lesa na tzv. JPRL (jednotky priestorového rozdelenia lesa), ktorými sú dielce, čiastkové plochy, porastové skupiny, resp. etáže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(ich celkový počet je cca 400 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 každej z týchto jednotiek sa zisťuje celý rad veličín charakterizujúcich stanovište, celkový stav porastu, jeho  kvalitatívne a kvantitatívne parametre i jeho potencionálne funkcie a na základe komplexného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posúdenia sa odvodzuje plán (predpis) hospodárskych opatrení na najbližšie decén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obitný význam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pre Natura 2000 ma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ú súhrnné výstupy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.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č. už  digitalizované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porastové mapy (v mierke 1:10000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áza LHP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(opis stavu porastov, plán manažmentu).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Times New Roman"/>
              </a:rPr>
              <a:t>Výhody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:     -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acované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sú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nou metodikou pre všetky lesy SR a tvoria dlhod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obý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asový (vývojový) ra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Times New Roman"/>
              </a:rPr>
              <a:t>Nevýhody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: -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PRL sú via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podárskym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o pr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n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ými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kami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íslušné veličiny sú charakterizované prevažne iba priemernou aleb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álnou hodnotou vzťahujúcou sa na celú výmeru danej JPRL, b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robnejšej vnútornej diferenciác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skum ekológie lesa</a:t>
            </a:r>
            <a:br>
              <a:rPr sz="2400"/>
            </a:br>
            <a:r>
              <a:rPr b="1" lang="sk-S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402120" indent="-40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konáva ho Lesoprojekt spravidla v ročnom predstihu pre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novou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Nadväzuje na v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eobecný stanovištný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robný typologický prieskum,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jeho revíziu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 aktualizáci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Realizuje sa zisťovaním množstva údajov ekologického charakteru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 JPRL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, celoplošne alebo výberovo (v sieti 2x2 až 1x1 km alebo zámerným výberom JPRL)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Výsledkom j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- rozdelenie lesa na stanovištné jednotky lesníckej typológie („Zlatníkova škola“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L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– lesný typ, typ pôvodnej prírodnej biogeocenózy a všetkých od nej vývojo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pochádzajúcich (je ich 479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SLT – skupina lesných typov, združuje ekologicky podobné L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HSLT- hospodársky súbor LT, združuje hospodársky podobné LT (187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- mapa lesných typov a mapa pôdnych typov v mierke 1:1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- ekologické hodnotenie JPRL (kategorizácia lesa, stp.poškodenia,stp.ohrozeni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ekologická stabilita ai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- modely hospodárenia v lese (pre skupiny porastových typov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Times New Roman"/>
              </a:rPr>
              <a:t>Výhody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:     - prieskum pokrýva takmer všetky lesy SR,  - typologické mapy sa priebežne digitalizujú, - prirodzenosť TJ a ich jednoznačná väzba k prirodzenému drevinovému zloženiu bez ohľadu na súčasný stav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Times New Roman"/>
              </a:rPr>
              <a:t>Nevýhody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: - hranice JPRL a LT sa vzájomne nekryjú, v jednej JPRL sa často vyskytuje vi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typologických jednotiek (v databáze LHP sa uvádzajú iba 3 najzastúpenejšie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- rel. malá presnosť typologických máp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-nekompatibilita TJ sl.lesníckej typológie a NATURA 2000 (C-M systé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. Monitoring zdravotného stavu lesov SR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 sieti 16 x 16 k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aplikáciou medzinárodného programu hodnotenia vplyvu znečisteného ovzdušia na zdravotný stav lesa (ICP Forests) v podmienkach Slovens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konáva ho LVÚ Zvolen každoročne od roku 198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celom lesnom fonde SR v porastoch starších ako 40 rok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uje sa výberovým spôsobom na 111 trvalých monitorovacích pl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ách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MP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) v odstupoch 16x16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Na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a 40 úrovňových a nadúrovňových stromoch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sa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dnotí depigmentácia a strata asimilačných orgánov (SAO) a zisťujú sa aj ďalšie stromové a porastové veličiny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 5-ročných intervaloch sa odoberajú vzorky asimilačných orgánov a vzorky pôdy na podrobný laboratórny rozbor imisnej záťaž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stupom je databáza o zdravotnom stave lesov, ktorá obsahuje relatívne podiely stromov  (N</a:t>
            </a:r>
            <a:r>
              <a:rPr b="0" lang="sk-SK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) v stupňoch poškodenia 0, 1, 2, 3, 4 a priemernú defoliáciu (SAO%) v členení podľa dreví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 potreby NATURA 2000 majú tieto celoslovenské  výsledky iba informatívny charakter,  pre biotopy väčšej rozlohy môžu  však bodové údaje z  TMP patriacich k danému biotopu poskytnúť veľmi dobrý objektívny podklad  pre odvodenie ich imisn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ého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škodenia.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.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lexnejší monitoring stavu lesov S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 sieti 4 x 4 km</a:t>
            </a:r>
            <a:br>
              <a:rPr sz="2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snahou o podrobnejšie podchytenie stavu lesa priamym zisťovaním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v pravidelných 10 ročných intervalo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vú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tapu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oval Lesoprojekt Zvolen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v r. 1993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1192 TMP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vo všetkých lesoch SR, so zameraním nielen na zdravotný ale  aj na hospodársky stav lesa, potom sa 1/10 siete využívala na každoročný prieskum ekológie l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Druhá etapa sa pripravuje od r. 2004 ako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vý projekt integrovanej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ntarizácie zameranej na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ľmi široké spektrum informácií (o produkcii, vnútornej štruktúre, kvalite, hodnote, regenerácii lesa, o zdravotnom stave, poškodení, ekológii, biodiverzite,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spodáren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dľa princípu trvalo udržateľného rozvoja,  bilanci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hlíkových zásob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v les. ekosystéme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zisťovaného informačného spektra budú zakomponované aj tie kritériá a indikátory, ktoré sú potrebné pre hodnotenie priaznivého stavu chránených území zaradených do sústavy NATURA 2000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. Ďalšie databázy o lesných ekosystémoch – výstupy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 vedeckých projektov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a úrovni celej SR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ú z hľadiska projektu NATURA 2000 zaujímavé najmä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k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lasifikácia lesných plôch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kozmických záznamov Landsat TM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mapa drevinového zloženia lesov v digitálnej form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mapa z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dravotn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ého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stav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lesných porastov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a jeho 10-ročného vývoj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a  regionálnej úrovni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sú to  napr.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e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logická stabilita lesných spoločenstiev Nízkych Tatier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k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plexný výskum horských lesov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h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odnotenie stavu biodiverzity lesných spoločenstiev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v modelový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územiach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dlhodobé v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ýskumy štruktúry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vývoja prírodných lesov a pralesov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p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robné výskumy v CHKO, v BR Poľana,  v TANAPE a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ch výhodou je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ž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ú veľmi podrobné, podchycujú veľký počet veličín charakterizujúc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lexne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äčšinu zložiek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ného ekosystému, vo vzájomný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úvislostiach a v dlhšom časovom sled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ískané sú precíznymi metodickými postupmi, dobre sú zdokumentované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väčša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kované a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merne ľahko dostupné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Metodický postup spracovania základných údajov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lesných biotopoch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 potreby NATURA 2000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od jednotiek lesníckej typológie do jednotiek národnej klasifikácie biotopov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, výstupy: prevodový kľúč (Katalóg biotopov Slovenska, str. 130-172),  potencionálna mapa a databáza lesných biotop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Určenie stupňa prirodzenost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evinového zloženia lesných porastov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pomocou porovnania ich skutočného stavu s „ideálnym modelom porastu“, stupne 1-4 charakterizované prirodzenosťou DZ% a zastúpením hlavných drevín %,                     stp. 4 má obidve kritériá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Vytvorenie modelov prirodzeného drevinového zloženia na báze existujúcich modelov cieľového drevinového zloženia, ktoré sú vypracované pre HSLT v jednotlivých lesných oblasti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Vyčlenenie území európskeho významu, uvažovalo sa iba s porastami so SPDZ 1-3, prioritu mali porasty so SPDZ 1 a so 100% pokryvnosťou bioto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0000"/>
                </a:solidFill>
                <a:uFillTx/>
                <a:latin typeface="Times New Roman"/>
              </a:rPr>
              <a:t>Výhody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:     Pomerne dobré využitie časti existujúcich lesníckych databá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0000"/>
                </a:solidFill>
                <a:uFillTx/>
                <a:latin typeface="Times New Roman"/>
              </a:rPr>
              <a:t>Nevýhody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: Platnosť výstupov obmedzená, iba ako všeobecná a pre celoslovenskú úroveň, riziko možných odchýlok od skutočnosti 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Možnosti využitia existujúcich databáz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áčrt konceptu monitorovania lesných biotopov v rámci NATURA 2000/S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Monitorovanie lesných biotopov obsahuje tri nadväzujúce etap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mapovanie, vymedzenie hraníc bioto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hodnotenie stavu biotopu podľa dohodnutých kritérií a indikátor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porovnávanie zistených stavov biotopu vo zvolených časových intervalo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Potencionálne využitie existujúcich databáz je veľmi veľké, stále sa zdokonaľujú a aktualizujú, digitalizácia informačných vrstiev vrátane leteckých a kozmických obrazových záznamov umožňuje ich vhodné vzájomné prekrývanie a získanie chýbajúcich informácií aj o priestorovom rozmiestnení prvkov vnútornej štruktúry biotop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Koncept monitorovania predpokladá nasledovný metodický postu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mapovanie a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dnotenie realizovať kombinovanou metódou: časť údaj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ziať z  už existujúcich zdrojov a  priamym zisťovaním a meraní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 teréne ich spresniť  a d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oplniť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ame zisťovanie uskutočniť v závislosti od veľkosti biotopu: zaužívaným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upmi (celoplošne, pochôdzkou) alebo vhodným výberovým spôsob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videlne rozmiestnených bodoch, skusných plochách, líniách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, páso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v biotop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dnotiť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jeho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radením do kategórie A, B C, D podľa kritérií a indikátoro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06:58:14Z</dcterms:created>
  <dc:creator>soonyi</dc:creator>
  <dc:description/>
  <dc:language>en-US</dc:language>
  <cp:lastModifiedBy>Guziova</cp:lastModifiedBy>
  <dcterms:modified xsi:type="dcterms:W3CDTF">2004-06-14T19:10:23Z</dcterms:modified>
  <cp:revision>28</cp:revision>
  <dc:subject/>
  <dc:title>Doterajšie a súčasné spôsoby mapovania lesných biotopov na Slovensku (Hodnotiaca správa k bodu 3.1 programu aktivít NATURA 2000 – lesné biotopy)   </dc:title>
</cp:coreProperties>
</file>