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25A-D085-4E21-9F80-4602C870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834-200F-40CB-9459-07A41BBC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C24-A499-4AFB-A1BE-A965DA80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D30-0818-4B01-9411-702C2C08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712-C746-42F4-985B-5BCC7818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191-BB8E-4176-9A67-EB171CEA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9EA-C010-4544-9F9C-FD2648D0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469-3BB7-4B52-9030-5AB1D1BC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A69-829F-40E1-A805-2910DA30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A84-8647-486B-88FA-3B549E3A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79D-8F27-4DB6-B028-F7DE54A7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C5C-6CE0-4914-BA04-37B3B43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7973-31F7-4FE8-9716-B9690971D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Arial"/>
              </a:rPr>
              <a:t>Favourable conservation status</a:t>
            </a:r>
            <a:r>
              <a:rPr b="0" lang="sk-SK" sz="4400" spc="-1" strike="noStrike">
                <a:solidFill>
                  <a:srgbClr val="ffffff"/>
                </a:solidFill>
                <a:latin typeface="Arial"/>
              </a:rPr>
              <a:t> – lesné biot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nícky výskumný ú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o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tátna ochrana prírody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Ďalšie znaky zahrnuté do štruktú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prirodzené zmladenie dreví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nevyhnutná podmienka zachovania biotopov, dá sa zaradiť aj do druhovej štruktúry bioto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hrubé a zvlášť cenné strom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umelo sa dajú udržať aj v intenzívne obhospodarovaných lesoch, preto ich hodnotíme osobit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mŕtve drev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cenné je skôr z hľadiska biodiverzity, v priestorovej  štruktúre má význam len ako estetická zložka porast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lavné problémy definícií štruktú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minimálnych výmer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pre započítanie rastového stupňa, vývojového štádia, stromovej vrstvy...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plošnej hranice medzi prvkom vrstvy a prvkom rovnovekého lesa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(0,30 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minimálneho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zakmenen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prvku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(0,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95640" y="3645000"/>
            <a:ext cx="4752720" cy="1152360"/>
            <a:chOff x="2195640" y="3645000"/>
            <a:chExt cx="4752720" cy="1152360"/>
          </a:xfrm>
        </p:grpSpPr>
        <p:sp>
          <p:nvSpPr>
            <p:cNvPr id="63" name=""/>
            <p:cNvSpPr/>
            <p:nvPr/>
          </p:nvSpPr>
          <p:spPr>
            <a:xfrm>
              <a:off x="2195640" y="3645000"/>
              <a:ext cx="4752720" cy="1152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6240" y="3675240"/>
              <a:ext cx="153360" cy="658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95160" y="4044600"/>
              <a:ext cx="15336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87160" y="4318920"/>
              <a:ext cx="72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74080" y="3703320"/>
              <a:ext cx="153360" cy="955800"/>
              <a:chOff x="2674080" y="3703320"/>
              <a:chExt cx="153360" cy="955800"/>
            </a:xfrm>
          </p:grpSpPr>
          <p:sp>
            <p:nvSpPr>
              <p:cNvPr id="68" name=""/>
              <p:cNvSpPr/>
              <p:nvPr/>
            </p:nvSpPr>
            <p:spPr>
              <a:xfrm>
                <a:off x="267408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75076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565000" y="4516200"/>
              <a:ext cx="7560" cy="9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55120" y="3696480"/>
              <a:ext cx="153360" cy="955800"/>
              <a:chOff x="3255120" y="3696480"/>
              <a:chExt cx="153360" cy="955800"/>
            </a:xfrm>
          </p:grpSpPr>
          <p:sp>
            <p:nvSpPr>
              <p:cNvPr id="72" name=""/>
              <p:cNvSpPr/>
              <p:nvPr/>
            </p:nvSpPr>
            <p:spPr>
              <a:xfrm>
                <a:off x="3255120" y="369648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31800" y="433800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434040" y="3703320"/>
              <a:ext cx="153360" cy="955800"/>
              <a:chOff x="3434040" y="3703320"/>
              <a:chExt cx="153360" cy="955800"/>
            </a:xfrm>
          </p:grpSpPr>
          <p:sp>
            <p:nvSpPr>
              <p:cNvPr id="75" name=""/>
              <p:cNvSpPr/>
              <p:nvPr/>
            </p:nvSpPr>
            <p:spPr>
              <a:xfrm>
                <a:off x="343404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1072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086360" y="3723120"/>
              <a:ext cx="153000" cy="955800"/>
              <a:chOff x="4086360" y="3723120"/>
              <a:chExt cx="153000" cy="955800"/>
            </a:xfrm>
          </p:grpSpPr>
          <p:sp>
            <p:nvSpPr>
              <p:cNvPr id="78" name=""/>
              <p:cNvSpPr/>
              <p:nvPr/>
            </p:nvSpPr>
            <p:spPr>
              <a:xfrm>
                <a:off x="4086360" y="372312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62680" y="43646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888000" y="3709440"/>
              <a:ext cx="153360" cy="955800"/>
              <a:chOff x="3888000" y="3709440"/>
              <a:chExt cx="153360" cy="955800"/>
            </a:xfrm>
          </p:grpSpPr>
          <p:sp>
            <p:nvSpPr>
              <p:cNvPr id="81" name=""/>
              <p:cNvSpPr/>
              <p:nvPr/>
            </p:nvSpPr>
            <p:spPr>
              <a:xfrm>
                <a:off x="3888000" y="370944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4680" y="435096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623040" y="4221720"/>
              <a:ext cx="121680" cy="405720"/>
              <a:chOff x="3623040" y="4221720"/>
              <a:chExt cx="121680" cy="405720"/>
            </a:xfrm>
          </p:grpSpPr>
          <p:sp>
            <p:nvSpPr>
              <p:cNvPr id="84" name=""/>
              <p:cNvSpPr/>
              <p:nvPr/>
            </p:nvSpPr>
            <p:spPr>
              <a:xfrm>
                <a:off x="3623040" y="4221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86760" y="4542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63440" y="4228920"/>
              <a:ext cx="121680" cy="405720"/>
              <a:chOff x="3763440" y="4228920"/>
              <a:chExt cx="121680" cy="405720"/>
            </a:xfrm>
          </p:grpSpPr>
          <p:sp>
            <p:nvSpPr>
              <p:cNvPr id="87" name=""/>
              <p:cNvSpPr/>
              <p:nvPr/>
            </p:nvSpPr>
            <p:spPr>
              <a:xfrm>
                <a:off x="3763440" y="42289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27160" y="45500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360760" y="4274280"/>
              <a:ext cx="121680" cy="405720"/>
              <a:chOff x="5360760" y="4274280"/>
              <a:chExt cx="121680" cy="405720"/>
            </a:xfrm>
          </p:grpSpPr>
          <p:sp>
            <p:nvSpPr>
              <p:cNvPr id="90" name=""/>
              <p:cNvSpPr/>
              <p:nvPr/>
            </p:nvSpPr>
            <p:spPr>
              <a:xfrm>
                <a:off x="536076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2448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207400" y="4310280"/>
              <a:ext cx="121680" cy="366120"/>
              <a:chOff x="5207400" y="4310280"/>
              <a:chExt cx="121680" cy="366120"/>
            </a:xfrm>
          </p:grpSpPr>
          <p:sp>
            <p:nvSpPr>
              <p:cNvPr id="93" name=""/>
              <p:cNvSpPr/>
              <p:nvPr/>
            </p:nvSpPr>
            <p:spPr>
              <a:xfrm>
                <a:off x="5207400" y="431028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1120" y="460008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047920" y="4274280"/>
              <a:ext cx="121680" cy="405720"/>
              <a:chOff x="5047920" y="4274280"/>
              <a:chExt cx="121680" cy="405720"/>
            </a:xfrm>
          </p:grpSpPr>
          <p:sp>
            <p:nvSpPr>
              <p:cNvPr id="96" name=""/>
              <p:cNvSpPr/>
              <p:nvPr/>
            </p:nvSpPr>
            <p:spPr>
              <a:xfrm>
                <a:off x="50479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116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1720" y="4274280"/>
              <a:ext cx="121680" cy="405720"/>
              <a:chOff x="5481720" y="4274280"/>
              <a:chExt cx="121680" cy="405720"/>
            </a:xfrm>
          </p:grpSpPr>
          <p:sp>
            <p:nvSpPr>
              <p:cNvPr id="99" name=""/>
              <p:cNvSpPr/>
              <p:nvPr/>
            </p:nvSpPr>
            <p:spPr>
              <a:xfrm>
                <a:off x="54817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454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896360" y="3762000"/>
              <a:ext cx="153360" cy="955800"/>
              <a:chOff x="4896360" y="3762000"/>
              <a:chExt cx="153360" cy="95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896360" y="376200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73040" y="44035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17120" y="3781800"/>
              <a:ext cx="153000" cy="955800"/>
              <a:chOff x="6117120" y="3781800"/>
              <a:chExt cx="153000" cy="955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117120" y="378180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934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43960" y="3781800"/>
              <a:ext cx="153360" cy="955800"/>
              <a:chOff x="5943960" y="3781800"/>
              <a:chExt cx="153360" cy="95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943960" y="378180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206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84840" y="3787920"/>
              <a:ext cx="153000" cy="955800"/>
              <a:chOff x="5784840" y="3787920"/>
              <a:chExt cx="153000" cy="95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784840" y="3787920"/>
                <a:ext cx="15300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1160" y="44294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618880" y="3767760"/>
              <a:ext cx="153360" cy="955800"/>
              <a:chOff x="5618880" y="3767760"/>
              <a:chExt cx="153360" cy="95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618880" y="376776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95560" y="440928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81520" y="4320720"/>
              <a:ext cx="121680" cy="405720"/>
              <a:chOff x="6581520" y="4320720"/>
              <a:chExt cx="121680" cy="405720"/>
            </a:xfrm>
          </p:grpSpPr>
          <p:sp>
            <p:nvSpPr>
              <p:cNvPr id="117" name=""/>
              <p:cNvSpPr/>
              <p:nvPr/>
            </p:nvSpPr>
            <p:spPr>
              <a:xfrm>
                <a:off x="65815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52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27800" y="4356360"/>
              <a:ext cx="121680" cy="366120"/>
              <a:chOff x="6427800" y="4356360"/>
              <a:chExt cx="121680" cy="366120"/>
            </a:xfrm>
          </p:grpSpPr>
          <p:sp>
            <p:nvSpPr>
              <p:cNvPr id="120" name=""/>
              <p:cNvSpPr/>
              <p:nvPr/>
            </p:nvSpPr>
            <p:spPr>
              <a:xfrm>
                <a:off x="6427800" y="435636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91520" y="464616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68680" y="4320720"/>
              <a:ext cx="121680" cy="405720"/>
              <a:chOff x="6268680" y="4320720"/>
              <a:chExt cx="121680" cy="405720"/>
            </a:xfrm>
          </p:grpSpPr>
          <p:sp>
            <p:nvSpPr>
              <p:cNvPr id="123" name=""/>
              <p:cNvSpPr/>
              <p:nvPr/>
            </p:nvSpPr>
            <p:spPr>
              <a:xfrm>
                <a:off x="626868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240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02120" y="4320720"/>
              <a:ext cx="121680" cy="405720"/>
              <a:chOff x="6702120" y="4320720"/>
              <a:chExt cx="121680" cy="405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7021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658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Definovanie vzťahu medzi množstvom prirodzeného zmladenia a vývojovým štádiom poras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zodpovedajú vývojovým fázam alebo rastovým stupňom jednotlivých porastov a/alebo zmladenie všetkých hlavných drevín pokrýva 61 – 100 % plochy na ktorej by sa malo vyskytova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nie celkom zodpovedajú rastovým stupňom jednotlivých porastov (medzery v zápoji, celkové preriedenie porastov) a/alebo zmladenie všetkých hlavných drevín pokrýva </a:t>
            </a:r>
            <a:r>
              <a:rPr b="0" lang="sk-SK" sz="2000" spc="-1" strike="noStrike">
                <a:solidFill>
                  <a:srgbClr val="ffcc66"/>
                </a:solidFill>
                <a:latin typeface="Arial"/>
              </a:rPr>
              <a:t>11 – 60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% plochy na ktorej by sa malo vyskytovať (vrátane medzier v mladých porasto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nie celkom zodpovedajú rastovým stupňom jednotlivých porastov (medzery v zápoji, celkové preriedenie porastov)  a/alebo zmladenie všetkých hlavných drevín pokrýva </a:t>
            </a:r>
            <a:r>
              <a:rPr b="0" lang="sk-SK" sz="2000" spc="-1" strike="noStrike">
                <a:solidFill>
                  <a:srgbClr val="ffcc66"/>
                </a:solidFill>
                <a:latin typeface="Arial"/>
              </a:rPr>
              <a:t>1 – 10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% plochy na ktorej by sa malo vyskytovať (vrátane medzier v mladých porasto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eexistuje predpoklad pre vznik podmienok pre prirodzené zmladenie (vyskytujú sa iba prestarnuté porasty) alebo podmienky pre prirodzené zmladenie sú, ale dreviny sa z nejakého dôvodu nezmladz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Hrubé a zvlášť cenné str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anovenie minimálnej hrúbky a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absolút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hrúbka (&gt;... cm) vs.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relatív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o generáciu staršie, o ... cm hrubšie ako hlavný por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roblém stanoviť rozumnú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cieľ: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čitý podiel starších stromov aj v maldších rovnovekých porast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Mŕtve dr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anovenie minimálnej hrúbky a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hrúbka musí byť absolú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Negatívne vply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egatívne fak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en ako zoznam, neovplyvnia celkové hodnot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dravotný sta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je výsledkom pôsobenia nepriaznivých faktorov, hodnotí sa nepriamo, na základe viditeľného poškod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širšie priestorové súvisl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ľkosť a izolovanosť lok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ĺžka hranice s „negatívne pôsobiacimi plocham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Zdravotný st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mierne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tredné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rátkodobo 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načné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hodobo 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atálne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toré už spôsobilo odumretie stromov alebo ho s vysokou pravdepodobnosťou spôsobí v časovom horizonte do 10 r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ohľadnenie závažnosti poškod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bjektivita hodnot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rozlišovanie akútneho a chronického poškod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Veľkosť a izolovanosť lok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minimálna výmera súvislej lokality </a:t>
            </a:r>
            <a:r>
              <a:rPr b="1" lang="sk-SK" sz="3200" spc="-1" strike="noStrike">
                <a:solidFill>
                  <a:srgbClr val="333399"/>
                </a:solidFill>
                <a:latin typeface="Arial"/>
              </a:rPr>
              <a:t>alebo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minimálna súhrnná výmera skupiny lokal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nedostatok objektívnych kritérií pre stanovenie vý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klopenosť negatívne pôsobiacimi plochami ako napr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intenzívne obhospodarované poľnohospodárske pozem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tívne povrchové l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širujúce sa kalamitiská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Arial"/>
              </a:rPr>
              <a:t>Nezohľadnenie súvisu medzi veľkosťou lokality a obklopenosťou negatívne pôsobiacimi ploch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dnotiace tabuľky biotop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žadujú si rozdiely medzi lesnými biotopmi samostatné hodnotenie každého z n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čo majú slúžiť tieto tabuľ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o pomôcka pre terénneho pracovní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o pomôcka pre programát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ú byť tieto tabuľky „na čítanie“ alebo majú byť „čo najstručnejšie“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zdiely medzi biotop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ľkoplošné vs. prirodzene maloplošn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určitý problém s porovnávaním kraj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rodzené vs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umel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j medzi lesnými biotopmi sú biotopy, ktoré nie sú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klimax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lošné vs. líniov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dinečné biotopy vs. biotopy príbuzné okolitým biotop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sobitný prípad: </a:t>
            </a: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kosodre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Nečakaný problém: </a:t>
            </a:r>
            <a:br>
              <a:rPr sz="4000"/>
            </a:b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čo patrí do biotop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asto platí: nepriaznivý stav biotopu       = iný bio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dnotené indikátory závisia od hodnotenej plo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iešeni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biotopu nemapuj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úbaniská, kalamitné holiny nad 3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kultúry dreviny XY nad 0,5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 výmera kritérium ?</a:t>
            </a: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200"/>
            </a:b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Naše zaraden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494160"/>
                <a:gridCol w="4735440"/>
              </a:tblGrid>
              <a:tr h="1135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Základná informácia o lesnom biotope na hodnotenom územ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Vým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(plocha biotop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Súčasná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výmera biotopu na hodnotenom území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otenciálna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výmera biotopu  (na základe pokladov lesníckych typologických máp po transformácii jednotiek na biotopové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8642160" cy="6264360"/>
        </p:xfrm>
        <a:graphic>
          <a:graphicData uri="http://schemas.openxmlformats.org/drawingml/2006/table">
            <a:tbl>
              <a:tblPr/>
              <a:tblGrid>
                <a:gridCol w="720720"/>
                <a:gridCol w="1376280"/>
                <a:gridCol w="1636560"/>
                <a:gridCol w="1636920"/>
                <a:gridCol w="1635120"/>
                <a:gridCol w="1636560"/>
              </a:tblGrid>
              <a:tr h="34308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Kritérium / Indiká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aznivý sta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priaznivý st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344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bor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obr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aruše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vyhovujú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4684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ké druhy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ruhové zloženie stromovej vrstv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Quercus petraea agg., Carpinus betulus,  Acer pseudoplatanus, Acer platanoides, Tilia cordata, Tilia platyphylos, Cerasus av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4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Abies alba, Acer pseudoplatanus, Acer platanoides, Tilia cordata, Tilia platyphylos,  Cerasus av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. a 6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, Abies alba,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Picea abies, Acer pseudoplatanus, Acer platanoides, Ulmus glabra, Fraxinus excelsior, Sorbus aucuparia,  Tilia cordata, Tilia platyphy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Miera priblíženia k modelu (%) a výskyt inváznych drev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00 - 85 % na celej ploche biotopu bez výskytu inváznych drevín (nie sú znám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84 - 70 % na celej ploche biotopu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ojedinelý výskyt inváznych drevín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9 -50 % na celej ploche biotopu 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váznych drevín ≤20%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lt; 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0 % na celej ploche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váznych dreví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0%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ylinné druh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 k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orasty bez výskytu inváznych druhov </a:t>
                      </a: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dikátorov eutrofizácie alebo acidifikácie &lt; 5 % (ak vyplýva z mikroreliéfu, aj vi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vázne druhy a indikátory eutrofizácie v zastúpení 5 - 30 % aprítomnosť inváznych druhov 5 - 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vázne druhy a indikátory eutrofizácie v zastúpení 30-80 %, prítomnosť inváznych druhov &lt; 20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ké druhy sú  úplne alebo takmer úplne vytlačené inváznymi druhmi alebo indikátormi eutrof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kátory eutrof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Urtica dioica, Chelidonium majus, Sambucus nig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kátory acidifik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uzula luzuloides, Avenella flexuosa, Vaccinium myrtillus, Luzula sylvatica, acidofilné machy </a:t>
                      </a: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ozn.: dominantný výskyt týchto druhov  mení zaradenie lokality do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89000"/>
          <a:ext cx="8713800" cy="6462720"/>
        </p:xfrm>
        <a:graphic>
          <a:graphicData uri="http://schemas.openxmlformats.org/drawingml/2006/table">
            <a:tbl>
              <a:tblPr/>
              <a:tblGrid>
                <a:gridCol w="865080"/>
                <a:gridCol w="1152360"/>
                <a:gridCol w="1656000"/>
                <a:gridCol w="1942920"/>
                <a:gridCol w="1584360"/>
                <a:gridCol w="1513080"/>
              </a:tblGrid>
              <a:tr h="2156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Štruktúra lesného bioto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eková štruktúra (vývojové štádiá a rastové stupn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aspoň troch ARS, z ktorých aspoň jeden musí byť ≥ hrubá kmeňovina alebo prítomnosť všetkých vývojových štádií prírodných les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aspoň dvoch ARS, z ktorých aspoň jeden musí byť ≥ hrubá kmeňovina alebo prítomnosť 2 vývojových štádií prírodných les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zastúpenie aspoň dvoch ARS, ktoré však nedosahujú dimenzie hrubej kmeňoviny alebo výskyt len jedného ARS, ktorý je ≥ hrubá kmeňov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ítomnosť len jedného ARS, ktorý nedosahuje dimenzie hrubej kmeňovi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rodzené zmladenie drev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estorová štruktúra (vertikálna, horizontálna, štrukturálna mozaikovitosť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dvoj- a viacvrstvovými porastmi (aspoň zo 75%)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mozaikou jednovrstvových porastov, v ktorej súvislá výmera jedného rastového stupňa &lt; 1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dvoj- a viacvrstvovými porastmi (aspoň z 51%)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mozaikou jednovrstvových porastov, v ktorej súvislá výmera jedného rastového stupňa je 1- 5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mozaikou jednovrstvových porastov, v ktorej súvislá výmera jedného rastového stupňa je 5,01 - 50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mozaikou jednovrstvových porastov, v ktorej súvislá výmera aspoň jedného rastového stupňa je &gt; 50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333360"/>
          <a:ext cx="8569080" cy="6335640"/>
        </p:xfrm>
        <a:graphic>
          <a:graphicData uri="http://schemas.openxmlformats.org/drawingml/2006/table">
            <a:tbl>
              <a:tblPr/>
              <a:tblGrid>
                <a:gridCol w="934920"/>
                <a:gridCol w="1144440"/>
                <a:gridCol w="1622520"/>
                <a:gridCol w="1622520"/>
                <a:gridCol w="1622520"/>
                <a:gridCol w="1622160"/>
              </a:tblGrid>
              <a:tr h="649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ívne vply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ívne fak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misie,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nekrózy buka, zver, pastva, (samozasmrečovani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Zdravotný stav (ako výsledok vplyvu negatívnych faktor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,a al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stupňa 4 ≤ 1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 &gt;1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  a al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stupňa 4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10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≤ 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2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alebo výskyt stupňa  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2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Širšie priestorové súvisl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0 ha,  alebo skupina menších lokalít vzdialených  od seba max. 0,5 km o súhrnnej výmere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0 ha, 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nehraničí s negatívne  pôsobiacimi ploch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15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 alebo skupina menších lokalít vzdialených  od seba max. 0,5 km o súhrnnej výmere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30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hraničí s negatívne  pôsobiacimi plochami v rozsahu 25% z celkovej dĺžky jej hranice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5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 alebo skupina menších lokalít vzdialených  od seba max. 0,5 km o súhrnnej výmere 15 ha,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hraničí s negatívne  pôsobiacimi plochami v rozsahu 50 % z celkovej dĺžky jej hranice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lt;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ko 2 ha, a vzdialenosť od susedných lokalít väčšia ako  0,5 km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dĺžka hranice s  negatívne pôsobiacimi plochami presahuje 5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ýsledné hodnotenie 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etóda najslabšieho ohnivka“ vs. „metóda váženého prieme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iešenie: zložitý vážený priemer s variabilnými váhami každého indikátora aj st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áhy zatiaľ nie sú odladené na konkrétnych príklad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476280"/>
          <a:ext cx="8496000" cy="604836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355400"/>
                <a:gridCol w="970200"/>
                <a:gridCol w="971640"/>
                <a:gridCol w="971280"/>
                <a:gridCol w="970200"/>
                <a:gridCol w="971280"/>
              </a:tblGrid>
              <a:tr h="397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riter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áha kritér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k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áha indik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v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=-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6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ické druhy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Z stro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9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yliny a k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6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Štruktúra lesného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ková š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mlad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estorová š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ubé str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ŕtve dre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gatívne vply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dravotný st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ŠP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č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žnosť vzájomnej kompenzácie indikátorov (tlmenie extré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žnosť vzájomnej kompenzácie indikátorov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prehľadnosť algoritmu a ťažká porovnateľnosť s inými kraji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ojité váhy: vlastné váhy a limitné hodnoty indikátora =&gt; neprehľad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ťažké stanovenie a odôvodnenie vá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404640"/>
          <a:ext cx="8496000" cy="6048720"/>
        </p:xfrm>
        <a:graphic>
          <a:graphicData uri="http://schemas.openxmlformats.org/drawingml/2006/table">
            <a:tbl>
              <a:tblPr/>
              <a:tblGrid>
                <a:gridCol w="396720"/>
                <a:gridCol w="3209760"/>
                <a:gridCol w="488952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Kritériá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Indikátory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Typické druhy bioto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Druhové zloženie stromovej vrstvy (miera priblíženia k modelu a výskyt inváznych dreví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Bylinné druhy a k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Štruktúra lesného bioto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Veková štruktúra (vývojové štádiá a rastové stupne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Prirodzené zmladenie dreví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Priestorová štruktúra (vertikálna, horizontálna, štrukturálna mozaikovitosť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Hrubé a zvlášť cenné strom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Hrubé mŕtve dre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ívne vplyv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ívne fakto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Zdravotný stav (ako výsledok vplyvu negatívnych faktor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Širšie priestorové súvisl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iní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utnosť jednoznačne definovať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používané termín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vrstva, rastový stupeň,prirodzené zmladenie a p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kvantifikátory, merné jedno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spôsob zápisu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napr. pomocou matematických symbolov, slovne, pre každý biotop / vybrané biotopy a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evinové zlož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miera priblíženia k modelu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%) pre jednotlivé biotopy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pr. 9410: SM 50–100, JH </a:t>
            </a: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–10, JB </a:t>
            </a: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–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prítomnosť inváznych drev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jmenej kontroverzný indik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statočná predstava o pôvodnom vzhľade väčšiny bioto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eprehľadnosť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labé zdôvodnenie požadovaných mier aproximácie </a:t>
            </a:r>
            <a:r>
              <a:rPr b="0" lang="sk-SK" sz="2400" spc="-1" strike="noStrike">
                <a:solidFill>
                  <a:srgbClr val="333399"/>
                </a:solidFill>
                <a:latin typeface="Arial"/>
              </a:rPr>
              <a:t>(je 30 % veľa a lebo mál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eschopnosť hodnotiť pôvodnosť genofond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linné druhy a k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väčší počet druhov a menej prehľadná situácia v teréne než u drev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únosná náročnosť exaktného zisťo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Rieše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ruhové zloženie bylinnej vrstvy závisí od drevinovej z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ajvýznamnejšie zmeny sa prejavujú nástupom: inváznych alebo expanzívnych druhov, indikátorov acidifikácie, eutrofizácie, ruderálnych druhov a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Bylinné druhy a kry 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výhody a nevýho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dnoduchosť hodno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raznenie najvýznamnejších zm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schopnosť zachytiť zníženie diverzity v prípade, že pôvodné druhy nie sú nahradené inými druh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ubjektivita rozhodnutia o nepôvodnosti určitých druhov (napr. 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Urtica dioic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Štruktúra poras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jednoznačnosť  termínu štruktúra (usporiadanie prvkov alebo vzťahov v rámci akéhokoľvek vyššieho cel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náš prístup: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priestorová štruktúra lesných porastov a ich skupín (rovnovekosť vs. rôznovekosť, mozaikovitosť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jednoznačnosť významu priestorovej štruktúry pre 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estorová štruktúra porastov a / alebo ich skupí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horizontálna štruktúra (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veľkosť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a rozmiestnenie štrukturálnych prvk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vertikálna štruktúra (vrstevnatosť porastov)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≈ funkcia veku stromov =&gt; veková štruktú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99"/>
                </a:solidFill>
                <a:latin typeface="Arial"/>
                <a:ea typeface="Arial"/>
              </a:rPr>
              <a:t>Obe štruktúry spolu úzko súvi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99"/>
                </a:solidFill>
                <a:latin typeface="Arial"/>
                <a:ea typeface="Arial"/>
              </a:rPr>
              <a:t>Výšková rozrôznenosť pôvodných porastov je v hospodárskom lese do istej miery nahradená mozaikou rovnovekých poras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6:23:13Z</dcterms:created>
  <dc:creator>Matej Schwarz</dc:creator>
  <dc:description/>
  <dc:language>en-US</dc:language>
  <cp:lastModifiedBy>Matej Schwarz</cp:lastModifiedBy>
  <dcterms:modified xsi:type="dcterms:W3CDTF">2004-06-14T19:05:16Z</dcterms:modified>
  <cp:revision>54</cp:revision>
  <dc:subject/>
  <dc:title>Zastúpenie jaseňa v lesných porastoch Slovenska</dc:title>
</cp:coreProperties>
</file>