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3D0-66B3-4FFB-A8BE-93D56444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725-BBA5-4260-B006-6BB05EC5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84B-FCA1-4CF7-A4C9-D19BFF1C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F5B-D87C-411A-B362-0B540D23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A09-BE19-45BC-B1FF-1162208F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7CD-8637-4476-8536-2FA4047B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7D7-1911-4CE0-AA2F-AB245C59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D8C-290A-46F6-886D-CB5DD193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876-4F6B-4679-B2BE-009B2471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11D-0170-4D62-B657-B847B25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CBF-86C6-4D66-B03B-554ED7B2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812-C99F-4ADF-9B12-64A01814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6497-EED5-4174-BE9F-6771500AE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avourable conservation statu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– forest 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005360"/>
            <a:ext cx="80647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e Nature Conservan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the Slovak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est research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est managment planing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Other indicators of structure criter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natural regener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principal precondition of forest stand sustainability; possible listing within the forest habitat species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large-diameter and biodiversity valuable tree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(for some type of habitats it is a good indicator of structure, if we do not have other structure indicator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; need to assess them separatel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; biodiversity valuabl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deadwoo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biodiversity valuable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n spatial structure serves only aesthetic purp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Key issues related to structure definition</a:t>
            </a: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minimal limit valu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or the assessment of  growth class, developmental stage, tree layer...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area limi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or the layer unit and even-aged forest unit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(0,30 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tocking lev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the respective unit 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(0,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195640" y="3645000"/>
            <a:ext cx="4752720" cy="1152360"/>
            <a:chOff x="2195640" y="3645000"/>
            <a:chExt cx="4752720" cy="1152360"/>
          </a:xfrm>
        </p:grpSpPr>
        <p:sp>
          <p:nvSpPr>
            <p:cNvPr id="63" name=""/>
            <p:cNvSpPr/>
            <p:nvPr/>
          </p:nvSpPr>
          <p:spPr>
            <a:xfrm>
              <a:off x="2195640" y="3645000"/>
              <a:ext cx="4752720" cy="1152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16240" y="3675240"/>
              <a:ext cx="153360" cy="658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95160" y="4044600"/>
              <a:ext cx="15336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87160" y="4318920"/>
              <a:ext cx="720" cy="32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74080" y="3703320"/>
              <a:ext cx="153360" cy="955800"/>
              <a:chOff x="2674080" y="3703320"/>
              <a:chExt cx="153360" cy="955800"/>
            </a:xfrm>
          </p:grpSpPr>
          <p:sp>
            <p:nvSpPr>
              <p:cNvPr id="68" name=""/>
              <p:cNvSpPr/>
              <p:nvPr/>
            </p:nvSpPr>
            <p:spPr>
              <a:xfrm>
                <a:off x="267408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75076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565000" y="4516200"/>
              <a:ext cx="7560" cy="9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255120" y="3696480"/>
              <a:ext cx="153360" cy="955800"/>
              <a:chOff x="3255120" y="3696480"/>
              <a:chExt cx="153360" cy="955800"/>
            </a:xfrm>
          </p:grpSpPr>
          <p:sp>
            <p:nvSpPr>
              <p:cNvPr id="72" name=""/>
              <p:cNvSpPr/>
              <p:nvPr/>
            </p:nvSpPr>
            <p:spPr>
              <a:xfrm>
                <a:off x="3255120" y="369648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31800" y="433800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434040" y="3703320"/>
              <a:ext cx="153360" cy="955800"/>
              <a:chOff x="3434040" y="3703320"/>
              <a:chExt cx="153360" cy="955800"/>
            </a:xfrm>
          </p:grpSpPr>
          <p:sp>
            <p:nvSpPr>
              <p:cNvPr id="75" name=""/>
              <p:cNvSpPr/>
              <p:nvPr/>
            </p:nvSpPr>
            <p:spPr>
              <a:xfrm>
                <a:off x="343404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1072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086360" y="3723120"/>
              <a:ext cx="153000" cy="955800"/>
              <a:chOff x="4086360" y="3723120"/>
              <a:chExt cx="153000" cy="955800"/>
            </a:xfrm>
          </p:grpSpPr>
          <p:sp>
            <p:nvSpPr>
              <p:cNvPr id="78" name=""/>
              <p:cNvSpPr/>
              <p:nvPr/>
            </p:nvSpPr>
            <p:spPr>
              <a:xfrm>
                <a:off x="4086360" y="372312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62680" y="43646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888000" y="3709440"/>
              <a:ext cx="153360" cy="955800"/>
              <a:chOff x="3888000" y="3709440"/>
              <a:chExt cx="153360" cy="955800"/>
            </a:xfrm>
          </p:grpSpPr>
          <p:sp>
            <p:nvSpPr>
              <p:cNvPr id="81" name=""/>
              <p:cNvSpPr/>
              <p:nvPr/>
            </p:nvSpPr>
            <p:spPr>
              <a:xfrm>
                <a:off x="3888000" y="370944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64680" y="435096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623040" y="4221720"/>
              <a:ext cx="121680" cy="405720"/>
              <a:chOff x="3623040" y="4221720"/>
              <a:chExt cx="121680" cy="405720"/>
            </a:xfrm>
          </p:grpSpPr>
          <p:sp>
            <p:nvSpPr>
              <p:cNvPr id="84" name=""/>
              <p:cNvSpPr/>
              <p:nvPr/>
            </p:nvSpPr>
            <p:spPr>
              <a:xfrm>
                <a:off x="3623040" y="4221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86760" y="4542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763440" y="4228920"/>
              <a:ext cx="121680" cy="405720"/>
              <a:chOff x="3763440" y="4228920"/>
              <a:chExt cx="121680" cy="405720"/>
            </a:xfrm>
          </p:grpSpPr>
          <p:sp>
            <p:nvSpPr>
              <p:cNvPr id="87" name=""/>
              <p:cNvSpPr/>
              <p:nvPr/>
            </p:nvSpPr>
            <p:spPr>
              <a:xfrm>
                <a:off x="3763440" y="42289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27160" y="45500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360760" y="4274280"/>
              <a:ext cx="121680" cy="405720"/>
              <a:chOff x="5360760" y="4274280"/>
              <a:chExt cx="121680" cy="405720"/>
            </a:xfrm>
          </p:grpSpPr>
          <p:sp>
            <p:nvSpPr>
              <p:cNvPr id="90" name=""/>
              <p:cNvSpPr/>
              <p:nvPr/>
            </p:nvSpPr>
            <p:spPr>
              <a:xfrm>
                <a:off x="536076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2448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207400" y="4310280"/>
              <a:ext cx="121680" cy="366120"/>
              <a:chOff x="5207400" y="4310280"/>
              <a:chExt cx="121680" cy="366120"/>
            </a:xfrm>
          </p:grpSpPr>
          <p:sp>
            <p:nvSpPr>
              <p:cNvPr id="93" name=""/>
              <p:cNvSpPr/>
              <p:nvPr/>
            </p:nvSpPr>
            <p:spPr>
              <a:xfrm>
                <a:off x="5207400" y="431028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1120" y="460008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047920" y="4274280"/>
              <a:ext cx="121680" cy="405720"/>
              <a:chOff x="5047920" y="4274280"/>
              <a:chExt cx="121680" cy="405720"/>
            </a:xfrm>
          </p:grpSpPr>
          <p:sp>
            <p:nvSpPr>
              <p:cNvPr id="96" name=""/>
              <p:cNvSpPr/>
              <p:nvPr/>
            </p:nvSpPr>
            <p:spPr>
              <a:xfrm>
                <a:off x="50479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116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1720" y="4274280"/>
              <a:ext cx="121680" cy="405720"/>
              <a:chOff x="5481720" y="4274280"/>
              <a:chExt cx="121680" cy="405720"/>
            </a:xfrm>
          </p:grpSpPr>
          <p:sp>
            <p:nvSpPr>
              <p:cNvPr id="99" name=""/>
              <p:cNvSpPr/>
              <p:nvPr/>
            </p:nvSpPr>
            <p:spPr>
              <a:xfrm>
                <a:off x="54817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454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896360" y="3762000"/>
              <a:ext cx="153360" cy="955800"/>
              <a:chOff x="4896360" y="3762000"/>
              <a:chExt cx="153360" cy="955800"/>
            </a:xfrm>
          </p:grpSpPr>
          <p:sp>
            <p:nvSpPr>
              <p:cNvPr id="102" name=""/>
              <p:cNvSpPr/>
              <p:nvPr/>
            </p:nvSpPr>
            <p:spPr>
              <a:xfrm>
                <a:off x="4896360" y="376200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73040" y="44035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17120" y="3781800"/>
              <a:ext cx="153000" cy="955800"/>
              <a:chOff x="6117120" y="3781800"/>
              <a:chExt cx="153000" cy="955800"/>
            </a:xfrm>
          </p:grpSpPr>
          <p:sp>
            <p:nvSpPr>
              <p:cNvPr id="105" name=""/>
              <p:cNvSpPr/>
              <p:nvPr/>
            </p:nvSpPr>
            <p:spPr>
              <a:xfrm>
                <a:off x="6117120" y="378180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934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943960" y="3781800"/>
              <a:ext cx="153360" cy="955800"/>
              <a:chOff x="5943960" y="3781800"/>
              <a:chExt cx="153360" cy="955800"/>
            </a:xfrm>
          </p:grpSpPr>
          <p:sp>
            <p:nvSpPr>
              <p:cNvPr id="108" name=""/>
              <p:cNvSpPr/>
              <p:nvPr/>
            </p:nvSpPr>
            <p:spPr>
              <a:xfrm>
                <a:off x="5943960" y="378180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206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784840" y="3787920"/>
              <a:ext cx="153000" cy="955800"/>
              <a:chOff x="5784840" y="3787920"/>
              <a:chExt cx="153000" cy="955800"/>
            </a:xfrm>
          </p:grpSpPr>
          <p:sp>
            <p:nvSpPr>
              <p:cNvPr id="111" name=""/>
              <p:cNvSpPr/>
              <p:nvPr/>
            </p:nvSpPr>
            <p:spPr>
              <a:xfrm>
                <a:off x="5784840" y="3787920"/>
                <a:ext cx="15300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1160" y="44294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618880" y="3767760"/>
              <a:ext cx="153360" cy="955800"/>
              <a:chOff x="5618880" y="3767760"/>
              <a:chExt cx="153360" cy="95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5618880" y="376776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95560" y="440928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81520" y="4320720"/>
              <a:ext cx="121680" cy="405720"/>
              <a:chOff x="6581520" y="4320720"/>
              <a:chExt cx="121680" cy="405720"/>
            </a:xfrm>
          </p:grpSpPr>
          <p:sp>
            <p:nvSpPr>
              <p:cNvPr id="117" name=""/>
              <p:cNvSpPr/>
              <p:nvPr/>
            </p:nvSpPr>
            <p:spPr>
              <a:xfrm>
                <a:off x="65815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452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427800" y="4356360"/>
              <a:ext cx="121680" cy="366120"/>
              <a:chOff x="6427800" y="4356360"/>
              <a:chExt cx="121680" cy="366120"/>
            </a:xfrm>
          </p:grpSpPr>
          <p:sp>
            <p:nvSpPr>
              <p:cNvPr id="120" name=""/>
              <p:cNvSpPr/>
              <p:nvPr/>
            </p:nvSpPr>
            <p:spPr>
              <a:xfrm>
                <a:off x="6427800" y="435636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91520" y="464616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68680" y="4320720"/>
              <a:ext cx="121680" cy="405720"/>
              <a:chOff x="6268680" y="4320720"/>
              <a:chExt cx="121680" cy="405720"/>
            </a:xfrm>
          </p:grpSpPr>
          <p:sp>
            <p:nvSpPr>
              <p:cNvPr id="123" name=""/>
              <p:cNvSpPr/>
              <p:nvPr/>
            </p:nvSpPr>
            <p:spPr>
              <a:xfrm>
                <a:off x="626868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240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702120" y="4320720"/>
              <a:ext cx="121680" cy="405720"/>
              <a:chOff x="6702120" y="4320720"/>
              <a:chExt cx="121680" cy="405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7021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658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Relation between natural regeneration and developmental stage of forest 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match the developmental stage of particular forest stand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61 – 100 % of the area expected to be cove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don’t match the developmental stage of particular forest stands completely (gaps in a canopy, lowered density of stands)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11 – 60 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 area expected to be covered (including premature canopy ga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don’t match the developmental stage of particular forest stands completely (gaps in a canopy, lowered density of stands)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1 – 10 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 area expected to be covered (including premature canopy ga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are not expected (site is covered only by overmature stands) or there are conditions for natural regeneration, but for some reason the trees are not fert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Large-diameter and biodiversity valuable trees</a:t>
            </a: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diameter and number of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absolu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ameter (&gt;... cm) vs.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rel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ne generation older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?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m larger than main / final cr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me difficulty: determination of a reasonable value of the above menti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objective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nsure certain proportion of larger trees also in younger even-aged forest st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Dead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diameter, length and number of tr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ameter has to be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ut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Negative infl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negative agents / factor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– list only, no impact on the overall F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forest heal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result of the combined influence of negative factors; indirect assessment based on visible tree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broader environment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ze and isolation / fragmentation of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tal length of border with "negative area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Forest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Mild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no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Medium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short-term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Significant dama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long-term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Fatal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ing in dieback or causing dieback within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ue consideration for damage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ne-side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o distinction between acute and chronic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Size and isolation of the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inimal size of intact site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minimal total area of the sit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Lack of objective criteria for the area qua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Contact with "negative areas"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nsively managed agricultura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ive surface quar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wing areas of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falls and other damaged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gnorance of the interrelation between the site’s size and the length of border with negative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62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Assessment tables of particular habit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it necessary to have a separated table for each particular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is the purpose of the 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ol for field offic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ol for software develop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the requirement for tables to be "readable" or utmost br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fferences between 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-scale vs. small-scale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le problem while compa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ural vs.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eminatur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lso among forest habitats we can find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  <a:ea typeface="Arial"/>
              </a:rPr>
              <a:t>non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  <a:ea typeface="Arial"/>
              </a:rPr>
              <a:t>climax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ones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(for example 91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nar vs. linear habitat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9130 or 91E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que habitats vs. habitats similar to neighbouring one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for example in SR 91MO vs 91G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 case: 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dwarf pine</a:t>
            </a: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(which is non forest habitat, but we assess dwarf pine as forest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Unforeseen problem: 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hat does habitat inclu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only valid: unfavourable habitat status = different habit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913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»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91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cators assessed depend on the site ass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Solut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habitat ex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earcuts or windfalls larger than 3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ruce, larch, etc. monocultures larger than 0,5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912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Approach chos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049400"/>
          <a:ext cx="8229600" cy="5403960"/>
        </p:xfrm>
        <a:graphic>
          <a:graphicData uri="http://schemas.openxmlformats.org/drawingml/2006/table">
            <a:tbl>
              <a:tblPr/>
              <a:tblGrid>
                <a:gridCol w="3494160"/>
                <a:gridCol w="4735440"/>
              </a:tblGrid>
              <a:tr h="963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Basic data on forest habitat for the respective 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resen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area of forest habitat for the respective site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; in S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otential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area of forest habitat (based on site type units upon the tr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a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sformation of site types into habitat un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range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of forest habitat according to biogeographical region in S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333360"/>
          <a:ext cx="8642160" cy="6013440"/>
        </p:xfrm>
        <a:graphic>
          <a:graphicData uri="http://schemas.openxmlformats.org/drawingml/2006/table">
            <a:tbl>
              <a:tblPr/>
              <a:tblGrid>
                <a:gridCol w="720720"/>
                <a:gridCol w="1376280"/>
                <a:gridCol w="1636560"/>
                <a:gridCol w="1636920"/>
                <a:gridCol w="1635120"/>
                <a:gridCol w="1636560"/>
              </a:tblGrid>
              <a:tr h="33588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riteria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/ Indi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vourable status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Unfavourable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336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excel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redu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egra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5858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lspecies of habi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ree species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3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Quercus petraea agg., Carpinus betulus,  Acer pseudoplatanus, Acer platanoides, Tilia cordata, Tilia platyphylos, Cerasus av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4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Abies alba, Acer pseudoplatanus, Acer platanoides, Tilia cordata, Tilia platyphylos,  Cerasus av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. a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n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 6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1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Abies alba</a:t>
                      </a:r>
                      <a:r>
                        <a:rPr b="1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Picea abies, Acer pseudoplatanus, Acer platanoides, Ulmus glabra, Fraxinus excelsior, Sorbus aucuparia,  Tilia cordata, Tilia platyphy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proximation to the model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ccurence of invasive tree species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100 - 85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84 - 70 %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1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69 -5</a:t>
                      </a: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%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4 - 4</a:t>
                      </a: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erb species and shru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icators -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vasive specie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; 25&gt;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5 ; 50)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; 25)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tors of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eutrofiz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Urtica dioica, Chelidonium majus, Sambucus nig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ccidic indicators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Avenella flexuosa, Vaccinium myrtillus, 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acid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ic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machy Pozn.: dominantný výskyt týchto druhov  mení zaradenie lokality do bioto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9280" y="779400"/>
          <a:ext cx="8713800" cy="5457960"/>
        </p:xfrm>
        <a:graphic>
          <a:graphicData uri="http://schemas.openxmlformats.org/drawingml/2006/table">
            <a:tbl>
              <a:tblPr/>
              <a:tblGrid>
                <a:gridCol w="1008000"/>
                <a:gridCol w="1297080"/>
                <a:gridCol w="1440000"/>
                <a:gridCol w="1655640"/>
                <a:gridCol w="1656000"/>
                <a:gridCol w="1657080"/>
              </a:tblGrid>
              <a:tr h="2651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abitat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ge structure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velopmental stages of natural forests or even-aged forests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pralesy a prírodné lesy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5. ARS</a:t>
                      </a:r>
                      <a:r>
                        <a:rPr b="0" lang="sk-SK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[1]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a 4. ARS </a:t>
                      </a: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ebo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5. ARS  tvorí aspoň 1/3 ak sa jedná mozaiku aspoň dvoch ARS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0" lang="sk-SK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[1]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S – agregovaný rastový stupeň (pozri Definície indikátorov F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3. ARS, 2. ARS a , 1. ARS, pričom 5. ARS nesmie presahovať 1/3. V prípade, že prevažuje 1.ARS, musí byť prítomný ešte aspoň jeden ďalší ARS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ítomnosť len 1. ARS na celej ploche polygónu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atural regenerati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of the tree spe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patial structure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(vert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l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horizon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, structural patter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dvoj- a viacvrstvovými porastmi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mozaikou jednovrstvových porastov, v ktorej výmera jedného štrukturálneho prvku je prevažne do 5 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mozaikou jednovrstvových porastov, v ktorej výmera štrukturálneho prvku a je prevažne 5,01 - 50 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9280" y="333360"/>
          <a:ext cx="8713800" cy="5111640"/>
        </p:xfrm>
        <a:graphic>
          <a:graphicData uri="http://schemas.openxmlformats.org/drawingml/2006/table">
            <a:tbl>
              <a:tblPr/>
              <a:tblGrid>
                <a:gridCol w="1079640"/>
                <a:gridCol w="1144440"/>
                <a:gridCol w="1622520"/>
                <a:gridCol w="1622520"/>
                <a:gridCol w="1622520"/>
                <a:gridCol w="1622160"/>
              </a:tblGrid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ge-diameter 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  valuable tr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4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– 9 ks / 10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3 ks / 10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ge-diameter dead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erent degree decompositio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3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erent degree decompo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1 ks /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ve</a:t>
                      </a: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fl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ve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f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issions, nekrózy buka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pastures, zver (odhryz, obhryz), dry soil conditions, mechanical disturbanc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ealth 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5 %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– 10 %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% a viac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obmedzeni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roader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verage of habitat in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of disturb boa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0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 00 – 49,99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30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 – 29, 99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- 60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,00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60 %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Overall assessment of F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hod of "the weakest link in the chain" vs. method "weighted averag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r solution: rather complicated weighted average with variable weights for each indicator and "stat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weights have not been tested in practice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260280"/>
          <a:ext cx="8496000" cy="62438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355400"/>
                <a:gridCol w="970200"/>
                <a:gridCol w="971640"/>
                <a:gridCol w="971280"/>
                <a:gridCol w="970200"/>
                <a:gridCol w="971280"/>
              </a:tblGrid>
              <a:tr h="375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Crite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Weight of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a crite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Weight of an 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tate of habi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Q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Typical habitat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Tree species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Herbs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&amp;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hru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3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Forest habitat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Age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Regen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patial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Large-diameter tr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5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dead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1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Negative influ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Heal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B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i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es and minuses can compensate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es and minuses can compensate one another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gorithm is difficult to understand or even to compare with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age of „triple weights": two "official" weights and limits used in each particular indicator =&gt; certain unclea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fficult calculation and reasoning of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00" y="404640"/>
          <a:ext cx="8496000" cy="6258240"/>
        </p:xfrm>
        <a:graphic>
          <a:graphicData uri="http://schemas.openxmlformats.org/drawingml/2006/table">
            <a:tbl>
              <a:tblPr/>
              <a:tblGrid>
                <a:gridCol w="396720"/>
                <a:gridCol w="3209760"/>
                <a:gridCol w="4889520"/>
              </a:tblGrid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Criteria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Indicators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Typical habitat 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Tree species compositio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degree of approximation to the model and occurrence  of invasive tree speci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Herb &amp; shrub 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Forest habita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Age structur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developmental stages of natural forests or even-aged forests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Natural regeneratio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Spatial structur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vertical, horizontal, structural patter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large-diameter and biodiversity valuable tree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large-diameter dead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ive influ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ive factors / age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Forest health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as a result of negative factors impa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Broader enviro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ear definitions are need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Terms employ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tree layer, growth class, natural regeneration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Quantifiers, measuremen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Form of recor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using mathematical symbols, descriptio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ree species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Degree of approximation to the 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%) given for each particular habitat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9410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ru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50–100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ycamore map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10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orbus aucupa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Occurrence of invasive tree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east controversial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fficient knowledge on the natural tree species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icated &amp; uncle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ak argumentation on the approximation degrees required (e.g. "what is the relevance of 30 %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ability to assess gene pool natura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ability to identify the tree species behind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rb &amp; shrub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ce of a larger number of species, more complicated fiel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treme difficultness of exact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rb layer composition is determined by the tre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st significant changes are: onset of invasive or expansive species, indicators of acidification and eutrophication, ruderal speci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imple list of herbs on sites with cover by Tansley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Herb &amp; shrub spe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pl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flection of most distinct chang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ability to reflect reduction of biodiversity provided natural species are not replaced by the aforemention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e-sided decision on the naturalness of certain species (e.g.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Urtica dioic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mbiguity of the term "structure" (arrangement  of components / parts or interactions /processes within any higher hierarchical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Our approach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tructure limited to spatial structure of forest habitats and their groups only (age structure, structural patt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clear importance of  spatial structure for the assessment of 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patial structure of forest </a:t>
            </a:r>
            <a:r>
              <a:rPr b="0" lang="sk-SK" sz="3600" spc="-1" strike="noStrike">
                <a:solidFill>
                  <a:srgbClr val="ffcc66"/>
                </a:solidFill>
                <a:latin typeface="Arial"/>
              </a:rPr>
              <a:t>habitat</a:t>
            </a: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 and / or their grou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rizontal structure (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iz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distribution of structural un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tical structure (multi-layeredness of forest stands)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≈ function of  tree age =&gt; ag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lose affinity of both struc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Vertical diversity of natural forests has in managed forests been to a certain degree replaced by the mosaic of even-aged st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6:23:13Z</dcterms:created>
  <dc:creator>Matej Schwarz</dc:creator>
  <dc:description/>
  <dc:language>en-US</dc:language>
  <cp:lastModifiedBy>ŠOP SR</cp:lastModifiedBy>
  <dcterms:modified xsi:type="dcterms:W3CDTF">2004-08-16T14:33:51Z</dcterms:modified>
  <cp:revision>95</cp:revision>
  <dc:subject/>
  <dc:title>Zastúpenie jaseňa v lesných porastoch Slovenska</dc:title>
</cp:coreProperties>
</file>