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D391-5A1A-4B74-9297-8410BA8B6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16A2-FCD1-4E83-8B1E-66B25E015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A54B-C8E6-41FF-96D1-F5BA7D37F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9172-E09C-4852-BEAA-CCACEA4F6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1DC4-2524-423B-8213-DE78D5C72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98BE-1A70-4469-BA5D-1C57F29A1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9E83-BF4A-4E69-940A-A0AA43233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7178-5856-455E-A7EB-AE6946FAC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7571-0A4B-4F16-80B7-0D383CA96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03AA-DA4D-405B-B5E1-28E904929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4D50-EA89-48FA-A2EA-328AB5037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E0EB-4B21-4490-91D6-00EF2D33A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B1500-A125-4CC5-A40E-6FEB50ABE0A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12800" y="1168560"/>
            <a:ext cx="6108840" cy="703800"/>
          </a:xfrm>
          <a:prstGeom prst="rect">
            <a:avLst/>
          </a:prstGeom>
          <a:solidFill>
            <a:srgbClr val="3399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Úvodné úvahy o monitorovacom systéme pre nelesné bioto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06560" y="2357280"/>
            <a:ext cx="3391200" cy="307080"/>
          </a:xfrm>
          <a:prstGeom prst="rect">
            <a:avLst/>
          </a:prstGeom>
          <a:solidFill>
            <a:srgbClr val="3399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Arial"/>
              </a:rPr>
              <a:t>Ján Šeff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1" lang="sk-SK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astislav Las</a:t>
            </a:r>
            <a:r>
              <a:rPr b="1" lang="sk-SK" sz="14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181160" y="1346040"/>
            <a:ext cx="6324480" cy="20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aby podával aktuálne informácie o stave všetkých biotopo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aby bol prepojený s plánovaním a realizáciou manažment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aby bol uskutočniteľný z hľadiska expertných kapací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aby bol finančne efektívn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aby bol napojený na ďalšie monitorovacie systémy (AEP, RSV..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193400" y="673200"/>
            <a:ext cx="656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Čo očakávame od monitorovacieho systému pre nelesné biotopy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1676520" y="3228840"/>
            <a:ext cx="1904760" cy="900360"/>
            <a:chOff x="1676520" y="3228840"/>
            <a:chExt cx="1904760" cy="900360"/>
          </a:xfrm>
        </p:grpSpPr>
        <p:sp>
          <p:nvSpPr>
            <p:cNvPr id="46" name=""/>
            <p:cNvSpPr/>
            <p:nvPr/>
          </p:nvSpPr>
          <p:spPr>
            <a:xfrm>
              <a:off x="1676520" y="3228840"/>
              <a:ext cx="1904760" cy="900360"/>
            </a:xfrm>
            <a:prstGeom prst="flowChartAlternateProcess">
              <a:avLst/>
            </a:prstGeom>
            <a:solidFill>
              <a:srgbClr val="339966">
                <a:alpha val="50000"/>
              </a:srgbClr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828800" y="3457440"/>
              <a:ext cx="160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600" spc="-1" strike="noStrike">
                  <a:solidFill>
                    <a:srgbClr val="000000"/>
                  </a:solidFill>
                  <a:latin typeface="Arial"/>
                </a:rPr>
                <a:t>Metodika P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" name=""/>
          <p:cNvGrpSpPr/>
          <p:nvPr/>
        </p:nvGrpSpPr>
        <p:grpSpPr>
          <a:xfrm>
            <a:off x="5486400" y="3228840"/>
            <a:ext cx="1905120" cy="900360"/>
            <a:chOff x="5486400" y="3228840"/>
            <a:chExt cx="1905120" cy="900360"/>
          </a:xfrm>
        </p:grpSpPr>
        <p:sp>
          <p:nvSpPr>
            <p:cNvPr id="49" name=""/>
            <p:cNvSpPr/>
            <p:nvPr/>
          </p:nvSpPr>
          <p:spPr>
            <a:xfrm>
              <a:off x="5486400" y="3228840"/>
              <a:ext cx="1905120" cy="900360"/>
            </a:xfrm>
            <a:prstGeom prst="flowChartAlternateProcess">
              <a:avLst/>
            </a:prstGeom>
            <a:solidFill>
              <a:srgbClr val="339966">
                <a:alpha val="50000"/>
              </a:srgbClr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610080"/>
              <a:ext cx="17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600" spc="-1" strike="noStrike">
                  <a:solidFill>
                    <a:srgbClr val="000000"/>
                  </a:solidFill>
                  <a:latin typeface="Arial"/>
                </a:rPr>
                <a:t>Monitor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2476080" y="2055240"/>
            <a:ext cx="1338840" cy="1258200"/>
            <a:chOff x="2476080" y="2055240"/>
            <a:chExt cx="1338840" cy="1258200"/>
          </a:xfrm>
        </p:grpSpPr>
        <p:sp>
          <p:nvSpPr>
            <p:cNvPr id="52" name=""/>
            <p:cNvSpPr/>
            <p:nvPr/>
          </p:nvSpPr>
          <p:spPr>
            <a:xfrm flipH="1">
              <a:off x="2514240" y="2314440"/>
              <a:ext cx="1066680" cy="91440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rot="19187400">
              <a:off x="2514240" y="2393640"/>
              <a:ext cx="12621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600" spc="-1" strike="noStrike">
                  <a:solidFill>
                    <a:srgbClr val="000000"/>
                  </a:solidFill>
                  <a:latin typeface="Arial"/>
                </a:rPr>
                <a:t>Hodnotenie cie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5334120" y="2206800"/>
            <a:ext cx="1267920" cy="1048320"/>
            <a:chOff x="5334120" y="2206800"/>
            <a:chExt cx="1267920" cy="1048320"/>
          </a:xfrm>
        </p:grpSpPr>
        <p:sp>
          <p:nvSpPr>
            <p:cNvPr id="55" name=""/>
            <p:cNvSpPr/>
            <p:nvPr/>
          </p:nvSpPr>
          <p:spPr>
            <a:xfrm>
              <a:off x="5334120" y="2314440"/>
              <a:ext cx="1149120" cy="91440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rot="2209200">
              <a:off x="5331960" y="2562120"/>
              <a:ext cx="129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600" spc="-1" strike="noStrike">
                  <a:solidFill>
                    <a:srgbClr val="000000"/>
                  </a:solidFill>
                  <a:latin typeface="Arial"/>
                </a:rPr>
                <a:t>Paramet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3581280" y="3548160"/>
            <a:ext cx="1905120" cy="581040"/>
            <a:chOff x="3581280" y="3548160"/>
            <a:chExt cx="1905120" cy="581040"/>
          </a:xfrm>
        </p:grpSpPr>
        <p:sp>
          <p:nvSpPr>
            <p:cNvPr id="58" name=""/>
            <p:cNvSpPr/>
            <p:nvPr/>
          </p:nvSpPr>
          <p:spPr>
            <a:xfrm flipH="1">
              <a:off x="3581280" y="3838680"/>
              <a:ext cx="1905120" cy="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rot="600">
              <a:off x="3833280" y="3548160"/>
              <a:ext cx="14986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600" spc="-1" strike="noStrike">
                  <a:solidFill>
                    <a:srgbClr val="000000"/>
                  </a:solidFill>
                  <a:latin typeface="Arial"/>
                </a:rPr>
                <a:t>Zabezpečenie monitoring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2882880" y="343080"/>
            <a:ext cx="320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Budovanie systému pre ochranu biotopov N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3078000" y="1395360"/>
            <a:ext cx="3405240" cy="4911120"/>
            <a:chOff x="3078000" y="1395360"/>
            <a:chExt cx="3405240" cy="4911120"/>
          </a:xfrm>
        </p:grpSpPr>
        <p:grpSp>
          <p:nvGrpSpPr>
            <p:cNvPr id="62" name=""/>
            <p:cNvGrpSpPr/>
            <p:nvPr/>
          </p:nvGrpSpPr>
          <p:grpSpPr>
            <a:xfrm>
              <a:off x="3429000" y="1395360"/>
              <a:ext cx="1981080" cy="919080"/>
              <a:chOff x="3429000" y="1395360"/>
              <a:chExt cx="1981080" cy="919080"/>
            </a:xfrm>
          </p:grpSpPr>
          <p:sp>
            <p:nvSpPr>
              <p:cNvPr id="63" name=""/>
              <p:cNvSpPr/>
              <p:nvPr/>
            </p:nvSpPr>
            <p:spPr>
              <a:xfrm>
                <a:off x="3505320" y="1395360"/>
                <a:ext cx="1904760" cy="919080"/>
              </a:xfrm>
              <a:prstGeom prst="flowChartAlternateProcess">
                <a:avLst/>
              </a:prstGeom>
              <a:solidFill>
                <a:srgbClr val="339966">
                  <a:alpha val="50000"/>
                </a:srgbClr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3429000" y="1685880"/>
                <a:ext cx="19810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1600" spc="-1" strike="noStrike">
                    <a:solidFill>
                      <a:srgbClr val="000000"/>
                    </a:solidFill>
                    <a:latin typeface="Arial"/>
                  </a:rPr>
                  <a:t>Definovanie PSZ*  biotopu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3078000" y="5969160"/>
              <a:ext cx="3405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1600" spc="-1" strike="noStrike">
                  <a:solidFill>
                    <a:srgbClr val="000000"/>
                  </a:solidFill>
                  <a:latin typeface="Arial"/>
                </a:rPr>
                <a:t>*PSZ – priaznivý stav zachovani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"/>
          <p:cNvGrpSpPr/>
          <p:nvPr/>
        </p:nvGrpSpPr>
        <p:grpSpPr>
          <a:xfrm>
            <a:off x="1663560" y="3475080"/>
            <a:ext cx="1904760" cy="900000"/>
            <a:chOff x="1663560" y="3475080"/>
            <a:chExt cx="1904760" cy="900000"/>
          </a:xfrm>
        </p:grpSpPr>
        <p:sp>
          <p:nvSpPr>
            <p:cNvPr id="67" name=""/>
            <p:cNvSpPr/>
            <p:nvPr/>
          </p:nvSpPr>
          <p:spPr>
            <a:xfrm>
              <a:off x="1663560" y="3475080"/>
              <a:ext cx="1904760" cy="900000"/>
            </a:xfrm>
            <a:prstGeom prst="flowChartAlternateProcess">
              <a:avLst/>
            </a:prstGeom>
            <a:solidFill>
              <a:srgbClr val="339966">
                <a:alpha val="50000"/>
              </a:srgbClr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815840" y="3703680"/>
              <a:ext cx="160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600" spc="-1" strike="noStrike">
                  <a:solidFill>
                    <a:srgbClr val="000000"/>
                  </a:solidFill>
                  <a:latin typeface="Arial"/>
                </a:rPr>
                <a:t>Realizácia P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5473800" y="3475080"/>
            <a:ext cx="1904760" cy="900000"/>
            <a:chOff x="5473800" y="3475080"/>
            <a:chExt cx="1904760" cy="900000"/>
          </a:xfrm>
        </p:grpSpPr>
        <p:sp>
          <p:nvSpPr>
            <p:cNvPr id="70" name=""/>
            <p:cNvSpPr/>
            <p:nvPr/>
          </p:nvSpPr>
          <p:spPr>
            <a:xfrm>
              <a:off x="5473800" y="3475080"/>
              <a:ext cx="1904760" cy="900000"/>
            </a:xfrm>
            <a:prstGeom prst="flowChartAlternateProcess">
              <a:avLst/>
            </a:prstGeom>
            <a:solidFill>
              <a:srgbClr val="339966">
                <a:alpha val="50000"/>
              </a:srgbClr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549760" y="3855960"/>
              <a:ext cx="1752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600" spc="-1" strike="noStrike">
                  <a:solidFill>
                    <a:srgbClr val="000000"/>
                  </a:solidFill>
                  <a:latin typeface="Arial"/>
                </a:rPr>
                <a:t>Monitor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16400" y="1641600"/>
            <a:ext cx="2057400" cy="919080"/>
            <a:chOff x="3416400" y="1641600"/>
            <a:chExt cx="2057400" cy="919080"/>
          </a:xfrm>
        </p:grpSpPr>
        <p:sp>
          <p:nvSpPr>
            <p:cNvPr id="73" name=""/>
            <p:cNvSpPr/>
            <p:nvPr/>
          </p:nvSpPr>
          <p:spPr>
            <a:xfrm>
              <a:off x="3492720" y="1641600"/>
              <a:ext cx="1904760" cy="919080"/>
            </a:xfrm>
            <a:prstGeom prst="flowChartAlternateProcess">
              <a:avLst/>
            </a:prstGeom>
            <a:solidFill>
              <a:srgbClr val="339966">
                <a:alpha val="50000"/>
              </a:srgbClr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16400" y="1641600"/>
              <a:ext cx="20574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600" spc="-1" strike="noStrike">
                  <a:solidFill>
                    <a:srgbClr val="000000"/>
                  </a:solidFill>
                  <a:latin typeface="Arial"/>
                </a:rPr>
                <a:t>Hodnotenie stavu zachovania biotopo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2463480" y="2301120"/>
            <a:ext cx="1338480" cy="1258200"/>
            <a:chOff x="2463480" y="2301120"/>
            <a:chExt cx="1338480" cy="1258200"/>
          </a:xfrm>
        </p:grpSpPr>
        <p:sp>
          <p:nvSpPr>
            <p:cNvPr id="76" name=""/>
            <p:cNvSpPr/>
            <p:nvPr/>
          </p:nvSpPr>
          <p:spPr>
            <a:xfrm flipH="1">
              <a:off x="2502000" y="2560680"/>
              <a:ext cx="1066320" cy="91440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9187400">
              <a:off x="2501640" y="2639880"/>
              <a:ext cx="12618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600" spc="-1" strike="noStrike">
                  <a:solidFill>
                    <a:srgbClr val="000000"/>
                  </a:solidFill>
                  <a:latin typeface="Arial"/>
                </a:rPr>
                <a:t>Informácie o efektivi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2882880" y="693720"/>
            <a:ext cx="320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Fungovanie systému pre ochranu biotopov N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6159600" y="1641600"/>
            <a:ext cx="1600200" cy="914400"/>
            <a:chOff x="6159600" y="1641600"/>
            <a:chExt cx="1600200" cy="914400"/>
          </a:xfrm>
        </p:grpSpPr>
        <p:sp>
          <p:nvSpPr>
            <p:cNvPr id="80" name=""/>
            <p:cNvSpPr/>
            <p:nvPr/>
          </p:nvSpPr>
          <p:spPr>
            <a:xfrm>
              <a:off x="6159600" y="1641600"/>
              <a:ext cx="1587600" cy="914400"/>
            </a:xfrm>
            <a:prstGeom prst="flowChartAlternateProcess">
              <a:avLst/>
            </a:prstGeom>
            <a:solidFill>
              <a:srgbClr val="339966">
                <a:alpha val="50000"/>
              </a:srgbClr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159600" y="1806480"/>
              <a:ext cx="1600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600" spc="-1" strike="noStrike">
                  <a:solidFill>
                    <a:srgbClr val="000000"/>
                  </a:solidFill>
                  <a:latin typeface="Arial"/>
                </a:rPr>
                <a:t>Správa o stave pre E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1663560" y="4375080"/>
            <a:ext cx="5638680" cy="1366920"/>
            <a:chOff x="1663560" y="4375080"/>
            <a:chExt cx="5638680" cy="1366920"/>
          </a:xfrm>
        </p:grpSpPr>
        <p:sp>
          <p:nvSpPr>
            <p:cNvPr id="83" name=""/>
            <p:cNvSpPr/>
            <p:nvPr/>
          </p:nvSpPr>
          <p:spPr>
            <a:xfrm flipV="1">
              <a:off x="6445080" y="4375080"/>
              <a:ext cx="0" cy="61776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501640" y="4408560"/>
              <a:ext cx="0" cy="58428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663560" y="4992840"/>
              <a:ext cx="5638680" cy="749160"/>
            </a:xfrm>
            <a:prstGeom prst="flowChartAlternateProcess">
              <a:avLst/>
            </a:prstGeom>
            <a:solidFill>
              <a:srgbClr val="339966">
                <a:alpha val="50000"/>
              </a:srgbClr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222280" y="5186520"/>
              <a:ext cx="4737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k-SK" sz="1600" spc="-1" strike="noStrike">
                  <a:solidFill>
                    <a:srgbClr val="000000"/>
                  </a:solidFill>
                  <a:latin typeface="Arial"/>
                </a:rPr>
                <a:t>N2000 biotopy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5319720" y="2560680"/>
            <a:ext cx="1150920" cy="914400"/>
            <a:chOff x="5319720" y="2560680"/>
            <a:chExt cx="1150920" cy="914400"/>
          </a:xfrm>
        </p:grpSpPr>
        <p:sp>
          <p:nvSpPr>
            <p:cNvPr id="88" name=""/>
            <p:cNvSpPr/>
            <p:nvPr/>
          </p:nvSpPr>
          <p:spPr>
            <a:xfrm rot="2209200">
              <a:off x="5693760" y="2811600"/>
              <a:ext cx="750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600" spc="-1" strike="noStrike">
                  <a:solidFill>
                    <a:srgbClr val="000000"/>
                  </a:solidFill>
                  <a:latin typeface="Arial"/>
                </a:rPr>
                <a:t>Dá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flipV="1">
              <a:off x="5319720" y="2560680"/>
              <a:ext cx="1047600" cy="91440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5397480" y="2097000"/>
            <a:ext cx="762120" cy="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762120" y="762120"/>
            <a:ext cx="7812000" cy="5159160"/>
            <a:chOff x="762120" y="762120"/>
            <a:chExt cx="7812000" cy="5159160"/>
          </a:xfrm>
        </p:grpSpPr>
        <p:grpSp>
          <p:nvGrpSpPr>
            <p:cNvPr id="92" name=""/>
            <p:cNvGrpSpPr/>
            <p:nvPr/>
          </p:nvGrpSpPr>
          <p:grpSpPr>
            <a:xfrm>
              <a:off x="766440" y="766080"/>
              <a:ext cx="7802640" cy="5150520"/>
              <a:chOff x="766440" y="766080"/>
              <a:chExt cx="7802640" cy="5150520"/>
            </a:xfrm>
          </p:grpSpPr>
          <p:grpSp>
            <p:nvGrpSpPr>
              <p:cNvPr id="93" name=""/>
              <p:cNvGrpSpPr/>
              <p:nvPr/>
            </p:nvGrpSpPr>
            <p:grpSpPr>
              <a:xfrm>
                <a:off x="766440" y="766080"/>
                <a:ext cx="1703520" cy="613440"/>
                <a:chOff x="766440" y="766080"/>
                <a:chExt cx="1703520" cy="613440"/>
              </a:xfrm>
            </p:grpSpPr>
            <p:sp>
              <p:nvSpPr>
                <p:cNvPr id="94" name=""/>
                <p:cNvSpPr/>
                <p:nvPr/>
              </p:nvSpPr>
              <p:spPr>
                <a:xfrm>
                  <a:off x="831600" y="766080"/>
                  <a:ext cx="1572840" cy="61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189072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189072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766440" y="766080"/>
                  <a:ext cx="1703520" cy="613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" name=""/>
              <p:cNvGrpSpPr/>
              <p:nvPr/>
            </p:nvGrpSpPr>
            <p:grpSpPr>
              <a:xfrm>
                <a:off x="2469960" y="766080"/>
                <a:ext cx="6099120" cy="613440"/>
                <a:chOff x="2469960" y="766080"/>
                <a:chExt cx="6099120" cy="613440"/>
              </a:xfrm>
            </p:grpSpPr>
            <p:sp>
              <p:nvSpPr>
                <p:cNvPr id="97" name=""/>
                <p:cNvSpPr/>
                <p:nvPr/>
              </p:nvSpPr>
              <p:spPr>
                <a:xfrm>
                  <a:off x="2469960" y="766080"/>
                  <a:ext cx="6099120" cy="613440"/>
                </a:xfrm>
                <a:prstGeom prst="rect">
                  <a:avLst/>
                </a:pr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8" name=""/>
                <p:cNvGrpSpPr/>
                <p:nvPr/>
              </p:nvGrpSpPr>
              <p:grpSpPr>
                <a:xfrm>
                  <a:off x="2469960" y="766080"/>
                  <a:ext cx="6099120" cy="613440"/>
                  <a:chOff x="2469960" y="766080"/>
                  <a:chExt cx="6099120" cy="6134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>
                    <a:off x="2535120" y="766080"/>
                    <a:ext cx="5968080" cy="613440"/>
                  </a:xfrm>
                  <a:prstGeom prst="rect">
                    <a:avLst/>
                  </a:prstGeom>
                  <a:solidFill>
                    <a:srgbClr val="e5e5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189072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sk-SK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Spôsob zberu dát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189072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>
                    <a:off x="2469960" y="766080"/>
                    <a:ext cx="6099120" cy="6134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1" name=""/>
              <p:cNvGrpSpPr/>
              <p:nvPr/>
            </p:nvGrpSpPr>
            <p:grpSpPr>
              <a:xfrm>
                <a:off x="766440" y="1379520"/>
                <a:ext cx="1703520" cy="1041120"/>
                <a:chOff x="766440" y="1379520"/>
                <a:chExt cx="1703520" cy="1041120"/>
              </a:xfrm>
            </p:grpSpPr>
            <p:sp>
              <p:nvSpPr>
                <p:cNvPr id="102" name=""/>
                <p:cNvSpPr/>
                <p:nvPr/>
              </p:nvSpPr>
              <p:spPr>
                <a:xfrm>
                  <a:off x="766440" y="1379520"/>
                  <a:ext cx="1703520" cy="104112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3" name=""/>
                <p:cNvGrpSpPr/>
                <p:nvPr/>
              </p:nvGrpSpPr>
              <p:grpSpPr>
                <a:xfrm>
                  <a:off x="766440" y="1379520"/>
                  <a:ext cx="1703520" cy="1041120"/>
                  <a:chOff x="766440" y="1379520"/>
                  <a:chExt cx="1703520" cy="1041120"/>
                </a:xfrm>
              </p:grpSpPr>
              <p:sp>
                <p:nvSpPr>
                  <p:cNvPr id="104" name=""/>
                  <p:cNvSpPr/>
                  <p:nvPr/>
                </p:nvSpPr>
                <p:spPr>
                  <a:xfrm>
                    <a:off x="831600" y="1379520"/>
                    <a:ext cx="1572840" cy="104112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189072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sk-SK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Kritériá hodnotenia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189072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>
                    <a:off x="766440" y="1379520"/>
                    <a:ext cx="1703520" cy="10411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6" name=""/>
              <p:cNvGrpSpPr/>
              <p:nvPr/>
            </p:nvGrpSpPr>
            <p:grpSpPr>
              <a:xfrm>
                <a:off x="2469960" y="1379520"/>
                <a:ext cx="1316160" cy="1041120"/>
                <a:chOff x="2469960" y="1379520"/>
                <a:chExt cx="1316160" cy="104112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2469960" y="1379520"/>
                  <a:ext cx="1316160" cy="1041120"/>
                </a:xfrm>
                <a:prstGeom prst="rect">
                  <a:avLst/>
                </a:pr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8" name=""/>
                <p:cNvGrpSpPr/>
                <p:nvPr/>
              </p:nvGrpSpPr>
              <p:grpSpPr>
                <a:xfrm>
                  <a:off x="2469960" y="1379520"/>
                  <a:ext cx="1316160" cy="1041120"/>
                  <a:chOff x="2469960" y="1379520"/>
                  <a:chExt cx="1316160" cy="1041120"/>
                </a:xfrm>
              </p:grpSpPr>
              <p:sp>
                <p:nvSpPr>
                  <p:cNvPr id="109" name=""/>
                  <p:cNvSpPr/>
                  <p:nvPr/>
                </p:nvSpPr>
                <p:spPr>
                  <a:xfrm>
                    <a:off x="2535120" y="1379520"/>
                    <a:ext cx="1185480" cy="1041120"/>
                  </a:xfrm>
                  <a:prstGeom prst="rect">
                    <a:avLst/>
                  </a:prstGeom>
                  <a:solidFill>
                    <a:srgbClr val="e5e5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189072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sk-SK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zoznam druhov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189072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>
                    <a:off x="2469960" y="1379520"/>
                    <a:ext cx="1316160" cy="10411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1" name=""/>
              <p:cNvGrpSpPr/>
              <p:nvPr/>
            </p:nvGrpSpPr>
            <p:grpSpPr>
              <a:xfrm>
                <a:off x="3786120" y="1379520"/>
                <a:ext cx="1250640" cy="1041120"/>
                <a:chOff x="3786120" y="1379520"/>
                <a:chExt cx="1250640" cy="1041120"/>
              </a:xfrm>
            </p:grpSpPr>
            <p:sp>
              <p:nvSpPr>
                <p:cNvPr id="112" name=""/>
                <p:cNvSpPr/>
                <p:nvPr/>
              </p:nvSpPr>
              <p:spPr>
                <a:xfrm>
                  <a:off x="3786120" y="1379520"/>
                  <a:ext cx="1250640" cy="1041120"/>
                </a:xfrm>
                <a:prstGeom prst="rect">
                  <a:avLst/>
                </a:pr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3" name=""/>
                <p:cNvGrpSpPr/>
                <p:nvPr/>
              </p:nvGrpSpPr>
              <p:grpSpPr>
                <a:xfrm>
                  <a:off x="3786120" y="1379520"/>
                  <a:ext cx="1250640" cy="1041120"/>
                  <a:chOff x="3786120" y="1379520"/>
                  <a:chExt cx="1250640" cy="1041120"/>
                </a:xfrm>
              </p:grpSpPr>
              <p:sp>
                <p:nvSpPr>
                  <p:cNvPr id="114" name=""/>
                  <p:cNvSpPr/>
                  <p:nvPr/>
                </p:nvSpPr>
                <p:spPr>
                  <a:xfrm>
                    <a:off x="3851280" y="1379520"/>
                    <a:ext cx="1119960" cy="1041120"/>
                  </a:xfrm>
                  <a:prstGeom prst="rect">
                    <a:avLst/>
                  </a:prstGeom>
                  <a:solidFill>
                    <a:srgbClr val="e5e5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189072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sk-SK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Semi</a:t>
                    </a:r>
                    <a:r>
                      <a:rPr b="0" lang="sk-SK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-</a:t>
                    </a:r>
                    <a:r>
                      <a:rPr b="0" lang="sk-SK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kvant</a:t>
                    </a:r>
                    <a:r>
                      <a:rPr b="0" lang="sk-SK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.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>
                    <a:off x="3786120" y="1379520"/>
                    <a:ext cx="1250640" cy="10411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6" name=""/>
              <p:cNvGrpSpPr/>
              <p:nvPr/>
            </p:nvGrpSpPr>
            <p:grpSpPr>
              <a:xfrm>
                <a:off x="5036760" y="1379520"/>
                <a:ext cx="1097280" cy="1041120"/>
                <a:chOff x="5036760" y="1379520"/>
                <a:chExt cx="1097280" cy="104112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5036760" y="1379520"/>
                  <a:ext cx="1097280" cy="1041120"/>
                </a:xfrm>
                <a:prstGeom prst="rect">
                  <a:avLst/>
                </a:pr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8" name=""/>
                <p:cNvGrpSpPr/>
                <p:nvPr/>
              </p:nvGrpSpPr>
              <p:grpSpPr>
                <a:xfrm>
                  <a:off x="5036760" y="1379520"/>
                  <a:ext cx="1097280" cy="1041120"/>
                  <a:chOff x="5036760" y="1379520"/>
                  <a:chExt cx="1097280" cy="1041120"/>
                </a:xfrm>
              </p:grpSpPr>
              <p:sp>
                <p:nvSpPr>
                  <p:cNvPr id="119" name=""/>
                  <p:cNvSpPr/>
                  <p:nvPr/>
                </p:nvSpPr>
                <p:spPr>
                  <a:xfrm>
                    <a:off x="5101920" y="1379520"/>
                    <a:ext cx="966600" cy="1041120"/>
                  </a:xfrm>
                  <a:prstGeom prst="rect">
                    <a:avLst/>
                  </a:prstGeom>
                  <a:solidFill>
                    <a:srgbClr val="e5e5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189072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sk-SK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Prezen</a:t>
                    </a:r>
                    <a:r>
                      <a:rPr b="0" lang="sk-SK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-</a:t>
                    </a:r>
                    <a:r>
                      <a:rPr b="0" lang="sk-SK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cia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189072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" name=""/>
                  <p:cNvSpPr/>
                  <p:nvPr/>
                </p:nvSpPr>
                <p:spPr>
                  <a:xfrm>
                    <a:off x="5036760" y="1379520"/>
                    <a:ext cx="1097280" cy="10411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21" name=""/>
              <p:cNvGrpSpPr/>
              <p:nvPr/>
            </p:nvGrpSpPr>
            <p:grpSpPr>
              <a:xfrm>
                <a:off x="6134400" y="1379520"/>
                <a:ext cx="1097280" cy="1041120"/>
                <a:chOff x="6134400" y="1379520"/>
                <a:chExt cx="1097280" cy="1041120"/>
              </a:xfrm>
            </p:grpSpPr>
            <p:sp>
              <p:nvSpPr>
                <p:cNvPr id="122" name=""/>
                <p:cNvSpPr/>
                <p:nvPr/>
              </p:nvSpPr>
              <p:spPr>
                <a:xfrm>
                  <a:off x="6134400" y="1379520"/>
                  <a:ext cx="1097280" cy="1041120"/>
                </a:xfrm>
                <a:prstGeom prst="rect">
                  <a:avLst/>
                </a:pr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3" name=""/>
                <p:cNvGrpSpPr/>
                <p:nvPr/>
              </p:nvGrpSpPr>
              <p:grpSpPr>
                <a:xfrm>
                  <a:off x="6134400" y="1379520"/>
                  <a:ext cx="1097280" cy="1041120"/>
                  <a:chOff x="6134400" y="1379520"/>
                  <a:chExt cx="1097280" cy="1041120"/>
                </a:xfrm>
              </p:grpSpPr>
              <p:sp>
                <p:nvSpPr>
                  <p:cNvPr id="124" name=""/>
                  <p:cNvSpPr/>
                  <p:nvPr/>
                </p:nvSpPr>
                <p:spPr>
                  <a:xfrm>
                    <a:off x="6199560" y="1379520"/>
                    <a:ext cx="966240" cy="1041120"/>
                  </a:xfrm>
                  <a:prstGeom prst="rect">
                    <a:avLst/>
                  </a:prstGeom>
                  <a:solidFill>
                    <a:srgbClr val="e5e5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189072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sk-SK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biomasa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189072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" name=""/>
                  <p:cNvSpPr/>
                  <p:nvPr/>
                </p:nvSpPr>
                <p:spPr>
                  <a:xfrm>
                    <a:off x="6134400" y="1379520"/>
                    <a:ext cx="1097280" cy="10411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26" name=""/>
              <p:cNvGrpSpPr/>
              <p:nvPr/>
            </p:nvGrpSpPr>
            <p:grpSpPr>
              <a:xfrm>
                <a:off x="7231680" y="1379520"/>
                <a:ext cx="1337400" cy="1041120"/>
                <a:chOff x="7231680" y="1379520"/>
                <a:chExt cx="1337400" cy="104112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7231680" y="1379520"/>
                  <a:ext cx="1337400" cy="1041120"/>
                </a:xfrm>
                <a:prstGeom prst="rect">
                  <a:avLst/>
                </a:pr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8" name=""/>
                <p:cNvGrpSpPr/>
                <p:nvPr/>
              </p:nvGrpSpPr>
              <p:grpSpPr>
                <a:xfrm>
                  <a:off x="7231680" y="1379520"/>
                  <a:ext cx="1337400" cy="1041120"/>
                  <a:chOff x="7231680" y="1379520"/>
                  <a:chExt cx="1337400" cy="1041120"/>
                </a:xfrm>
              </p:grpSpPr>
              <p:sp>
                <p:nvSpPr>
                  <p:cNvPr id="129" name=""/>
                  <p:cNvSpPr/>
                  <p:nvPr/>
                </p:nvSpPr>
                <p:spPr>
                  <a:xfrm>
                    <a:off x="7296840" y="1379520"/>
                    <a:ext cx="1206360" cy="1041120"/>
                  </a:xfrm>
                  <a:prstGeom prst="rect">
                    <a:avLst/>
                  </a:prstGeom>
                  <a:solidFill>
                    <a:srgbClr val="e5e5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189072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sk-SK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počty jedincov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189072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" name=""/>
                  <p:cNvSpPr/>
                  <p:nvPr/>
                </p:nvSpPr>
                <p:spPr>
                  <a:xfrm>
                    <a:off x="7231680" y="1379520"/>
                    <a:ext cx="1337400" cy="10411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31" name=""/>
              <p:cNvGrpSpPr/>
              <p:nvPr/>
            </p:nvGrpSpPr>
            <p:grpSpPr>
              <a:xfrm>
                <a:off x="766440" y="2420640"/>
                <a:ext cx="1703520" cy="613440"/>
                <a:chOff x="766440" y="2420640"/>
                <a:chExt cx="1703520" cy="61344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766440" y="2420640"/>
                  <a:ext cx="1703520" cy="61344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3" name=""/>
                <p:cNvGrpSpPr/>
                <p:nvPr/>
              </p:nvGrpSpPr>
              <p:grpSpPr>
                <a:xfrm>
                  <a:off x="766440" y="2420640"/>
                  <a:ext cx="1703520" cy="613440"/>
                  <a:chOff x="766440" y="2420640"/>
                  <a:chExt cx="1703520" cy="613440"/>
                </a:xfrm>
              </p:grpSpPr>
              <p:sp>
                <p:nvSpPr>
                  <p:cNvPr id="134" name=""/>
                  <p:cNvSpPr/>
                  <p:nvPr/>
                </p:nvSpPr>
                <p:spPr>
                  <a:xfrm>
                    <a:off x="831600" y="2420640"/>
                    <a:ext cx="1572840" cy="61344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189072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sk-SK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plocha zberu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189072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" name=""/>
                  <p:cNvSpPr/>
                  <p:nvPr/>
                </p:nvSpPr>
                <p:spPr>
                  <a:xfrm>
                    <a:off x="766440" y="2420640"/>
                    <a:ext cx="1703520" cy="6134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36" name=""/>
              <p:cNvGrpSpPr/>
              <p:nvPr/>
            </p:nvGrpSpPr>
            <p:grpSpPr>
              <a:xfrm>
                <a:off x="2469960" y="2420640"/>
                <a:ext cx="1316160" cy="613440"/>
                <a:chOff x="2469960" y="2420640"/>
                <a:chExt cx="1316160" cy="613440"/>
              </a:xfrm>
            </p:grpSpPr>
            <p:sp>
              <p:nvSpPr>
                <p:cNvPr id="137" name=""/>
                <p:cNvSpPr/>
                <p:nvPr/>
              </p:nvSpPr>
              <p:spPr>
                <a:xfrm>
                  <a:off x="2535120" y="2420640"/>
                  <a:ext cx="1185480" cy="61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89072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veľká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89072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9960" y="2420640"/>
                  <a:ext cx="1316160" cy="613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" name=""/>
              <p:cNvGrpSpPr/>
              <p:nvPr/>
            </p:nvGrpSpPr>
            <p:grpSpPr>
              <a:xfrm>
                <a:off x="3786120" y="2420640"/>
                <a:ext cx="1250640" cy="613440"/>
                <a:chOff x="3786120" y="2420640"/>
                <a:chExt cx="1250640" cy="61344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3851280" y="2420640"/>
                  <a:ext cx="1119960" cy="61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89072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veľká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89072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3786120" y="2420640"/>
                  <a:ext cx="1250640" cy="613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" name=""/>
              <p:cNvGrpSpPr/>
              <p:nvPr/>
            </p:nvGrpSpPr>
            <p:grpSpPr>
              <a:xfrm>
                <a:off x="5036760" y="2420640"/>
                <a:ext cx="1097280" cy="613440"/>
                <a:chOff x="5036760" y="2420640"/>
                <a:chExt cx="1097280" cy="613440"/>
              </a:xfrm>
            </p:grpSpPr>
            <p:sp>
              <p:nvSpPr>
                <p:cNvPr id="143" name=""/>
                <p:cNvSpPr/>
                <p:nvPr/>
              </p:nvSpPr>
              <p:spPr>
                <a:xfrm>
                  <a:off x="5101920" y="2420640"/>
                  <a:ext cx="966600" cy="61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89072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tredná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89072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036760" y="2420640"/>
                  <a:ext cx="1097280" cy="613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" name=""/>
              <p:cNvGrpSpPr/>
              <p:nvPr/>
            </p:nvGrpSpPr>
            <p:grpSpPr>
              <a:xfrm>
                <a:off x="6134400" y="2420640"/>
                <a:ext cx="1097280" cy="613440"/>
                <a:chOff x="6134400" y="2420640"/>
                <a:chExt cx="1097280" cy="61344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199560" y="2420640"/>
                  <a:ext cx="966240" cy="61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89072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alá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89072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134400" y="2420640"/>
                  <a:ext cx="1097280" cy="613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" name=""/>
              <p:cNvGrpSpPr/>
              <p:nvPr/>
            </p:nvGrpSpPr>
            <p:grpSpPr>
              <a:xfrm>
                <a:off x="7231680" y="2420640"/>
                <a:ext cx="1337400" cy="613440"/>
                <a:chOff x="7231680" y="2420640"/>
                <a:chExt cx="1337400" cy="61344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7296840" y="2420640"/>
                  <a:ext cx="1206360" cy="61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89072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alá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89072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231680" y="2420640"/>
                  <a:ext cx="1337400" cy="613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766440" y="3034440"/>
                <a:ext cx="1703520" cy="613800"/>
                <a:chOff x="766440" y="3034440"/>
                <a:chExt cx="1703520" cy="61380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766440" y="3034440"/>
                  <a:ext cx="1703520" cy="61380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3" name=""/>
                <p:cNvGrpSpPr/>
                <p:nvPr/>
              </p:nvGrpSpPr>
              <p:grpSpPr>
                <a:xfrm>
                  <a:off x="766440" y="3034440"/>
                  <a:ext cx="1703520" cy="613800"/>
                  <a:chOff x="766440" y="3034440"/>
                  <a:chExt cx="1703520" cy="613800"/>
                </a:xfrm>
              </p:grpSpPr>
              <p:sp>
                <p:nvSpPr>
                  <p:cNvPr id="154" name=""/>
                  <p:cNvSpPr/>
                  <p:nvPr/>
                </p:nvSpPr>
                <p:spPr>
                  <a:xfrm>
                    <a:off x="831600" y="3034440"/>
                    <a:ext cx="1572840" cy="61380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189072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sk-SK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pracnosť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189072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" name=""/>
                  <p:cNvSpPr/>
                  <p:nvPr/>
                </p:nvSpPr>
                <p:spPr>
                  <a:xfrm>
                    <a:off x="766440" y="3034440"/>
                    <a:ext cx="1703520" cy="613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56" name=""/>
              <p:cNvGrpSpPr/>
              <p:nvPr/>
            </p:nvGrpSpPr>
            <p:grpSpPr>
              <a:xfrm>
                <a:off x="2469960" y="3034440"/>
                <a:ext cx="1316160" cy="613800"/>
                <a:chOff x="2469960" y="3034440"/>
                <a:chExt cx="1316160" cy="61380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2535120" y="3034440"/>
                  <a:ext cx="1185480" cy="61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89072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alá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89072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2469960" y="3034440"/>
                  <a:ext cx="1316160" cy="613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786120" y="3034440"/>
                <a:ext cx="1250640" cy="613800"/>
                <a:chOff x="3786120" y="3034440"/>
                <a:chExt cx="1250640" cy="61380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851280" y="3034440"/>
                  <a:ext cx="1119960" cy="61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89072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alá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89072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786120" y="3034440"/>
                  <a:ext cx="1250640" cy="613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5036760" y="3034440"/>
                <a:ext cx="1097280" cy="613800"/>
                <a:chOff x="5036760" y="3034440"/>
                <a:chExt cx="1097280" cy="61380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5101920" y="3034440"/>
                  <a:ext cx="966600" cy="61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89072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tredná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89072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5036760" y="3034440"/>
                  <a:ext cx="1097280" cy="613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" name=""/>
              <p:cNvGrpSpPr/>
              <p:nvPr/>
            </p:nvGrpSpPr>
            <p:grpSpPr>
              <a:xfrm>
                <a:off x="6134400" y="3034440"/>
                <a:ext cx="1097280" cy="613800"/>
                <a:chOff x="6134400" y="3034440"/>
                <a:chExt cx="1097280" cy="61380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6199560" y="3034440"/>
                  <a:ext cx="966240" cy="61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89072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veľká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89072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6134400" y="3034440"/>
                  <a:ext cx="1097280" cy="613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" name=""/>
              <p:cNvGrpSpPr/>
              <p:nvPr/>
            </p:nvGrpSpPr>
            <p:grpSpPr>
              <a:xfrm>
                <a:off x="7231680" y="3034440"/>
                <a:ext cx="1337400" cy="613800"/>
                <a:chOff x="7231680" y="3034440"/>
                <a:chExt cx="1337400" cy="61380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7296840" y="3034440"/>
                  <a:ext cx="1206360" cy="61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89072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veľká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89072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7231680" y="3034440"/>
                  <a:ext cx="1337400" cy="613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" name=""/>
              <p:cNvGrpSpPr/>
              <p:nvPr/>
            </p:nvGrpSpPr>
            <p:grpSpPr>
              <a:xfrm>
                <a:off x="766440" y="3648240"/>
                <a:ext cx="1703520" cy="613440"/>
                <a:chOff x="766440" y="3648240"/>
                <a:chExt cx="1703520" cy="61344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766440" y="3648240"/>
                  <a:ext cx="1703520" cy="61344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3" name=""/>
                <p:cNvGrpSpPr/>
                <p:nvPr/>
              </p:nvGrpSpPr>
              <p:grpSpPr>
                <a:xfrm>
                  <a:off x="766440" y="3648240"/>
                  <a:ext cx="1703520" cy="613440"/>
                  <a:chOff x="766440" y="3648240"/>
                  <a:chExt cx="1703520" cy="613440"/>
                </a:xfrm>
              </p:grpSpPr>
              <p:sp>
                <p:nvSpPr>
                  <p:cNvPr id="174" name=""/>
                  <p:cNvSpPr/>
                  <p:nvPr/>
                </p:nvSpPr>
                <p:spPr>
                  <a:xfrm>
                    <a:off x="831600" y="3648240"/>
                    <a:ext cx="1572840" cy="61344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189072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sk-SK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presnosť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189072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" name=""/>
                  <p:cNvSpPr/>
                  <p:nvPr/>
                </p:nvSpPr>
                <p:spPr>
                  <a:xfrm>
                    <a:off x="766440" y="3648240"/>
                    <a:ext cx="1703520" cy="6134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76" name=""/>
              <p:cNvGrpSpPr/>
              <p:nvPr/>
            </p:nvGrpSpPr>
            <p:grpSpPr>
              <a:xfrm>
                <a:off x="2469960" y="3648240"/>
                <a:ext cx="1316160" cy="613440"/>
                <a:chOff x="2469960" y="3648240"/>
                <a:chExt cx="1316160" cy="613440"/>
              </a:xfrm>
            </p:grpSpPr>
            <p:sp>
              <p:nvSpPr>
                <p:cNvPr id="177" name=""/>
                <p:cNvSpPr/>
                <p:nvPr/>
              </p:nvSpPr>
              <p:spPr>
                <a:xfrm>
                  <a:off x="2535120" y="3648240"/>
                  <a:ext cx="1185480" cy="61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89072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alá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89072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2469960" y="3648240"/>
                  <a:ext cx="1316160" cy="613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9" name=""/>
              <p:cNvGrpSpPr/>
              <p:nvPr/>
            </p:nvGrpSpPr>
            <p:grpSpPr>
              <a:xfrm>
                <a:off x="3786120" y="3648240"/>
                <a:ext cx="1250640" cy="613440"/>
                <a:chOff x="3786120" y="3648240"/>
                <a:chExt cx="1250640" cy="613440"/>
              </a:xfrm>
            </p:grpSpPr>
            <p:sp>
              <p:nvSpPr>
                <p:cNvPr id="180" name=""/>
                <p:cNvSpPr/>
                <p:nvPr/>
              </p:nvSpPr>
              <p:spPr>
                <a:xfrm>
                  <a:off x="3851280" y="3648240"/>
                  <a:ext cx="1119960" cy="61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89072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alá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89072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3786120" y="3648240"/>
                  <a:ext cx="1250640" cy="613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" name=""/>
              <p:cNvGrpSpPr/>
              <p:nvPr/>
            </p:nvGrpSpPr>
            <p:grpSpPr>
              <a:xfrm>
                <a:off x="5036760" y="3648240"/>
                <a:ext cx="1097280" cy="613440"/>
                <a:chOff x="5036760" y="3648240"/>
                <a:chExt cx="1097280" cy="61344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5101920" y="3648240"/>
                  <a:ext cx="966600" cy="61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89072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tredná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89072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5036760" y="3648240"/>
                  <a:ext cx="1097280" cy="613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6134400" y="3648240"/>
                <a:ext cx="1097280" cy="613440"/>
                <a:chOff x="6134400" y="3648240"/>
                <a:chExt cx="1097280" cy="61344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6199560" y="3648240"/>
                  <a:ext cx="966240" cy="61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89072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veľká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89072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6134400" y="3648240"/>
                  <a:ext cx="1097280" cy="613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8" name=""/>
              <p:cNvGrpSpPr/>
              <p:nvPr/>
            </p:nvGrpSpPr>
            <p:grpSpPr>
              <a:xfrm>
                <a:off x="7231680" y="3648240"/>
                <a:ext cx="1337400" cy="613440"/>
                <a:chOff x="7231680" y="3648240"/>
                <a:chExt cx="1337400" cy="61344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7296840" y="3648240"/>
                  <a:ext cx="1206360" cy="61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89072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veľká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89072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7231680" y="3648240"/>
                  <a:ext cx="1337400" cy="613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1" name=""/>
              <p:cNvGrpSpPr/>
              <p:nvPr/>
            </p:nvGrpSpPr>
            <p:grpSpPr>
              <a:xfrm>
                <a:off x="766440" y="4262040"/>
                <a:ext cx="1703520" cy="827280"/>
                <a:chOff x="766440" y="4262040"/>
                <a:chExt cx="1703520" cy="827280"/>
              </a:xfrm>
            </p:grpSpPr>
            <p:sp>
              <p:nvSpPr>
                <p:cNvPr id="192" name=""/>
                <p:cNvSpPr/>
                <p:nvPr/>
              </p:nvSpPr>
              <p:spPr>
                <a:xfrm>
                  <a:off x="766440" y="4262040"/>
                  <a:ext cx="1703520" cy="82728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3" name=""/>
                <p:cNvGrpSpPr/>
                <p:nvPr/>
              </p:nvGrpSpPr>
              <p:grpSpPr>
                <a:xfrm>
                  <a:off x="766440" y="4262040"/>
                  <a:ext cx="1703520" cy="827280"/>
                  <a:chOff x="766440" y="4262040"/>
                  <a:chExt cx="1703520" cy="827280"/>
                </a:xfrm>
              </p:grpSpPr>
              <p:sp>
                <p:nvSpPr>
                  <p:cNvPr id="194" name=""/>
                  <p:cNvSpPr/>
                  <p:nvPr/>
                </p:nvSpPr>
                <p:spPr>
                  <a:xfrm>
                    <a:off x="831600" y="4262040"/>
                    <a:ext cx="1572840" cy="82728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189072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sk-SK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možnosti štat. spracovania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189072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" name=""/>
                  <p:cNvSpPr/>
                  <p:nvPr/>
                </p:nvSpPr>
                <p:spPr>
                  <a:xfrm>
                    <a:off x="766440" y="4262040"/>
                    <a:ext cx="1703520" cy="827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96" name=""/>
              <p:cNvGrpSpPr/>
              <p:nvPr/>
            </p:nvGrpSpPr>
            <p:grpSpPr>
              <a:xfrm>
                <a:off x="2469960" y="4262040"/>
                <a:ext cx="1316160" cy="827280"/>
                <a:chOff x="2469960" y="4262040"/>
                <a:chExt cx="1316160" cy="827280"/>
              </a:xfrm>
            </p:grpSpPr>
            <p:sp>
              <p:nvSpPr>
                <p:cNvPr id="197" name=""/>
                <p:cNvSpPr/>
                <p:nvPr/>
              </p:nvSpPr>
              <p:spPr>
                <a:xfrm>
                  <a:off x="2535120" y="4262040"/>
                  <a:ext cx="1185480" cy="82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89072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i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89072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2469960" y="4262040"/>
                  <a:ext cx="1316160" cy="82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9" name=""/>
              <p:cNvGrpSpPr/>
              <p:nvPr/>
            </p:nvGrpSpPr>
            <p:grpSpPr>
              <a:xfrm>
                <a:off x="3786120" y="4262040"/>
                <a:ext cx="1250640" cy="827280"/>
                <a:chOff x="3786120" y="4262040"/>
                <a:chExt cx="1250640" cy="827280"/>
              </a:xfrm>
            </p:grpSpPr>
            <p:sp>
              <p:nvSpPr>
                <p:cNvPr id="200" name=""/>
                <p:cNvSpPr/>
                <p:nvPr/>
              </p:nvSpPr>
              <p:spPr>
                <a:xfrm>
                  <a:off x="3851280" y="4262040"/>
                  <a:ext cx="1119960" cy="82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89072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000000"/>
                      </a:solidFill>
                      <a:latin typeface="Times New Roman"/>
                    </a:rPr>
                    <a:t>áno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89072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3786120" y="4262040"/>
                  <a:ext cx="1250640" cy="82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2" name=""/>
              <p:cNvGrpSpPr/>
              <p:nvPr/>
            </p:nvGrpSpPr>
            <p:grpSpPr>
              <a:xfrm>
                <a:off x="5036760" y="4262040"/>
                <a:ext cx="1097280" cy="827280"/>
                <a:chOff x="5036760" y="4262040"/>
                <a:chExt cx="1097280" cy="82728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5101920" y="4262040"/>
                  <a:ext cx="966600" cy="82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89072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áno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89072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5036760" y="4262040"/>
                  <a:ext cx="1097280" cy="82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5" name=""/>
              <p:cNvGrpSpPr/>
              <p:nvPr/>
            </p:nvGrpSpPr>
            <p:grpSpPr>
              <a:xfrm>
                <a:off x="6134400" y="4262040"/>
                <a:ext cx="1097280" cy="827280"/>
                <a:chOff x="6134400" y="4262040"/>
                <a:chExt cx="1097280" cy="827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6199560" y="4262040"/>
                  <a:ext cx="966240" cy="82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89072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áno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89072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6134400" y="4262040"/>
                  <a:ext cx="1097280" cy="82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8" name=""/>
              <p:cNvGrpSpPr/>
              <p:nvPr/>
            </p:nvGrpSpPr>
            <p:grpSpPr>
              <a:xfrm>
                <a:off x="7231680" y="4262040"/>
                <a:ext cx="1337400" cy="827280"/>
                <a:chOff x="7231680" y="4262040"/>
                <a:chExt cx="1337400" cy="827280"/>
              </a:xfrm>
            </p:grpSpPr>
            <p:sp>
              <p:nvSpPr>
                <p:cNvPr id="209" name=""/>
                <p:cNvSpPr/>
                <p:nvPr/>
              </p:nvSpPr>
              <p:spPr>
                <a:xfrm>
                  <a:off x="7296840" y="4262040"/>
                  <a:ext cx="1206360" cy="82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89072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áno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89072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7231680" y="4262040"/>
                  <a:ext cx="1337400" cy="82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766440" y="5089320"/>
                <a:ext cx="1703520" cy="827280"/>
                <a:chOff x="766440" y="5089320"/>
                <a:chExt cx="1703520" cy="827280"/>
              </a:xfrm>
            </p:grpSpPr>
            <p:sp>
              <p:nvSpPr>
                <p:cNvPr id="212" name=""/>
                <p:cNvSpPr/>
                <p:nvPr/>
              </p:nvSpPr>
              <p:spPr>
                <a:xfrm>
                  <a:off x="766440" y="5089320"/>
                  <a:ext cx="1703520" cy="82728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13" name=""/>
                <p:cNvGrpSpPr/>
                <p:nvPr/>
              </p:nvGrpSpPr>
              <p:grpSpPr>
                <a:xfrm>
                  <a:off x="766440" y="5089320"/>
                  <a:ext cx="1703520" cy="827280"/>
                  <a:chOff x="766440" y="5089320"/>
                  <a:chExt cx="1703520" cy="82728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831600" y="5089320"/>
                    <a:ext cx="1572840" cy="82728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189072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sk-SK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možnosť zachytenia artefaktov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189072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766440" y="5089320"/>
                    <a:ext cx="1703520" cy="827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16" name=""/>
              <p:cNvGrpSpPr/>
              <p:nvPr/>
            </p:nvGrpSpPr>
            <p:grpSpPr>
              <a:xfrm>
                <a:off x="2469960" y="5089320"/>
                <a:ext cx="1316160" cy="827280"/>
                <a:chOff x="2469960" y="5089320"/>
                <a:chExt cx="1316160" cy="827280"/>
              </a:xfrm>
            </p:grpSpPr>
            <p:sp>
              <p:nvSpPr>
                <p:cNvPr id="217" name=""/>
                <p:cNvSpPr/>
                <p:nvPr/>
              </p:nvSpPr>
              <p:spPr>
                <a:xfrm>
                  <a:off x="2535120" y="5089320"/>
                  <a:ext cx="1185480" cy="82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89072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alá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89072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2469960" y="5089320"/>
                  <a:ext cx="1316160" cy="82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3786120" y="5089320"/>
                <a:ext cx="1250640" cy="827280"/>
                <a:chOff x="3786120" y="5089320"/>
                <a:chExt cx="1250640" cy="827280"/>
              </a:xfrm>
            </p:grpSpPr>
            <p:sp>
              <p:nvSpPr>
                <p:cNvPr id="220" name=""/>
                <p:cNvSpPr/>
                <p:nvPr/>
              </p:nvSpPr>
              <p:spPr>
                <a:xfrm>
                  <a:off x="3851280" y="5089320"/>
                  <a:ext cx="1119960" cy="82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89072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alá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89072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3786120" y="5089320"/>
                  <a:ext cx="1250640" cy="82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2" name=""/>
              <p:cNvGrpSpPr/>
              <p:nvPr/>
            </p:nvGrpSpPr>
            <p:grpSpPr>
              <a:xfrm>
                <a:off x="5036760" y="5089320"/>
                <a:ext cx="1097280" cy="827280"/>
                <a:chOff x="5036760" y="5089320"/>
                <a:chExt cx="1097280" cy="82728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5101920" y="5089320"/>
                  <a:ext cx="966600" cy="82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89072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alá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89072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036760" y="5089320"/>
                  <a:ext cx="1097280" cy="82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5" name=""/>
              <p:cNvGrpSpPr/>
              <p:nvPr/>
            </p:nvGrpSpPr>
            <p:grpSpPr>
              <a:xfrm>
                <a:off x="6134400" y="5089320"/>
                <a:ext cx="1097280" cy="827280"/>
                <a:chOff x="6134400" y="5089320"/>
                <a:chExt cx="1097280" cy="82728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6199560" y="5089320"/>
                  <a:ext cx="966240" cy="82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89072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tredná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89072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6134400" y="5089320"/>
                  <a:ext cx="1097280" cy="82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7231680" y="5089320"/>
                <a:ext cx="1337400" cy="827280"/>
                <a:chOff x="7231680" y="5089320"/>
                <a:chExt cx="1337400" cy="82728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7296840" y="5089320"/>
                  <a:ext cx="1206360" cy="82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89072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veľká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89072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7231680" y="5089320"/>
                  <a:ext cx="1337400" cy="82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31" name=""/>
            <p:cNvSpPr/>
            <p:nvPr/>
          </p:nvSpPr>
          <p:spPr>
            <a:xfrm>
              <a:off x="762120" y="762120"/>
              <a:ext cx="7812000" cy="51591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831960" y="762120"/>
            <a:ext cx="183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Aké dáta zbierať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86120" y="1379520"/>
            <a:ext cx="1251000" cy="4537080"/>
          </a:xfrm>
          <a:prstGeom prst="rect">
            <a:avLst/>
          </a:prstGeom>
          <a:noFill/>
          <a:ln w="2844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1181160" y="1346040"/>
            <a:ext cx="6985080" cy="21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postavený na báze najväčšieho informačného systému v správe ŠOP/DAPH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mapovacie údaje je potrebné spresniť (hranice, homogénnejšie polygón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využiť údaje, ktoré budú prichádzať s AE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interval monitoringu by mal byť 5-ročný v ÚEV a 10-ročný pre ostatné loka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193400" y="673200"/>
            <a:ext cx="656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Čo očakávame od monitorovacieho systému pre nelesné biotopy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1T12:10:37Z</dcterms:created>
  <dc:creator>Ján Šeffer</dc:creator>
  <dc:description/>
  <dc:language>en-US</dc:language>
  <cp:lastModifiedBy>Guziova</cp:lastModifiedBy>
  <dcterms:modified xsi:type="dcterms:W3CDTF">2004-06-14T18:18:38Z</dcterms:modified>
  <cp:revision>41</cp:revision>
  <dc:subject/>
  <dc:title>Prezentace aplikace PowerPoint</dc:title>
</cp:coreProperties>
</file>