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64AC1-8F2C-40B1-A2EC-591D5FE0C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D6254-3F69-4CC2-88F6-B674C39D9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C8101-1E7F-4270-9BFF-4653753CF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94C5A-251C-4223-AAC1-7DDBD12D8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145A0-AE3F-4A45-A2C0-265D73526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A15D0-FCC1-4DDD-93AA-AF0F3FC1F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A7FD3-FC1F-48E4-B111-2C4032DF8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CE02B-1A2C-412E-9684-9A45EB542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5C143-0240-45C2-9D27-427995DB1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15583-0D0A-4FB0-A905-05CC18D56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05542-A37B-44CC-8AEC-28F92C08C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D8CE8-2B3F-4C28-819B-1E2CEE2CE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457D8-E2C4-40B0-A251-72CAA39E8800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5690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Arial"/>
              </a:rPr>
              <a:t>Metodika monitoringu vybraných druhov vtákov - poznámk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619280" y="5805360"/>
            <a:ext cx="6400800" cy="479520"/>
          </a:xfrm>
          <a:prstGeom prst="rect">
            <a:avLst/>
          </a:prstGeom>
          <a:solidFill>
            <a:srgbClr val="996600">
              <a:alpha val="55000"/>
            </a:srgbClr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Rastislav Rybanič, vedúci tímu pre vtá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000" spc="-1" strike="noStrike">
                <a:solidFill>
                  <a:srgbClr val="000000"/>
                </a:solidFill>
                <a:latin typeface="Arial"/>
              </a:rPr>
              <a:t>1. Rozsah monitoringu: KOĽKO, KEDY a KDE</a:t>
            </a: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24000" y="1628640"/>
            <a:ext cx="851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a) Výber populácie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Ohrozené, lokalizované, koloniálne druhy 100% populácie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Rozptýlené druhy – dbať na dostatočnú veľkosť vzor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b) Priestorov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Stratifikovaný výber vzoriek – plôch s dôrazom na CHVU, biogeografické regióny, pokrytie biotopov, Slovenska, dostupnosť mapovateľ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c) Časov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Hniezdne obdob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Zimné obdob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Migrácia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. Frekvencia monitoringu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AKO ČAS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8000" y="1484280"/>
            <a:ext cx="59864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álne ročná periodici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zdiel môže  byť pri monitorovaní niektorých parametr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rcRect l="20425" t="12265" r="3192" b="6574"/>
          <a:stretch/>
        </p:blipFill>
        <p:spPr>
          <a:xfrm>
            <a:off x="6877080" y="1708200"/>
            <a:ext cx="1982880" cy="13399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rcRect l="12382" t="0" r="11811" b="0"/>
          <a:stretch/>
        </p:blipFill>
        <p:spPr>
          <a:xfrm>
            <a:off x="6804000" y="5157720"/>
            <a:ext cx="2087640" cy="14367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rcRect l="0" t="6628" r="0" b="17861"/>
          <a:stretch/>
        </p:blipFill>
        <p:spPr>
          <a:xfrm>
            <a:off x="6877080" y="3357720"/>
            <a:ext cx="1835280" cy="15112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95280" y="2997360"/>
            <a:ext cx="619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3. Návrh monitorovaných ukazovateľov: Č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68360" y="4581360"/>
            <a:ext cx="5975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kritériá a subkritériá použité pri definovaní priaznivého stavu druhov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4. Návrh monitorovacej metódy a zberu dát</a:t>
            </a: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 Ak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02440" cy="31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Čo najviac využiť existujúce programy a aktivity monitorujúce vtáct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Ohrozené, lokalizované, koloniálne druhy – špeciálne metó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Rozptýlené druhy – bodový transekt, (mapovacia metóda, prípadne iná kompatibilná metód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Vodné zhromažďujúce sa dru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zimné sčítanie vodného vtáctva (pásová metód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metóda dvoch kontrol / hladinové sčítanie (hniezdne obdobi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6227640" y="4941720"/>
            <a:ext cx="2089440" cy="14320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900000" y="4941720"/>
            <a:ext cx="2016360" cy="14241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3564000" y="4941720"/>
            <a:ext cx="207792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785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5. Materiálne a personálne zabezpečenie monitoringu: ČÍ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24000" y="1601280"/>
            <a:ext cx="8424720" cy="43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Personálne zabezpečenie (počet sčítavateľov, odbornosť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Potreba školenia v použití metodík odborník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Výchova budúcich spolupracovník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Nároky na finančné zabezpečen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Centrálne koordinovanie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6. Vyhodnocovanie a kontrola údajov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341000"/>
            <a:ext cx="8686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entrálny zber, štandardizácia, verifikácia a spracovanie dá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dborný gara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nalytik, správca databáz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7. Testovanie navrhnutej metodiky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Je potrebné testovacie obdobie (okrem niektorých skupín) min. 1 r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000" spc="-1" strike="noStrike">
                <a:solidFill>
                  <a:srgbClr val="000000"/>
                </a:solidFill>
                <a:latin typeface="Arial"/>
              </a:rPr>
              <a:t>8. Manažmentové odporúčania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77868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Bližšia špecifikácia ?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5T01:08:36Z</dcterms:created>
  <dc:creator>Rastislav Rybanič</dc:creator>
  <dc:description/>
  <dc:language>en-US</dc:language>
  <cp:lastModifiedBy>Rastislav Rybanič</cp:lastModifiedBy>
  <dcterms:modified xsi:type="dcterms:W3CDTF">2004-11-16T10:56:58Z</dcterms:modified>
  <cp:revision>5</cp:revision>
  <dc:subject/>
  <dc:title>Metodika monitoringu vybraných druhov vtákov - poznámky</dc:title>
</cp:coreProperties>
</file>