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8DE-C7CF-45CE-8E46-4CA01D05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A41-AEB9-4870-A1DF-6EEEB3E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AC3-8943-4E18-BFA1-5EB1D57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D10-0C55-476D-8281-4C88086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7C8-9755-4A1E-856E-BFA8F2F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108-900E-4B91-BEC4-8195254D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B18-E88E-4CA3-BA1C-7D159517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F19-78FA-47EA-8035-61355901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840-49CF-4462-8E62-586201B8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AC0-CCE1-4FF1-8DB7-34C0BFCE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523-2C8F-4071-B39E-28FBBEC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EA0-540D-42D6-8C94-55DDD4A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D7F-0FE2-474A-92CB-092150B964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210564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Hodnotenie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tavu zachovania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 a 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160" y="5113440"/>
            <a:ext cx="7162920" cy="9169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ATURA 2000 IN SLOVAKIA – BRIDGING </a:t>
            </a:r>
            <a:br>
              <a:rPr sz="1800"/>
            </a:b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Working 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9000" y="409680"/>
            <a:ext cx="62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dnotenie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u zachovani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esných biotopo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1371600"/>
            <a:ext cx="76579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odnotili sme 59 typov a subtypov biotopov podľa Katalógu biotopov Slovenska a 40 podľa H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kovo bolo spracovaných 17 992 lokalít, kde boli identifikované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hodnotili sme skalné a sutinové biotopy, ktoré vyžadovali prepracovanie ich koncep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Je to prvé priblíženie, v ktorom sme neaplikovali všetky hodnotiace kritéri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860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838080"/>
          <a:ext cx="91440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333880" y="24120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íklad hodnotenia stavu zach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5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6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6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6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7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7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7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User</cp:lastModifiedBy>
  <dcterms:modified xsi:type="dcterms:W3CDTF">2004-11-16T14:24:53Z</dcterms:modified>
  <cp:revision>68</cp:revision>
  <dc:subject/>
  <dc:title>Prezentace aplikace PowerPoint</dc:title>
</cp:coreProperties>
</file>