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017-74E8-4A51-B939-0AD16268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90F-85B4-4508-A606-AD229B55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493-C6CB-4A14-9AF4-B9772D6E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CD2-C88A-4B32-B87C-E4390D18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D23-3BB8-46AF-A730-2756252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81B-91E8-470B-A1F6-1C318AE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A50-B47A-47DB-BF35-DBC4799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90E-7047-4C3A-8E0C-D40B21F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FA7-4A1F-436A-AF1F-4E28167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E0A-5F91-47DC-BC09-DDCBDEF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E63-8571-4ADB-96C5-00233AD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576-DA33-442E-A804-7E1CCB1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3B8-B99E-4F0F-A234-CE2F7F21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ieľe monitoro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chceme dosiahnu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o sledovať či sú vtáky v priaznivom stave a či a ako na ich stav pôsobia prijaté manažmentové 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majú získané údaje a výstupy slúži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spracovanie početností populácií, ich zmien a trendov (vrátane areálový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posúdenie odozvy populácií n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pokrytia populá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98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vzácnych, ohrozených a  koloniálnych druhoch sa dajú monitorovať celé populácie (orol kráľovský, rybár rieč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berové metódy sa použijú pri rozptýlených druhoch (lesné spevavce, druhy otvorenej krajiny, ďatlov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zhromažďujúcich sa druhoch (vodné vtáky) sa uskutoční monitoring vybraných území (sčítanie vodného vtác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výberu metó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ornitológia je vybavená odskúšanými kvantitatívnymi metó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ódy monitoringu vtákov musia byť  jednoducho a rýchlo vykonate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olené metódy musia byť navzájom porovnateľné med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ázky výberu monitorovaných lokalí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hodný / stratifikovaný vý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onitorovanie lokalít v rámci i mimo území Natura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všetkých biogeografických častí Sloven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ber a spracovanie d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ber dát – najlepšie v elektronickej pod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rifikácia dát a ich zhromažďovanie v data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spracovanie dát ich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ätná väzba doručenie výstupov sčítavateľom a správcom jednotlivých území, resp. príslušným pracoviskám ŠOP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o</cp:lastModifiedBy>
  <dcterms:modified xsi:type="dcterms:W3CDTF">2004-11-15T10:20:24Z</dcterms:modified>
  <cp:revision>3</cp:revision>
  <dc:subject/>
  <dc:title>Metodika monitoringu vybraných druhov vtákov - poznámky</dc:title>
</cp:coreProperties>
</file>