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300-8F7C-4CC6-B3D2-75B1E202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EB1-5C0F-4B78-8EC5-EB04EC66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849-5DAD-4BA7-9D60-EB8FB0E7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1BE-8CD7-4F24-AB99-159B946A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A94-D3FC-4486-9295-A05DD9A0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919-712B-44F2-82C3-173E4485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753-463A-4D0A-8263-C257B795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9A3-AF61-4F33-BDF1-FC9EA683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F68-CD04-44FB-AC1F-ADB71AB4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86E-C9B5-4B08-BCA4-2DB805A1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C84-7A17-43EB-9E93-728A1FC6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5D1-CB57-4F6E-84A2-4CB02D63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B19F-305D-4AD6-B986-0F8DA13BA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8040" y="1312920"/>
            <a:ext cx="778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Rámcový menežment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Natura 2000</a:t>
            </a: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4869000"/>
            <a:ext cx="537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utori:  Ivor Rizman, Pavol Polák, Tomáš Draž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 ostatní členovia WG lesné biot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Bratislava 15.XI.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2205000"/>
            <a:ext cx="8137440" cy="265428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Nešíriť geograficky nepôvodné druhy drevín. Pri výchove a obnove lesných porastov prednostne odstraňovať geograficky nepôvodné druhy dreví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Do lesných porastov vnášať chýbajúce dreviny prirodzenej druhovej sklad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melú obnovu lesných porastov používať len v nevyhnutných prípad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844640"/>
            <a:ext cx="8137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prednostňovať členitejšiu priestorovú výstavbu lesných poras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držiavať a zlepšovať vekovú diferencovanosť les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6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 hospodárení v lesných porastoch dbať na prítomnosť mŕtveho dreva napr. ponechaním niekoľkých dutinových stromov z prirodzenej druhovej skladby na dožitie a následne ponechať na mieste až do úplného rozpadu drevnej hm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844640"/>
            <a:ext cx="8137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7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mladkové porasty (nízky les – vegetatívne pestovaný) je potrebné prebudovávať na porasty vysokého tvaru l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8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 obhospodarovaní lesných porastov používať jemnejšie spôsoby hospodárenia. Nepoužívať ťažké, hlučné mechanizmy. Využívať ekologicky nezávadné rozložiteľné materiály a chemické lát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9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držiavať diverzitu mikrostanovíšť (čistinky, prameniská, brehy tokov, výstupy materskej horniny, mokr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1844640"/>
            <a:ext cx="8137440" cy="448308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0)Zabraňovať prenikaniu inváznych druhov (dbať o posilnenie ekologickej stability brehových porastov, včas odstraňovať ohniská výskytu inváznych druh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bezpečovať ochranu voči vonkajším škodlivým faktorom (zapláštené okraje oproti narušeným ekosystémom, likvidácia skládok, vytváranie prechodných zó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chovávať a podporovať obnovu prirodzených podmienok prostredia nevyhnutných pre existenciu daného biotopu (vodný režim, pastva požadovanej intenzity, udržiavanie medzernatého zápoja  a 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260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844640"/>
            <a:ext cx="8137440" cy="4848840"/>
          </a:xfrm>
          <a:prstGeom prst="rect">
            <a:avLst/>
          </a:prstGeom>
          <a:solidFill>
            <a:srgbClr val="0000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3)Podporovať tradičné formy hospodárenia na okolitých poľnohospodárskych pozemkoch (pokiaľ ich  udržanie alebo rozvoj nevyžaduje nevhodné zásahy do lesných ekosystém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4)Vytvárať bezzásahové zóny v lesoch s cieľom podporiť biodiverzitu a prežitie vzácnych a ohrozených druhov rastlín a živočíchov (extrémne alebo vzdialené stanovištia, stanovištia s výskytom vzácnych  a ohrozených druh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5)Zabezpečiť informovanie verejnosti o dôležitosti zlepšovania stavu a udržania priaznivého stavu lesných bioto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356000" y="3490920"/>
            <a:ext cx="4788000" cy="336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7920" y="3375000"/>
            <a:ext cx="4651200" cy="348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-6480"/>
            <a:ext cx="4651200" cy="348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651200" cy="3489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9080" y="623736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10 Luzulo-Fagetum beech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3440" y="2924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30 Asperulo-Fagetum beech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4560" y="6093000"/>
            <a:ext cx="39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40 Subalpine beech wood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cer and Rumex arifo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57400" y="2852640"/>
            <a:ext cx="43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50 Medio-European limes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beech forests (Cefaphanthero-Fagion)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34840"/>
            <a:ext cx="8642160" cy="55825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9900"/>
                </a:solidFill>
                <a:latin typeface="Arial"/>
              </a:rPr>
              <a:t>Ohrozenie biotopov bu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Arial"/>
              </a:rPr>
              <a:t>Biotopy bukových lesov nie sú ohrozené ako celok pre pomerne veľkú výmeru, ktorú zaberajú a vysoký zmladzovací potenciál buka, hlavne na juh od hranice rozdeľujúcej územie Slovenska na územie so zreteľným vplyvom klímy od stredozemného mora a územie ovplyvňované klímou od Baltického a Severného mora (Zlatník 1958). Ohrozený je biotop 9140, kde je tento potenciál menší a ostatné oblasti Slovenska na severe. Tu dochádzalo a v menšej miere stále dochádza, podstatne rýchlejšie k ich premene na porasty s vyšším zastúpením ekonomických drevín (sm, bo, sc). Časť porastov je výmladkového charakteru, prevažne však nepravých kmeňovín, pri obnove ktorých nedochádza k podstatnejším odchýlkam ako u semenných porastov. U výmladkových porastov vyšších generácií v minulosti dochádzalo k priamym prevodom s podstatnou zmenou skladby drevín v neprospech buka. Dnes je tento trend už výrazne spomalený nezáujmom vlastníkov o nákladné prevody. V niektorých oblastiach dostatočnej obnove buka zabraňujú vysoké stavy raticovej zvery, ktoré aj takmer úplne decimujú pôvodnú prímes jedle, miestami aj vzácneho tisa v týchto porastoch.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641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ovnanie pravdepodobných prípadov základných rozhodnutí, podľa kategórie lesa a SOP a ich vhodnosti z hľadiska stavu A,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2205000"/>
          <a:ext cx="8732880" cy="4103640"/>
        </p:xfrm>
        <a:graphic>
          <a:graphicData uri="http://schemas.openxmlformats.org/drawingml/2006/table">
            <a:tbl>
              <a:tblPr/>
              <a:tblGrid>
                <a:gridCol w="1101960"/>
                <a:gridCol w="960480"/>
                <a:gridCol w="1279440"/>
                <a:gridCol w="1023840"/>
                <a:gridCol w="828720"/>
                <a:gridCol w="1122480"/>
                <a:gridCol w="1265040"/>
                <a:gridCol w="115092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ís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peň ochrany prír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bná d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novná d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 hospod. spôso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hodnosť z hľadiska FCS „A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hodnosť z hľadiska FCS „B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d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-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30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d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176840"/>
            <a:ext cx="82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hľad základných rozhodnutí pre stav C a 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2060640"/>
          <a:ext cx="8206920" cy="4247280"/>
        </p:xfrm>
        <a:graphic>
          <a:graphicData uri="http://schemas.openxmlformats.org/drawingml/2006/table">
            <a:tbl>
              <a:tblPr/>
              <a:tblGrid>
                <a:gridCol w="1274400"/>
                <a:gridCol w="1112400"/>
                <a:gridCol w="1479600"/>
                <a:gridCol w="1183680"/>
                <a:gridCol w="1183680"/>
                <a:gridCol w="1973160"/>
              </a:tblGrid>
              <a:tr h="100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ísm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peň ochrany prír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bná do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novná do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 hospod. spôsob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, HP (M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-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, HP (MH) a v 4. S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H vylúče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200" y="619920"/>
            <a:ext cx="81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áhy jednotlivých indikátorov pre stanovenie FCS biotopov bu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981000"/>
          <a:ext cx="8748720" cy="5692680"/>
        </p:xfrm>
        <a:graphic>
          <a:graphicData uri="http://schemas.openxmlformats.org/drawingml/2006/table">
            <a:tbl>
              <a:tblPr/>
              <a:tblGrid>
                <a:gridCol w="2554200"/>
                <a:gridCol w="1354320"/>
                <a:gridCol w="2876400"/>
                <a:gridCol w="1693800"/>
                <a:gridCol w="2700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é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ha kritéri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ká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ha indikát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ické druhy bioto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 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 strom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liny a k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truktúra lesného bioto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ková štruktú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mlade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estorová štruktú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ubé str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ŕtve dre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ívne vply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- 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dravotný st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ršie priestorové súvisl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1052640"/>
            <a:ext cx="7704000" cy="58140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Ciele menežmentu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205000"/>
            <a:ext cx="7705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Cieľom menežmentu biotopov (Natura 2000) je a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výmera biotopu bola stabilná (prinajmenšom neklesala), prípadne sa zvyšov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 jeho typických druhov bol priaznivý (nezhoršoval sa), prípadne sa zlepš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štruktúra a funkcie biotopu boli zach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-1080"/>
            <a:ext cx="88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abuľka úprav doterajšieho tradičného obhospodarovania biotopov bukových lesov od platných modelov hospodár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56240" y="185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784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4212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42120" y="2341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3680" y="523800"/>
          <a:ext cx="8893080" cy="6334200"/>
        </p:xfrm>
        <a:graphic>
          <a:graphicData uri="http://schemas.openxmlformats.org/drawingml/2006/table">
            <a:tbl>
              <a:tblPr/>
              <a:tblGrid>
                <a:gridCol w="1216080"/>
                <a:gridCol w="1630080"/>
                <a:gridCol w="1333800"/>
                <a:gridCol w="1382400"/>
                <a:gridCol w="1616400"/>
                <a:gridCol w="857160"/>
                <a:gridCol w="85716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menežmen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tr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vourable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favourable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habit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žanie doterajšieho F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rubná dob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fyzický v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obnovná dob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etržit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jextenzívnejší hospod. spôso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z zásahu prípadne účelový vý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H len pre časti so zmeneným dr. zlo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ľkosť obnovných prvk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hlúči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medzenia obnovy porastov ak by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o v rámci hodnoteného polygónu dôjsť k poklesu výmer starších ARS pod hranicu stanovenú pre daný FCS Viď tabuľky F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a poras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žanie dostatočne diferencovanej štruktúry pre daný FCS, odstraňovanie nežiadúcich prímesí a inváznych dreví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hospodarovanie výmladkových porastov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doterajších postupov. 1. a 2. generácia prevod výchovou a obnova ako u semenných porastov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šie generácie – priamy prevod s naliehavosťou podľa kvality porastu, spravidla vo veku, keď sa stráca výmladnosť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é opatr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ď tiež spoločné pre všetky biotop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najlepších prípadoch zmeniť SOP na 5 pre zabezpečenie bezzás. reži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nechanie časti hmoty hrubších a časti živých hrubých a cenných stromov v počtoch spĺňajúcich limit pre daný stav podľa možnosti v pravidelnom rozmiestnení. Viď tabuľky FC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-1080"/>
            <a:ext cx="88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abuľka úprav doterajšieho tradičného obhospodarovania biotopov bukových lesov od platných modelov hospodár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185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5784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4212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42120" y="2341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63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1624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16240" y="26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7920" y="285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7920" y="32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62600" y="32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549360"/>
          <a:ext cx="8713800" cy="6222960"/>
        </p:xfrm>
        <a:graphic>
          <a:graphicData uri="http://schemas.openxmlformats.org/drawingml/2006/table">
            <a:tbl>
              <a:tblPr/>
              <a:tblGrid>
                <a:gridCol w="1050840"/>
                <a:gridCol w="1476360"/>
                <a:gridCol w="487440"/>
                <a:gridCol w="1861920"/>
                <a:gridCol w="2275200"/>
                <a:gridCol w="487080"/>
                <a:gridCol w="1074960"/>
              </a:tblGrid>
              <a:tr h="365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menežmen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tr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vourable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favourable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habi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lepšenie FCS o jeden stupe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úprava rubnej do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 hospod.  lesoch + 20 oproti  mode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 prípadne mierne zvýši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prava obnovnej do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 hospod.  lesoch + 20 oproti  mode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 prípadne mierne zvýši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podársky spôs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 -  postupne prechod k UV a bezzásahovému reži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e obmedziť a neskôr v najpriaznivejších prípadoch úplne vylúčiť M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ľkosť obnovných prvk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é zmenšovanie až na úroveň hlúč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é zmenšovanie od súčasného stav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zásahov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iahnutie štruktúry pre stav o stupeň vyššieho FCS, umiestnenie zásahov hlavne do častí s nevhodnou štruktúrou alebo drevinovou skladbou. Postupné likvidovanie prímesí ekonomických drevín (sm, sc, bo). Dôsledná likvidácia inváznych drev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a porast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lepšovanie diferenciácie štruktúry pre dosiahnutie stavu o stupeň lepšieho FCS. Postupné likvidovanie ekonomických prímesí drevín (sm, sc, bo) a dôsledná likvidácia inváznych drevín v čo najmladších vývojových fázach porast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71640" y="2492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9900"/>
                </a:solidFill>
                <a:latin typeface="Arial"/>
              </a:rPr>
              <a:t>Ďakujem 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26828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Bežné obhospodarovanie lesných porastov – súčasný menežment,  legislatíva na úseku 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vinnosť hospodáriť podľ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492280"/>
            <a:ext cx="77054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väzné ukazovatele LHP pre jednotku priestorového rozdelenia l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ška ťažby (neprekročiteľnosť nad 50 rok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Hospodársky spôsob a jeho forma (odborný lesný hospodár môže zjemni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novné zastúpenie hlavných drevín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±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  <a:ea typeface="Arial"/>
              </a:rPr>
              <a:t> 3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chova do 50 rokov (prerezávky, prebier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060640"/>
            <a:ext cx="77054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statné obmedzenia vyplývajúce z legislatívy na úseku LH a ochrany prír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chrana LP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nižovanie zakmenenia p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eľkosti obnovných prvkov, vzdialenosti východí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medzenie holorubného hospodárskeho spôsobu z lesného zákona a zákona o ochrane prírody (od SOP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kaz akejkoľvek činnosti v 5. S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vinnosti v ochrane lesa súvisiace s mŕtvym drev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060640"/>
            <a:ext cx="770544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stup vyhotoveni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eskum ekológie 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žiadavky dotknutých orgánov (ŠOP, vodári a p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Rámcové plánovanie modely hospodár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sady vyhotoveni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drobné plánovanie – popis porastov plán hospodársk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ejednanie pokynov so zainteresovanými stra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chválenie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2060640"/>
            <a:ext cx="770544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Rámcové plánovanie – modely hospodárenia, zásady hospodár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Modely hospodárenia kľúčovo ovplyvňuj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šku ťažby stanovením rubných a obnovných dôb, použitie hospodárskych spôsob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novné drevinové zlož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Cieľové drevinové zlož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±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  <a:ea typeface="Arial"/>
              </a:rPr>
              <a:t> z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áväznosť pre vyhotoviteľov LHP, jednotnosť modelov pre väčšie územné celky, zásadný význam pre ovplyvnenie hospodárenia v les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55736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2. Všetky biotopy budú mať stanovený FCS podľa jednotných kritérií (Hodnotiace tabuľky biotopov, systém kritérií a indikátorov FCS, kvantifikácia pomocou kvantifikátorov) a budú zaradené do niektorého zo stavov A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26028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55736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2. Všetky biotopy budú mať stanovený FCS podľa jednotných kritérií a budú zaradené do niektorého zo stavov A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1773360"/>
            <a:ext cx="7705800" cy="41173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 biotop v stave A, považujeme taký biotop, ktorý sa všetkými svojimi znakmi blíži k prírodnému lesu (les pralesovitého vzhľadu so stopami ľudskej činnosti) a je schopný ďalšej existencie bez výraznej pomoci človeka. Jedná sa o najcennejšie zachovalé ukážky daného biotopu, spravidla už v dnešnej dobe chránené najvyššími stupňami ochrany prírody alebo zaradené do kategórie lesov ochranných. Existujú však aj porasty, ktoré takto zaradené nie sú a bolo by vhodné ich zachovať).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220500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 B sa dá vyjadriť termínom prirodzený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(les vhodnej drevinovej skladby s pozmenenou štruktúrou oproti praleso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044720" y="-963720"/>
            <a:ext cx="10701360" cy="802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393372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: les s čiastočne pozmenenou skladbou drevín, pozmenou štruktúrou, alebo narušeným zdravotným stavom, vplyvom  okolia a podob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nf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C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3933720"/>
            <a:ext cx="7705800" cy="19227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Nejedná sa o biotop Natura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Potenciálne, vďaka obhospodarovaniu podľa platných modelov hospodárenia – teda bežným hospodárením môže postupne biotop vzniknúť – potenciálny bio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No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268280"/>
            <a:ext cx="77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3. Odchýlka od súčasného modelu hospodárenia (bežného hospodárenia) bude základom pre systém stanovenia menežmentu v lesných biotopo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2708280"/>
            <a:ext cx="77058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Stanovovať sa bude osobitne pre každý FCS (A-D, (E)) s definovaním predpokladaného (doterajšieho, tradičného) obhospodarovania a odchýliek pre udržanie, prípadne zlepšovanie o jeden F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s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Aby mohlo dôjsť k prechodu z horšieho do lepšieho stavu biotopu, je potrebné v prvom rade menežmentom (zásahom) ovplyvniť tú vlastnosť biotopu, ktorá najväčšou mierou (váhou) ovplyvňuje jeho zaradenie do horšieho stav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0:54:38Z</dcterms:created>
  <dc:creator>Rizman</dc:creator>
  <dc:description/>
  <dc:language>en-US</dc:language>
  <cp:lastModifiedBy>Rizman</cp:lastModifiedBy>
  <dcterms:modified xsi:type="dcterms:W3CDTF">2004-11-12T09:28:22Z</dcterms:modified>
  <cp:revision>42</cp:revision>
  <dc:subject/>
  <dc:title>Snímka 1</dc:title>
</cp:coreProperties>
</file>