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9B1-6797-49C0-AABA-A0CC0CC5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1E0D-FF50-45A0-B6E8-690E3D8A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A6E-DEEA-4DC5-9D83-54FAD9B6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0EE7-480B-49E3-A652-1F66F822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1D8E-E9FA-4E31-A1CC-A70838CE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440" y="1519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E4E-6CB7-4FE1-B441-7CA6A408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699-D9E5-455E-8C15-2F136DA3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975A-1CD1-44F8-AF0A-55F44206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DF7-5D68-4A74-86E0-7E67541D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3BA-6045-435F-85CB-37DF4257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88C-CB96-43CB-AA93-21BD2303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E4F4-83B9-4A1F-81C2-07F5DA9B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440" y="1519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721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BE97-538A-4A28-94F3-C61D7853D008}" type="datetime">
              <a:rPr b="0" lang="en-CA" sz="1400" spc="-1" strike="noStrike">
                <a:solidFill>
                  <a:srgbClr val="5e574e"/>
                </a:solidFill>
                <a:latin typeface="Arial"/>
              </a:rPr>
              <a:t>26-07-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C674-9B9F-436E-A8E3-8BCB73E23837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721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Návrh metodiky monitoringu</a:t>
            </a: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Netopie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P7080017a" descr=""/>
          <p:cNvPicPr/>
          <p:nvPr/>
        </p:nvPicPr>
        <p:blipFill>
          <a:blip r:embed="rId1"/>
          <a:stretch/>
        </p:blipFill>
        <p:spPr>
          <a:xfrm>
            <a:off x="3124080" y="234324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80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Uchaňa čierna (</a:t>
            </a:r>
            <a:r>
              <a:rPr b="0" i="1" lang="sk-SK" sz="2800" spc="-1" strike="noStrike">
                <a:solidFill>
                  <a:srgbClr val="000000"/>
                </a:solidFill>
                <a:latin typeface="Arial Black"/>
              </a:rPr>
              <a:t>Barbastella barbastellus</a:t>
            </a: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y a podzemné úkry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80182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Netopier obyčajný (</a:t>
            </a:r>
            <a:r>
              <a:rPr b="0" i="1" lang="sk-SK" sz="2800" spc="-1" strike="noStrike">
                <a:solidFill>
                  <a:srgbClr val="000000"/>
                </a:solidFill>
                <a:latin typeface="Arial Black"/>
              </a:rPr>
              <a:t>Myotis myotis</a:t>
            </a: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dkrovia a podzemné úkry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80182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Raniak malý (</a:t>
            </a:r>
            <a:r>
              <a:rPr b="0" i="1" lang="sk-SK" sz="2800" spc="-1" strike="noStrike">
                <a:solidFill>
                  <a:srgbClr val="000000"/>
                </a:solidFill>
                <a:latin typeface="Arial Black"/>
              </a:rPr>
              <a:t>Nyctalus leisleri</a:t>
            </a: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801828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Časový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 harmono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79250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dhadované náklad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42924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4T12:09:35Z</dcterms:created>
  <dc:creator>PC</dc:creator>
  <dc:description/>
  <dc:language>en-US</dc:language>
  <cp:lastModifiedBy>PC</cp:lastModifiedBy>
  <dcterms:modified xsi:type="dcterms:W3CDTF">2004-11-14T17:08:38Z</dcterms:modified>
  <cp:revision>8</cp:revision>
  <dc:subject/>
  <dc:title>Návrh metodiky monitoringu - netopiere</dc:title>
</cp:coreProperties>
</file>