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8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9051588" cy="152384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26C-DA0E-44ED-9A9C-6606A4BB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9920" y="917820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27C-C58A-4A81-BA4C-F7F93FC4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72540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CF5-1D85-47C5-A957-96F862F7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037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3775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99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9037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3775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B60-158F-4472-A69C-6A3F35AD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4FE-EC9F-4137-876B-15A83233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41C-7FA9-4F66-8F92-ED40B3C5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BC1-8347-4A3F-BC30-E60FBA0E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BE4-0C88-448E-8DC6-0BE8B156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920" y="1353960"/>
            <a:ext cx="1618956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15D-4BCA-43C5-886E-1EA092C9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031-04F6-4A7A-80B9-752A36E2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2540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37A-9359-473A-BB13-C3FF6A6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9D8-E68F-4757-802C-7582155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5560" indent="-4622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816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3" marL="257184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30280" y="13885920"/>
            <a:ext cx="396864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07000" y="13885920"/>
            <a:ext cx="603576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650480" y="13885920"/>
            <a:ext cx="396900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 algn="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fld id="{A9168A29-D6A3-49AF-8063-B2447523C3EB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" descr=""/>
          <p:cNvPicPr/>
          <p:nvPr/>
        </p:nvPicPr>
        <p:blipFill>
          <a:blip r:embed="rId1"/>
          <a:stretch/>
        </p:blipFill>
        <p:spPr>
          <a:xfrm>
            <a:off x="0" y="0"/>
            <a:ext cx="19050120" cy="1523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1840" y="2440080"/>
            <a:ext cx="174196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sk-SK" sz="7500" spc="-1" strike="noStrike">
                <a:solidFill>
                  <a:srgbClr val="ffff00"/>
                </a:solidFill>
                <a:latin typeface="Times New Roman"/>
              </a:rPr>
              <a:t>Zhodnotenie dopadov vyhlásenia lesných území za lokality NATURA 2000 s ohľadom na menežmentové a ekonomické aspekty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29320" y="8431200"/>
            <a:ext cx="68468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sk-SK" sz="6800" spc="-1" strike="noStrike">
                <a:solidFill>
                  <a:srgbClr val="ff3300"/>
                </a:solidFill>
                <a:latin typeface="Times New Roman"/>
              </a:rPr>
              <a:t>NATURA 2000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70720" y="11761920"/>
            <a:ext cx="310680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sk-SK" sz="4900" spc="-1" strike="noStrike">
                <a:solidFill>
                  <a:srgbClr val="ffffff"/>
                </a:solidFill>
                <a:latin typeface="Times New Roman"/>
              </a:rPr>
              <a:t>11/200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sk-SK" sz="4900" spc="-1" strike="noStrike">
                <a:solidFill>
                  <a:srgbClr val="ffffff"/>
                </a:solidFill>
                <a:latin typeface="Times New Roman"/>
              </a:rPr>
              <a:t>Ing. Vala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65120" y="1251000"/>
          <a:ext cx="16665840" cy="1283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251000"/>
                    <a:ext cx="16665840" cy="128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55800" y="639720"/>
          <a:ext cx="16994160" cy="1379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639720"/>
                    <a:ext cx="16994160" cy="137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38360" y="711360"/>
          <a:ext cx="15760800" cy="1452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711360"/>
                    <a:ext cx="15760800" cy="145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46120" y="1176480"/>
          <a:ext cx="17961120" cy="1276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176480"/>
                    <a:ext cx="17961120" cy="127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63480" y="1211400"/>
          <a:ext cx="17749800" cy="1272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211400"/>
                    <a:ext cx="17749800" cy="127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90600" y="833400"/>
          <a:ext cx="16484760" cy="135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833400"/>
                    <a:ext cx="16484760" cy="135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863640" y="717480"/>
          <a:ext cx="17381520" cy="1361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717480"/>
                    <a:ext cx="17381520" cy="136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432080" y="0"/>
          <a:ext cx="16486200" cy="146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16486200" cy="146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77920" y="738360"/>
          <a:ext cx="17384760" cy="1339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738360"/>
                    <a:ext cx="17384760" cy="133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4080" y="5908680"/>
            <a:ext cx="1619064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1" i="1" lang="sk-SK" sz="7100" spc="-1" strike="noStrike">
                <a:solidFill>
                  <a:srgbClr val="000000"/>
                </a:solidFill>
                <a:latin typeface="Times New Roman"/>
              </a:rPr>
              <a:t>Ďakujem za pozornosť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46200" y="1717560"/>
          <a:ext cx="14157360" cy="1146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6200" y="1717560"/>
                    <a:ext cx="14157360" cy="114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19120" y="1353960"/>
          <a:ext cx="16073640" cy="81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1353960"/>
                    <a:ext cx="16073640" cy="81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8040" y="7513560"/>
          <a:ext cx="1732752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7513560"/>
                    <a:ext cx="17327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1666800"/>
          <a:ext cx="16968600" cy="1218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666800"/>
                    <a:ext cx="16968600" cy="121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25360" y="896760"/>
          <a:ext cx="16683120" cy="1282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6760"/>
                    <a:ext cx="16683120" cy="128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31920" y="7408800"/>
          <a:ext cx="16167240" cy="115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7408800"/>
                    <a:ext cx="161672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43200" y="1025640"/>
          <a:ext cx="14739840" cy="1286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1025640"/>
                    <a:ext cx="14739840" cy="128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0120" y="831960"/>
          <a:ext cx="17451360" cy="1356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831960"/>
                    <a:ext cx="17451360" cy="135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06:34:44Z</dcterms:created>
  <dc:creator>Ing. Ivan Laučík</dc:creator>
  <dc:description/>
  <dc:language>en-US</dc:language>
  <cp:lastModifiedBy>Ing. Bortel</cp:lastModifiedBy>
  <dcterms:modified xsi:type="dcterms:W3CDTF">2004-11-12T12:17:44Z</dcterms:modified>
  <cp:revision>91</cp:revision>
  <dc:subject/>
  <dc:title>Prezentácia</dc:title>
</cp:coreProperties>
</file>