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B5D-CF89-46A2-A4CF-70C2186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95F-CB7D-430E-9DA2-BAB0FF0D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7A9-DCF6-4E9C-8A2A-7B701B76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90C-34AC-45B7-B5A1-A8DDF903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9D6-DFC0-49D4-A92D-37AD418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B23-121D-4E2E-81AB-5FDD40A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260-31E1-477E-920A-5173B8E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97C-16A0-467A-AB5E-77B2604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DA8-9EE7-4271-A600-40E4D74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930-E807-45C6-A0DA-DB62A8A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3B7-1366-495A-9011-03C9E63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380-520C-46A8-B8D3-853C14D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CDC1-2927-4589-B250-67D4EE9E2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19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ing - cicavce (Mammalia)</a:t>
            </a:r>
            <a:br>
              <a:rPr sz="3600"/>
            </a:br>
            <a:br>
              <a:rPr sz="2800"/>
            </a:br>
            <a:r>
              <a:rPr b="0" i="1" lang="sk-SK" sz="2600" spc="-1" strike="noStrike">
                <a:solidFill>
                  <a:srgbClr val="ffff00"/>
                </a:solidFill>
                <a:latin typeface="Arial"/>
              </a:rPr>
              <a:t>Návrh pre stredne veľké a veľké druh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dolf KROP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nícka fak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dra ochrany lesa a poľovníc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600"/>
            </a:b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- výberové metódy (okrem Micromammalia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2521080"/>
          <a:ext cx="8136000" cy="4003560"/>
        </p:xfrm>
        <a:graphic>
          <a:graphicData uri="http://schemas.openxmlformats.org/drawingml/2006/table">
            <a:tbl>
              <a:tblPr/>
              <a:tblGrid>
                <a:gridCol w="576000"/>
                <a:gridCol w="1470240"/>
                <a:gridCol w="2820960"/>
                <a:gridCol w="893880"/>
                <a:gridCol w="2374920"/>
              </a:tblGrid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Canis lup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lk dr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Ursus ar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veď hned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lis silve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čka di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x lyn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s ostrov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tes m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una les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monitoringu celého areál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924280"/>
          <a:ext cx="8280360" cy="2801880"/>
        </p:xfrm>
        <a:graphic>
          <a:graphicData uri="http://schemas.openxmlformats.org/drawingml/2006/table">
            <a:tbl>
              <a:tblPr/>
              <a:tblGrid>
                <a:gridCol w="719280"/>
                <a:gridCol w="1309680"/>
                <a:gridCol w="2797200"/>
                <a:gridCol w="934920"/>
                <a:gridCol w="25192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Marmota marmota latiro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višť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Rupicapra rupicapra tat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mzík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son bona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ubor hrivnatý/ zubor les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špecálneho monitoring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303640"/>
          <a:ext cx="7772400" cy="3501720"/>
        </p:xfrm>
        <a:graphic>
          <a:graphicData uri="http://schemas.openxmlformats.org/drawingml/2006/table">
            <a:tbl>
              <a:tblPr/>
              <a:tblGrid>
                <a:gridCol w="573120"/>
                <a:gridCol w="1382760"/>
                <a:gridCol w="2693880"/>
                <a:gridCol w="892080"/>
                <a:gridCol w="2230560"/>
              </a:tblGrid>
              <a:tr h="71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eversmann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svetl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puto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tm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or fi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bor vo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tra lu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dra rieč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žiadavky monitoring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Výber (okrem druhov s nízkou početnosťou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 100 HP na SK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Výhoda u triedy </a:t>
            </a:r>
            <a:r>
              <a:rPr b="1" i="1" lang="sk-SK" sz="2600" spc="-1" strike="noStrike">
                <a:solidFill>
                  <a:srgbClr val="ffffff"/>
                </a:solidFill>
                <a:latin typeface="Arial"/>
              </a:rPr>
              <a:t>A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ľahká determinácia (vizuálna i akustická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=&gt; nedeštrukčné metó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Nevýho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škála nárokov na prostredi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Metódy zisťovania početnosti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mapovacia tech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líni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é a kruh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ý transe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priame vyhľadávanie hniez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časovo-kvadrátová metód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telemetrické sledovani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sahové požiadavk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óda bodového tranzektu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mapovania hniezdnych okrskov – hniezdne obdobie, 1 x ročne, stanovenie typu ekosystému v mieste bydliska dobrovoľní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a výsledkov, vyhodnot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snosť výsledkov pre druhy, testovanie, trendy 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teriálne zabezpečenie: ďalekohľad, cestovné náklady, motivačné prv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rsonálne zabezpečenie: minimálne 30 spolupracovníkov, zabezpečenie ich distribú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yhodnotenie cez gestora programu a odborného gar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iteratúra: Kropil 1994, 1995  a mnohé iné u nás i v zahrani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3:02Z</dcterms:created>
  <dc:creator>PC</dc:creator>
  <dc:description/>
  <dc:language>en-US</dc:language>
  <cp:lastModifiedBy>Saxa</cp:lastModifiedBy>
  <cp:lastPrinted>2002-10-27T10:55:42Z</cp:lastPrinted>
  <dcterms:modified xsi:type="dcterms:W3CDTF">2004-11-22T07:19:41Z</dcterms:modified>
  <cp:revision>100</cp:revision>
  <dc:subject/>
  <dc:title>Bez nadpisu</dc:title>
</cp:coreProperties>
</file>