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426-22BD-489E-84B9-86BB0489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992-02C4-47F8-AEC2-FB1849ED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59D-123E-4345-BC25-EC125C8C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618-0393-43BD-9901-9AD2707B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FB3-114A-4949-903C-F42CEF06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2F2-35D5-45EF-A718-97281E85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ABA-55A2-427D-93DB-AB1071D2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5FC-A824-4CED-BCB1-FCF77E56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287-C1AD-4408-8618-951DFC63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053-BBFD-430E-87BF-0415A11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0D4-8D4B-488B-8FEC-60899334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419-0862-45E9-B442-F9B56955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EB30-7ADC-4ABB-988E-CE8081E3F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Koncept metodiky monitoringu lesných biotopov</a:t>
            </a:r>
            <a:br>
              <a:rPr sz="4400"/>
            </a:b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na Slovensku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of. Ing. Štefan  Š m e l k o, DrSc.,  EFRA Zv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99"/>
                </a:solidFill>
                <a:latin typeface="Times New Roman"/>
              </a:rPr>
              <a:t>Hodnotenie stavu biotopov</a:t>
            </a:r>
            <a:br>
              <a:rPr sz="3600"/>
            </a:b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Kvantitatívne hodnot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jadrenie stavu biotop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omocou číselného  kvantifikáto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riemerná bodová hodnota (známka) Z  ........ menej vhod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1 - operátor OR ...................... orientač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2 - operátor AND ................... nevhod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3 - kombinácia oper. OR a AND ... najvhodnejš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egóriám A,B,C,D, kritériám a indikátorom sú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ridelené váh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„w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e každý biotop individuálne i zovšeobecnené, môžu sa ľubovoľne meniť)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utomatizovaný výpoč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vyprac. program na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vantifikátor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ojou hodnotou priam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dáva relatívne priblíženie sa stavu biotopu k želanému „optimu“ =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hodnoty Q (napr.= 82,9%) možno ľahk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znovu prejsť 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valitatívne hodnoteni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podľa zvoleného kľúča, napr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5224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080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364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0972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715000"/>
            <a:ext cx="390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715000"/>
            <a:ext cx="4721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5867280"/>
            <a:ext cx="48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638680"/>
            <a:ext cx="830592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2. Príklad kvantitatívneho hodnotenia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795240"/>
            <a:ext cx="83055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avné menu programu pre výpoč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vantifikátorv Q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6059520" cy="572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010280" y="1981080"/>
            <a:ext cx="6446880" cy="37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086600" y="2666880"/>
            <a:ext cx="576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Metód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eb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diferencovať a optimaliz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s ohľadom 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kosť biotop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ho charakte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nútornú variabilit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ôležitos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zácnosť výskytu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disponibilné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finančné a personálne zdroj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úroveň a obsah využiteľných externých informačných zdrojov v čase vykonania monitoring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skutočnosť, že základnými priestorovými jednotkami pre hodnotenie FCS majú byť polygóny do 100-150 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prednostniť postupy, ktoré najlepšie splnia všetky základ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žiadavky kladené na monitorova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Uvažujú a hodnotia sa tieto možné varianty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zatie údajov z existujúcej databázy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oprojekt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HP) a ich doplnen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 chýbajúce ú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oplošné zisť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é zisťovan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– diferencované podľa veľkostnýc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h            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ategórií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ované dvojfázové zisť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užitie údajov veľkoplošnej národnej inventarizácie les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SR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5-2006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ívny monitoring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vzácnych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400"/>
            </a:b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vzatie údajov z existujúcej databázy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soprojektu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LHP) a ich doplnenie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 chýbajúce údaje</a:t>
            </a:r>
            <a:r>
              <a:rPr b="1" lang="sk-SK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 sa uskutočniť pomerne jednoducho, rýchlo a hospodár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žaduje prevod údajov o porastových veličinách (JPRL) na ich prirodzené zoskupenia –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žad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lnenie dosť veľkého počtu chýbajúcich údajov potrebných  pre  hodnotenie FCS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amym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aní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alebo približným modelovaní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e poskytnúť výsledky len s  veľmi nízkou a úplne neznámou (nekvantifikovateľnou) vypovedacou hodnoto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iteľ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n pre všeobecné informatívne úč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oplošné zisťovanie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žne používa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ó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áv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á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rénnou pochôdzkou po celom hodnotenom území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e poskytnú len súhrnné posúdenie jednotlivých indikátorov FC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celé územ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dáva žiadne informácie o vnútornej variabilite FCS po hodnotenej ploch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možňuje stanoviť ani vypovedaciu hodnotu (chybu) výsledného hodnote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u vzniknúť oprávnené pochybnosti, či sa hodnotiteľovi v rozsiahlejších územiach podarí dostatočne objektívne určiť „súhrnný výsledok“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oužiteľné j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a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r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ľmi malé biotopy, resp. ich lokality do výmery cca 3 až 5 ha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é zisťovanie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chádza z teórie matematicko-štatistických metó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je objektívne a hospodár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tr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ď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ornosť na vhodne zvolené miesta biotopu - tzv. výberové jedno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možň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výsledkov hodnotenia  kritérií a indikátorov FCS odvodiť všetky požadované parametre biotop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kvantifikovať mieru ich presnost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spoľahlivos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prípade, ž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é jednotky v  teréne vhod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ujú (najlepšie neviditeľ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vreckovým GPS), opakované zisťovanie  sa môže robiť vždy na tých istých miestach, získa sa tesná korelácia medzi údajmi a chyba zmeny stavu sa zníži až o 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ácia -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erencovane podľa veľkostných kategórií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biotop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roch samostatných systémoch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I, II, II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Výberový systém I – pre malé územia do 100-150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í sa jednoduchý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stupňový vý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ej jedno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(VJ) -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h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ásov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úsek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,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ás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ich rozmery v teréne nevytyčované – FCS posudzované „na dohľad“) – obr. 1-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očet VJ (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v závislosti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stupňa variability FCS po ploche biotopu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) a od požadovanej presnosti výberového výsledku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Q=7-15%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=   1-malý     2-stredný     3-veľký    4-veľmi veľ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=   10 – 8       33 – 18        73 – 36          130 -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estn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J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hodnotenom území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systematick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 konštantných odstupoch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hodnotenie FCS a zázna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ýsledkov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a každej VJ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počet ukazovateľov charakterizujúcich FCS biotopu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dľa špeciálneho algoritmu – tab.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                                         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ýberové jednotky – vybraté miesta pre hodnotenie FCS biotopu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95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Východiskové úd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V sústave chránených území európskeho významu NATURA 2000 na Slovensku j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19 lesných biotopov, z toho 8  prioritný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 každom biotope väčší počet lokalít (až 5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premenlivá výmera (30 - 650 tisíc) , spolu cca 940 tisíc h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eľká rôznorodosť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eľký teritoriálny rozptyl po území SR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ý systém II. – pre stredne veľké územia od 200 do 5000  ha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í s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stratifikovaného výber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ostaví sa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án výber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východiskom bude stupeň variability FCS celého územia (napr. 3), podľa neho sa určí celkový počet VJ (napr.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 n = 75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), tie sa rozdelia na jednotlivé polygóny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) úmerne ich veľkosti, alebo aj variabilite FCS (napr.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nj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3-1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lastné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hodnotenie FC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sa vykoná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v každom polygón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podobne ako pri  systém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azovatel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FCS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celého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s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vodia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ovaní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gónových výsledk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– špeciálny algoritmus – tab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ostup je veľmi efektívny - z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ľadní skutočný stav a vnútornú štruktúru každého vyskytujúceho sa polygónu a celkový výsledok poskytne s vysokou presnosť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roblém –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rčiť hornú, ešte ekonomicky únosnú hranicu veľkosti územia (počet polygónov v ňom) pre aplikáciu systému II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ý systém III. – pre veľké územia nad 5000 ha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čet 100-hektárových polygó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v nich taký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ký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0 až vyše 5300), že použitie výberových systémov I a II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by  bolo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ž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onomic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eúnos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e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í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dvojstupňového výber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pni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celkového počtu M polygón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yberi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hodným alebo systematickým spôsobom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ší počet  m polygón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ni  sa  vo všetkých vybratých  polygónoch uskutoční  zisťovanie výberovým systémom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celý biotop sa ukazovatele FCS odvodia špeciálnym postupom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orý je pomerne zložitý a musí zohľadniť zdroje variability FCS tak vo vnútri polygónov ako aj medzi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roblémy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– nižšia presnosť, potreba poznať biometrické vlastnosti FCS veľkých biotopov, výskumne doriešiť optimalizáciu nákladov a presnosti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ombinované dvojfázové zisťovanie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de o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hod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poje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acerých metód a technológií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tatočne pres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hospodár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užiteľn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 všetkých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eľkostných kategóriách biotopov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 1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z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údaje o FCS získajú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ej presne, ale jednoducho, rýchlo a lacno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to celoplošne - pre všetky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áz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uskutoční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 malého počtu n zo všetkých  N polygó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zistí sa v nich stav FCS výberovým systémom 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ýsledky z 2. fáz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sa pomocou špeciálnych biometrických postupov využijú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orig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ova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spres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ôvod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odhadnut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daj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1. fáz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isťova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realizáci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asi r. 2015) –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dpokladá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nováciu LHP (doplnenie o údaje pre FCS), letecké a kozmické snímky s vysokou rozlišovacou schopnosťou, GIS 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yužitie údajov veľkoplošnej národnej inventarizácie lesov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 SR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2005-2006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nventarizácia sa uskutoční v rokoch 2005-2006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yje všetky lesy na území SR trvalými inventarizačnými plocham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IP)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sieti 4x4 k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ipovaná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, že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a IP s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stia o .i. aj  všetky znaky potrebné pre hodnotenie stavu lesa podľa kritér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í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indikátor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 2000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ýsled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umožni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vodiť súhrnné charakteristiky  FCS vo všetkých lesných ekosystémoch celej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e územia NATURA , najmä vo veľmi veľkých  biotopoch, by bolo potrebné monitorovaciu sieť zahustiť na 2x2 resp. 1x1 km – ako alternatívu k výberovému systému I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roblém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FCS sa vzťahujú na rozdielne jednotky (na 100 ha polygón a na malú IP a jej najbližšie okolie), ich kompatibilitu treba preskúmať  a definíciu FCS  podľa potreby inovovať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nzívny monitoring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 vzácnych biotopov</a:t>
            </a:r>
            <a:r>
              <a:rPr b="1" lang="sk-SK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hádza do úvahy pre mimoriadne významné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lebo vzácne sa vyskytujúc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 a ich lok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kéto biotopy môžu slúžiť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demonštračné objekty pre výskum, výchovno-vzdelávaciu, osvetovú a propagačnú činnos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žiť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ch treb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trvalé výskumné plochy, v teréne stabilizovať,  stav  podchytiť  a zdokumentovať komplexne a veľmi detailne, dlhodobo sledovať ich výv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platniť pri tom najmodernejši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óg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-Map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pre mapovanie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zualizáciu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truktú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mulačné postupy pre prognózovani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ývoj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i.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 biotop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ch lokalít a hodnotených polygónov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mer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u a jeho lokalít (P,  ha) - potencionálna a skutoč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a rozmiestnen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a ich lokalít po území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ívne plošné zastúpen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v jednotlivých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FCS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góriách A, B, C, D a chyba určenia tohto podielu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.j. zhodnotenie stavu biotopov pomocou  kvalitatívnych velič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íselné kvantifikátory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vu biotopov v jednotlivých kategóriách A, B, C, D i spoločne za všetky kategórie, ich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merná hodnot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ilit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sk-SK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yb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čenia výsledného kvantifikátora (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.j. zhodnotenie stavu biotopov pomocou kvantitatívnych velič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orovnanie dvoch stavov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zhodnotenie zmeny parametrov FC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 časovom rade, resp medzi viacerými biotopmi navzájo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špeciálny  algoritmu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52280"/>
            <a:ext cx="8305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Výsledk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ýstupn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é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informáci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 st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e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biotop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cc99"/>
                </a:solidFill>
                <a:latin typeface="Times New Roman"/>
              </a:rPr>
              <a:t>Výsledky monitorovania</a:t>
            </a:r>
            <a:br>
              <a:rPr sz="3600"/>
            </a:br>
            <a:r>
              <a:rPr b="1" lang="sk-SK" sz="28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V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ýstupn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é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informáci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e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o st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ave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biotop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Diferenc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FCS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medzi dvomi  porovnávanými biotopmi (1) a (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Chyba diferenc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pri 95 = spoľahlivosti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sk-SK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peň tesnosti korelácie medzi (1) a  (2)  stavom biot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osúdenie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 (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en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y FSC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diferenci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važovať za skutočn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 95 % spoľahlivosťou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kantnú), ak platí, ž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ačnom prípade ju považovať iba za náhodnú, spôsobenú chybami zisťovan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1504800" cy="39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1768320"/>
            <a:ext cx="1523880" cy="39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2666880"/>
            <a:ext cx="3733560" cy="519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76920" y="2666880"/>
            <a:ext cx="3809880" cy="493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286000" y="4724280"/>
            <a:ext cx="102106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4. Príklad odvodenia parametrov FCS na úrovni jedného polygónu (P = 110 ha,  n =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772400" cy="2954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4114800"/>
            <a:ext cx="5761080" cy="58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914400" y="4800600"/>
            <a:ext cx="16956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429000" y="4724280"/>
            <a:ext cx="4724280" cy="660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62120" y="5638680"/>
            <a:ext cx="2286000" cy="520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1828800" cy="52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181480" y="5715000"/>
            <a:ext cx="6370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5. Príklad odvodenia parametrov FCS na úrovni jedného biotopu zloženého z 10 polygón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1870200"/>
            <a:ext cx="80773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5. Príklad odvodenia parametrov FCS na úrovni jedného biotopu zloženého z 10 polygónov - pokrač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2636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7832520" cy="237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1295640" cy="606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086600" y="3505320"/>
            <a:ext cx="1219320" cy="725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914400" y="41148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590920" y="4267080"/>
            <a:ext cx="1523880" cy="1141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648320" y="4343400"/>
            <a:ext cx="121896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400800" y="4495680"/>
            <a:ext cx="190512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066680" y="5494320"/>
            <a:ext cx="8077320" cy="32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2743200" y="5867280"/>
            <a:ext cx="81532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Cieľ monitorovania</a:t>
            </a: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zisťovať (mapovať a hodnotiť) stav lesných biotopov  o p a k o v a n e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v dohodnutých časových intervaloch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porovnávať tieto stav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posudzovať vzniknuté zmeny 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odvodzovať vývojové trend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oncept informačného systému pre monitoring FCS lesných biotopov (Fabrika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24040" y="914400"/>
            <a:ext cx="3659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kvencia monitorovania</a:t>
            </a:r>
            <a:br>
              <a:rPr sz="1800"/>
            </a:b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jekt NATURA 2000  predpokladá 6 ročný cyklus monitoro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 SR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úvahy prichádz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ácia termí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NATUR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 dvomi celoštátnymi aktivitam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ávani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ej inventarizácie lesa, kde sa počíta s 1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čným cyklom opakovania  (v r. 2005-06, 2015-16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atď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tovovani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úhrnných informácií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o stave lesov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LHP (kde je cyklus 5–ročný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avdepodobný termín prvého monitoringu lesných biotopov NATURA-SR ..... r. 2007-2009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ácia monitoringu lesných biotopov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žadu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racovanie metodiky a podrobných pracovných postupov monitorovania a ich experimentálne overenie v modelových územiach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adenie resp. poverenie špecializovanej organizácie (subjektu) pre túto činnosť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tvorenie organizačných štruktúr pre rutinné vykonávanie monitoringu (riadiace, koordinačné, odborné skupiny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ýber a zaškolenie pracovníkov pre terénne práce, kontrolu a spracovanie výsledkov monitoringu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zpečenie finančných prostriedk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ovanie metodík, materiálne a prístrojové vybavenie a vykonanie prvého cyklu monitoring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eobecné požiadavky na monitorovanie lesných biotopov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 charakterizovať sústavou parametr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oré by  vyjadrovali jednak rozsah (počet a veľkosť) i teritoriálne rozmiestnenie biotopov, jednak  stav biotopov a stupeň  ich priblíženia sa k žiadanému vopred definované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aznivému stavu ochr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re zvol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k, aby boli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tívne, jednoznačn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najjednoduchšie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logic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chopiteľné 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obr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ovateľn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bezpečiť porovnateľnosť údaj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tave biotopov navzájom i v dlhšom časovom slede, na domácej i medzinárodnej úrovn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platniť biometrické princípy monitorova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šeobecné požiadavky na monitorovanie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mapovanie a hodnotenie stavu biotopov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už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maximálnej miere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še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tupné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existujúce informačné zdroje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ý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itoring metodicky koncipovať tak, ab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špektoval veľkú rôznorodos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dnotlivých typov lesných biotopov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l univerzál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dobre využiteľný nielen  pre biotopy  európskeho, ale aj národného význam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led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itoringu o stave biotopov a ich vývoji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ovať a prezentovať vo forme uceleného informačného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úzkej väzbe na ostatné s nim súvisiace domáce i medzinárodné informačné systém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ké úrovne monitorovania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venská republika (všetky lesné biotopy NATUR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ity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estorové jednotky l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lygóny– prirodzené zoskupenia lesných porastov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ktorých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á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posud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vať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daje o stave biotop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eb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isťovať a postup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ovať smerom od najnižšej k najvyššej úrovn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ovanie lesných biotopov</a:t>
            </a:r>
            <a:br>
              <a:rPr sz="3600"/>
            </a:br>
            <a:r>
              <a:rPr b="1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tovi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biotop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TURA 2000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ch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edbežnú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kalizáci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území 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pravi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klady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e mapovateľ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existujúcich  informačných zdroj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kryť vrstvy GIS Lesoprojektu, vyhotoviť mapovú  dokumentáciu a dať k dispozícii výpis aktuálnych ekologických a porastových charakteristík tých lesných porastov, ktoré príslušný biotop vytvárajú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eréne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anice biotopu overiť, skorig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hodným (dohodnutým) spôsobom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znač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ároveň navrhnúť a  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líšiť hodnotiace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všetko zdokumentovať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istiť výmer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biotopov a lokalí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stavu biotopov</a:t>
            </a:r>
            <a:br>
              <a:rPr sz="36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valitatívne hodnotenie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6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aradenie biotopu - podľa toho ako spĺňa jednotlivé 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ér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indikátor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 FCS - do 4 kategórií: A,B,C,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napr. A,B – A,D,B,A,C – A,B  .......... tab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éto ohodnoteni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kom dobre a rovnakými kritériami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dôležitejšie stránky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však každú z nich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možňuj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vnako dobre a objektívn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hodnotiť komplexne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kový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danej priestorovej jednotke lesa (v hodnotenom polygóne) a potom toto hodnotenie agregovať do vyšších hierarchických rov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górie A,B,C,D sú totiž typické kvalitatívne veličiny, pre ktoré neplatia bežné matematické operác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rem toho jednotlivé hodnotiac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tériá a indikátory nemajú rovnakú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h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ýznamnosť).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.1. Príklad konkrétneho kvalitatívneho ohodnotenia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98720"/>
            <a:ext cx="77724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0:01:45Z</dcterms:created>
  <dc:creator>Student</dc:creator>
  <dc:description/>
  <dc:language>en-US</dc:language>
  <cp:lastModifiedBy>Admin</cp:lastModifiedBy>
  <dcterms:modified xsi:type="dcterms:W3CDTF">2004-11-12T13:46:28Z</dcterms:modified>
  <cp:revision>86</cp:revision>
  <dc:subject/>
  <dc:title>Koncept metodiky monitoringu lesných biotopov  na Slovensku </dc:title>
</cp:coreProperties>
</file>