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7D1-0420-4EE8-964C-41490E61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61A-5864-43B9-BC10-3EB570B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8AA-474D-4049-8699-555B0554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838-1FEC-413E-8A82-0F13FC6D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D31-D1ED-4950-8165-38E1FE7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D4C-0450-45B7-873C-2C7D8EC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7FF-6004-462F-BEE1-963D6D3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9B9-8EF7-4BB2-A923-B8F43898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E2D-F67F-4DCC-B3BF-66693E6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D32-2872-49DC-A27A-54FA4EB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D94-32C3-4E25-B0C8-9E7420F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EB3-070B-4E89-84B3-665D2E6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1028-E9A7-4874-AF63-0FA6E04C6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8040" y="1312920"/>
            <a:ext cx="778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Rámcový menežment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Natura 2000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4869000"/>
            <a:ext cx="537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utori:  Ivor Rizman, Pavol Polák, Tomáš Draž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 ostatní členovia WG lesné biot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ratislava 15.XI.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205000"/>
            <a:ext cx="8137440" cy="26542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ešíriť geograficky nepôvodné druhy drevín. Pri výchove a obnove lesných porastov prednostne odstraňovať geograficky nepôvodné druhy drev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Do lesných porastov vnášať chýbajúce dreviny prirodzenej druhovej sklad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melú obnovu lesných porastov používať len v nevyhnutných prípad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prednostňovať členitejšiu priestorovú výstavbu lesných poras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a zlepšovať vekovú diferencovanosť les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6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hospodárení v lesných porastoch dbať na prítomnosť mŕtveho dreva napr. ponechaním niekoľkých dutinových stromov z prirodzenej druhovej skladby na dožitie a následne ponechať na mieste až do úplného rozpadu drevnej hm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7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mladkové porasty (nízky les – vegetatívne pestovaný) je potrebné prebudovávať na porasty vysokého tvaru l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8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obhospodarovaní lesných porastov používať jemnejšie spôsoby hospodárenia. Nepoužívať ťažké, hlučné mechanizmy. Využívať ekologicky nezávadné rozložiteľné materiály a chemické lá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9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diverzitu mikrostanovíšť (čistinky, prameniská, brehy tokov, výstupy materskej horniny, mokr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844640"/>
            <a:ext cx="8137440" cy="44830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0)Zabraňovať prenikaniu inváznych druhov (dbať o posilnenie ekologickej stability brehových porastov, včas odstraňovať ohniská výskytu invázny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bezpečovať ochranu voči vonkajším škodlivým faktorom (zapláštené okraje oproti narušeným ekosystémom, likvidácia skládok, vytváranie prechodných z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chovávať a podporovať obnovu prirodzených podmienok prostredia nevyhnutných pre existenciu daného biotopu (vodný režim, pastva požadovanej intenzity, udržiavanie medzernatého zápoja  a 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60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844640"/>
            <a:ext cx="8137440" cy="4848840"/>
          </a:xfrm>
          <a:prstGeom prst="rect">
            <a:avLst/>
          </a:prstGeom>
          <a:solidFill>
            <a:srgbClr val="0000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3)Podporovať tradičné formy hospodárenia na okolitých poľnohospodárskych pozemkoch (pokiaľ ich  udržanie alebo rozvoj nevyžaduje nevhodné zásahy do lesných ekosysté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4)Vytvárať bezzásahové zóny v lesoch s cieľom podporiť biodiverzitu a prežitie vzácnych a ohrozených druhov rastlín a živočíchov (extrémne alebo vzdialené stanovištia, stanovištia s výskytom vzácnych  a ohrozený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5)Zabezpečiť informovanie verejnosti o dôležitosti zlepšovania stavu a udržania priaznivého stavu lesných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3490920"/>
            <a:ext cx="47880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" y="337500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-648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9080" y="62373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10 Luz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3440" y="2924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30 Asper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560" y="609300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40 Subalpine beech wood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cer and Rumex arifo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57400" y="2852640"/>
            <a:ext cx="43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50 Medio-European limes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eech forests (Cefaphanthero-Fagion)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34840"/>
            <a:ext cx="8642160" cy="5582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Arial"/>
              </a:rPr>
              <a:t>Ohrozenie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Arial"/>
              </a:rPr>
              <a:t>Biotopy bukových lesov nie sú ohrozené ako celok pre pomerne veľkú výmeru, ktorú zaberajú a vysoký zmladzovací potenciál buka, hlavne na juh od hranice rozdeľujúcej územie Slovenska na územie so zreteľným vplyvom klímy od stredozemného mora a územie ovplyvňované klímou od Baltického a Severného mora (Zlatník 1958). Ohrozený je biotop 9140, kde je tento potenciál menší a ostatné oblasti Slovenska na severe. Tu dochádzalo a v menšej miere stále dochádza, podstatne rýchlejšie k ich premene na porasty s vyšším zastúpením ekonomických drevín (sm, bo, sc). Časť porastov je výmladkového charakteru, prevažne však nepravých kmeňovín, pri obnove ktorých nedochádza k podstatnejším odchýlkam ako u semenných porastov. U výmladkových porastov vyšších generácií v minulosti dochádzalo k priamym prevodom s podstatnou zmenou skladby drevín v neprospech buka. Dnes je tento trend už výrazne spomalený nezáujmom vlastníkov o nákladné prevody. V niektorých oblastiach dostatočnej obnove buka zabraňujú vysoké stavy raticovej zvery, ktoré aj takmer úplne decimujú pôvodnú prímes jedle, miestami aj vzácneho tisa v týchto porastoch.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641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vnanie pravdepodobných prípadov základných rozhodnutí, podľa kategórie lesa a SOP a ich vhodnosti z hľadiska stavu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205000"/>
          <a:ext cx="8732880" cy="4103640"/>
        </p:xfrm>
        <a:graphic>
          <a:graphicData uri="http://schemas.openxmlformats.org/drawingml/2006/table">
            <a:tbl>
              <a:tblPr/>
              <a:tblGrid>
                <a:gridCol w="1101960"/>
                <a:gridCol w="960480"/>
                <a:gridCol w="1279440"/>
                <a:gridCol w="1023840"/>
                <a:gridCol w="828720"/>
                <a:gridCol w="1122480"/>
                <a:gridCol w="1265040"/>
                <a:gridCol w="115092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A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B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17684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hľad základných rozhodnutí pre stav C a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060640"/>
          <a:ext cx="8206920" cy="4247280"/>
        </p:xfrm>
        <a:graphic>
          <a:graphicData uri="http://schemas.openxmlformats.org/drawingml/2006/table">
            <a:tbl>
              <a:tblPr/>
              <a:tblGrid>
                <a:gridCol w="1274400"/>
                <a:gridCol w="1112400"/>
                <a:gridCol w="1479600"/>
                <a:gridCol w="1183680"/>
                <a:gridCol w="1183680"/>
                <a:gridCol w="1973160"/>
              </a:tblGrid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 a v 4. 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vylúč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1992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hy jednotlivých indikátorov pre stanovenie FCS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981000"/>
          <a:ext cx="8748720" cy="5692680"/>
        </p:xfrm>
        <a:graphic>
          <a:graphicData uri="http://schemas.openxmlformats.org/drawingml/2006/table">
            <a:tbl>
              <a:tblPr/>
              <a:tblGrid>
                <a:gridCol w="2554200"/>
                <a:gridCol w="1354320"/>
                <a:gridCol w="2876400"/>
                <a:gridCol w="1693800"/>
                <a:gridCol w="2700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é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kritéri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indiká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ké druhy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 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 strom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liny a k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truktúra lesného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k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mlad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estor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ubé str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ŕtve dre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ívne vply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avotný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ršie priestorové súvisl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Ciel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05000"/>
            <a:ext cx="7705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m menežmentu biotopov (Natura 2000) je a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výmera biotopu bola stabilná (prinajmenšom neklesala), prípadne sa zvyšov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jeho typických druhov bol priaznivý (nezhoršoval sa), prípadne sa zlepš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štruktúra a funkcie biotopu boli zach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3680" y="523800"/>
          <a:ext cx="8893080" cy="6334200"/>
        </p:xfrm>
        <a:graphic>
          <a:graphicData uri="http://schemas.openxmlformats.org/drawingml/2006/table">
            <a:tbl>
              <a:tblPr/>
              <a:tblGrid>
                <a:gridCol w="1216080"/>
                <a:gridCol w="1630080"/>
                <a:gridCol w="1333800"/>
                <a:gridCol w="1382400"/>
                <a:gridCol w="1616400"/>
                <a:gridCol w="857160"/>
                <a:gridCol w="8571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terajšieho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rub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fyzický v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obnov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etržit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extenzívnejší hospod. spôs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z zásahu prípadne účelový vý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len pre časti so zmeneným dr. zlo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hlúči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medzenia obnovy porastov ak by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o v rámci hodnoteného polygónu dôjsť k poklesu výmer starších ARS pod hranicu stanovenú pre daný FCS Viď tabuľky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statočne diferencovanej štruktúry pre daný FCS, odstraňovanie nežiadúcich prímesí a inváznych dreví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hospodarovanie výmladkov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doterajších postupov. 1. a 2. generácia prevod výchovou a obnova ako u semenn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šie generácie – priamy prevod s naliehavosťou podľa kvality porastu, spravidla vo veku, keď sa stráca výmladnosť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é 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ď tiež spoločné pre všetky biot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najlepších prípadoch zmeniť SOP na 5 pre zabezpečenie bezzás. reži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echanie časti hmoty hrubších a časti živých hrubých a cenných stromov v počtoch spĺňajúcich limit pre daný stav podľa možnosti v pravidelnom rozmiestnení. Viď tabuľky FC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63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624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1624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7920" y="285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792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549360"/>
          <a:ext cx="8713800" cy="6222960"/>
        </p:xfrm>
        <a:graphic>
          <a:graphicData uri="http://schemas.openxmlformats.org/drawingml/2006/table">
            <a:tbl>
              <a:tblPr/>
              <a:tblGrid>
                <a:gridCol w="1050840"/>
                <a:gridCol w="1476360"/>
                <a:gridCol w="487440"/>
                <a:gridCol w="1861920"/>
                <a:gridCol w="2275200"/>
                <a:gridCol w="487080"/>
                <a:gridCol w="1074960"/>
              </a:tblGrid>
              <a:tr h="36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enie FCS o jeden stup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úprava rub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prava obnov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odársky spôs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-  postupne prechod k UV a bezzásahovému rež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e obmedziť a neskôr v najpriaznivejších prípadoch úplne vylúčiť 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až na úroveň hlúč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od súčasného stav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zásahov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iahnutie štruktúry pre stav o stupeň vyššieho FCS, umiestnenie zásahov hlavne do častí s nevhodnou štruktúrou alebo drevinovou skladbou. Postupné likvidovanie prímesí ekonomických drevín (sm, sc, bo). Dôsledná likvidácia inváznych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ovanie diferenciácie štruktúry pre dosiahnutie stavu o stupeň lepšieho FCS. Postupné likvidovanie ekonomických prímesí drevín (sm, sc, bo) a dôsledná likvidácia inváznych drevín v čo najmladších vývojových fázach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2492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990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26828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Bežné obhospodarovanie lesných porastov – súčasný menežment,  legislatíva na úseku 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ť hospodáriť podľ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492280"/>
            <a:ext cx="770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väzné ukazovatele LHP pre jednotku priestorového rozdelenia l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a ťažby (neprekročiteľnosť nad 50 rok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Hospodársky spôsob a jeho forma (odborný lesný hospodár môže zjemni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zastúpenie hlavných dreví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chova do 50 rokov (prerezávky, prebier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060640"/>
            <a:ext cx="7705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statné obmedzenia vyplývajúce z legislatívy na úseku LH a ochrany prír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chrana L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nižovanie zakmenenia p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eľkosti obnovných prvkov, vzdialenosti východí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medzenie holorubného hospodárskeho spôsobu z lesného zákona a zákona o ochrane prírody (od SOP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kaz akejkoľvek činnosti v 5. S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ti v ochrane lesa súvisiace s mŕtvym dre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stup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eskum ekológie 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žiadavky dotknutých orgánov (ŠOP, vodári a 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model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y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drobné plánovanie – popis porastov plán hospodársk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ejednanie pokynov so zainteresovanými stra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chválenie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– modely hospodárenia, zásad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Modely hospodárenia kľúčovo ovplyvňuj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u ťažby stanovením rubných a obnovných dôb, použitie hospodárskych spôso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v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z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áväznosť pre vyhotoviteľov LHP, jednotnosť modelov pre väčšie územné celky, zásadný význam pre ovplyvnenie hospodárenia v les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55736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(Hodnotiace tabuľky biotopov, systém kritérií a indikátorov FCS, kvantifikácia pomocou kvantifikátorov)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260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5573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7705800" cy="4117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 biotop v stave A, považujeme taký biotop, ktorý sa všetkými svojimi znakmi blíži k prírodnému lesu (les pralesovitého vzhľadu so stopami ľudskej činnosti) a je schopný ďalšej existencie bez výraznej pomoci človeka. Jedná sa o najcennejšie zachovalé ukážky daného biotopu, spravidla už v dnešnej dobe chránené najvyššími stupňami ochrany prírody alebo zaradené do kategórie lesov ochranných. Existujú však aj porasty, ktoré takto zaradené nie sú a bolo by vhodné ich zachovať).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220500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B sa dá vyjadriť termínom prirodzený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(les vhodnej drevinovej skladby s pozmenenou štruktúrou oproti prales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0701360" cy="802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93372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: les s čiastočne pozmenenou skladbou drevín, pozmenou štruktúrou, alebo narušeným zdravotným stavom, vplyvom  okolia a podob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nf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C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3933720"/>
            <a:ext cx="7705800" cy="1922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Nejedná sa o biotop 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Potenciálne, vďaka obhospodarovaniu podľa platných modelov hospodárenia – teda bežným hospodárením môže postupne biotop vzniknúť – potenciálny bio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o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26828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. Odchýlka od súčasného modelu hospodárenia (bežného hospodárenia) bude základom pre systém stanovenia menežmentu v lesných biotopo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08280"/>
            <a:ext cx="77058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Stanovovať sa bude osobitne pre každý FCS (A-D, (E)) s definovaním predpokladaného (doterajšieho, tradičného) obhospodarovania a odchýliek pre udržanie, prípadne zlepšovanie o jeden F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Aby mohlo dôjsť k prechodu z horšieho do lepšieho stavu biotopu, je potrebné v prvom rade menežmentom (zásahom) ovplyvniť tú vlastnosť biotopu, ktorá najväčšou mierou (váhou) ovplyvňuje jeho zaradenie do horšieho sta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0:54:38Z</dcterms:created>
  <dc:creator>Rizman</dc:creator>
  <dc:description/>
  <dc:language>en-US</dc:language>
  <cp:lastModifiedBy>Rizman</cp:lastModifiedBy>
  <dcterms:modified xsi:type="dcterms:W3CDTF">2004-11-12T09:28:22Z</dcterms:modified>
  <cp:revision>42</cp:revision>
  <dc:subject/>
  <dc:title>Snímka 1</dc:title>
</cp:coreProperties>
</file>