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8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9051588" cy="152384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50E-7BF1-4C54-8A9C-D26B7385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4E3-E607-4019-8627-AB9F475D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97E-D21D-4540-B413-390E3E8C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9037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377520" y="440208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99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9037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377520" y="9178200"/>
            <a:ext cx="52128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9ED-B0AE-4B8F-9BB0-BD636CF8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CDC-EAAA-470F-A7A1-8334807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0E7-7343-48BD-BC38-01B30EE7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516-C953-40CA-BB61-56F2EAA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750-10A9-4F05-A803-676F296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920" y="1353960"/>
            <a:ext cx="1618956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574-9AB0-4D91-A78D-F8C998AF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22B-8149-402A-A460-448CA21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725400" y="917820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803-691D-47CE-BD3F-9890130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992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725400" y="4402080"/>
            <a:ext cx="790020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9920" y="9178200"/>
            <a:ext cx="16189560" cy="43614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B68-8C8E-480D-AB4A-62A7FB7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920" y="1353960"/>
            <a:ext cx="1618956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9920" y="4402080"/>
            <a:ext cx="16189560" cy="914400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5560" indent="-4622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816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•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3" marL="2571840" indent="-3682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05160" indent="-366840">
              <a:spcBef>
                <a:spcPts val="1301"/>
              </a:spcBef>
              <a:buClr>
                <a:srgbClr val="000000"/>
              </a:buClr>
              <a:buFont typeface="Times New Roman"/>
              <a:buChar char="»"/>
              <a:tabLst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30280" y="13885920"/>
            <a:ext cx="396864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07000" y="13885920"/>
            <a:ext cx="603576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650480" y="13885920"/>
            <a:ext cx="3969000" cy="101592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t">
            <a:noAutofit/>
          </a:bodyPr>
          <a:lstStyle>
            <a:lvl1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  <a:defRPr b="0" lang="en-US" sz="2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fld id="{0B6DC9FA-5AC6-4298-85AE-59AE4D06BA4E}" type="slidenum"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" descr=""/>
          <p:cNvPicPr/>
          <p:nvPr/>
        </p:nvPicPr>
        <p:blipFill>
          <a:blip r:embed="rId1"/>
          <a:stretch/>
        </p:blipFill>
        <p:spPr>
          <a:xfrm>
            <a:off x="0" y="0"/>
            <a:ext cx="19050120" cy="15239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61840" y="2440080"/>
            <a:ext cx="17419680" cy="46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sk-SK" sz="7500" spc="-1" strike="noStrike">
                <a:solidFill>
                  <a:srgbClr val="ffff00"/>
                </a:solidFill>
                <a:latin typeface="Times New Roman"/>
              </a:rPr>
              <a:t>Zhodnotenie dopadov vyhlásenia lesných území za lokality NATURA 2000 s ohľadom na menežmentové a ekonomické aspekty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29320" y="8431200"/>
            <a:ext cx="68468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sk-SK" sz="6800" spc="-1" strike="noStrike">
                <a:solidFill>
                  <a:srgbClr val="ff3300"/>
                </a:solidFill>
                <a:latin typeface="Times New Roman"/>
              </a:rPr>
              <a:t>NATURA 2000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70720" y="11761920"/>
            <a:ext cx="3106800" cy="15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spAutoFit/>
          </a:bodyPr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11/200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sk-SK" sz="4900" spc="-1" strike="noStrike">
                <a:solidFill>
                  <a:srgbClr val="ffffff"/>
                </a:solidFill>
                <a:latin typeface="Times New Roman"/>
              </a:rPr>
              <a:t>Ing. Vala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65120" y="1251000"/>
          <a:ext cx="16665840" cy="1283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251000"/>
                    <a:ext cx="16665840" cy="128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5800" y="639720"/>
          <a:ext cx="16994160" cy="1379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5800" y="639720"/>
                    <a:ext cx="16994160" cy="137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638360" y="711360"/>
          <a:ext cx="15760800" cy="1452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8360" y="711360"/>
                    <a:ext cx="15760800" cy="145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46120" y="1176480"/>
          <a:ext cx="17961120" cy="1276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176480"/>
                    <a:ext cx="17961120" cy="127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3480" y="1211400"/>
          <a:ext cx="17749800" cy="1272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211400"/>
                    <a:ext cx="17749800" cy="127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90600" y="833400"/>
          <a:ext cx="16484760" cy="135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833400"/>
                    <a:ext cx="16484760" cy="135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863640" y="717480"/>
          <a:ext cx="17381520" cy="136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717480"/>
                    <a:ext cx="17381520" cy="136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32080" y="0"/>
          <a:ext cx="16486200" cy="146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16486200" cy="146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77920" y="738360"/>
          <a:ext cx="17384760" cy="1339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738360"/>
                    <a:ext cx="17384760" cy="133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4080" y="5908680"/>
            <a:ext cx="16190640" cy="2540160"/>
          </a:xfrm>
          <a:prstGeom prst="rect">
            <a:avLst/>
          </a:prstGeom>
          <a:noFill/>
          <a:ln w="0">
            <a:noFill/>
          </a:ln>
        </p:spPr>
        <p:txBody>
          <a:bodyPr lIns="146880" rIns="146880" tIns="73440" bIns="73440" anchor="ctr">
            <a:noAutofit/>
          </a:bodyPr>
          <a:p>
            <a:pPr indent="0" algn="ctr">
              <a:buNone/>
              <a:tabLst>
                <a:tab algn="l" pos="0"/>
                <a:tab algn="l" pos="1469880"/>
                <a:tab algn="l" pos="2940120"/>
                <a:tab algn="l" pos="4410000"/>
                <a:tab algn="l" pos="5880240"/>
                <a:tab algn="l" pos="7350120"/>
                <a:tab algn="l" pos="8820000"/>
                <a:tab algn="l" pos="10290240"/>
              </a:tabLst>
            </a:pPr>
            <a:r>
              <a:rPr b="1" i="1" lang="sk-SK" sz="7100" spc="-1" strike="noStrike">
                <a:solidFill>
                  <a:srgbClr val="000000"/>
                </a:solidFill>
                <a:latin typeface="Times New Roman"/>
              </a:rPr>
              <a:t>Ďakujem za pozornosť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446200" y="1717560"/>
          <a:ext cx="14157360" cy="1146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6200" y="1717560"/>
                    <a:ext cx="14157360" cy="114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19120" y="1353960"/>
          <a:ext cx="16073640" cy="81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1353960"/>
                    <a:ext cx="16073640" cy="81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8040" y="7513560"/>
          <a:ext cx="17327520" cy="76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7513560"/>
                    <a:ext cx="17327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1666800"/>
          <a:ext cx="16968600" cy="1218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666800"/>
                    <a:ext cx="16968600" cy="121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25360" y="896760"/>
          <a:ext cx="16683120" cy="1282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6760"/>
                    <a:ext cx="16683120" cy="128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31920" y="7408800"/>
          <a:ext cx="16167240" cy="115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7408800"/>
                    <a:ext cx="1616724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43200" y="1025640"/>
          <a:ext cx="14739840" cy="1286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0" y="1025640"/>
                    <a:ext cx="14739840" cy="128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0120" y="831960"/>
          <a:ext cx="17451360" cy="1356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831960"/>
                    <a:ext cx="17451360" cy="135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06:34:44Z</dcterms:created>
  <dc:creator>Ing. Ivan Laučík</dc:creator>
  <dc:description/>
  <dc:language>en-US</dc:language>
  <cp:lastModifiedBy>Ing. Bortel</cp:lastModifiedBy>
  <dcterms:modified xsi:type="dcterms:W3CDTF">2004-11-12T12:17:44Z</dcterms:modified>
  <cp:revision>91</cp:revision>
  <dc:subject/>
  <dc:title>Prezentácia</dc:title>
</cp:coreProperties>
</file>