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113-3E99-48FF-8862-3244196D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F62-0571-4FCE-8ECA-B195012F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83A-914F-48C6-A641-0B31FABF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2C4-9311-4E2C-A4D0-359B6E8B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328-DFFD-4DC0-9E74-E29227AC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3E2-F085-4977-921B-FFA4E28F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88E-1C79-4772-810D-9073A54F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CFE-B9D6-489A-9385-F35DD98B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72D-2E94-4CBE-A87F-0C4976E3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A24-4FC5-4575-A7D7-B412F77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BB5-962F-4070-90A7-55C65CC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20C-F144-4651-B4DC-E72D22F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D5A-9129-48A7-9C3E-C61945C7A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960" y="291960"/>
            <a:ext cx="8128080" cy="210564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Hodnotenie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tavu zachovania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 a k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ncepcia monitoringu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sných biotopov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Ján Šeffer, Rastislav Lasák, Ivan Jarolímek, Milan Valachovi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br>
              <a:rPr sz="1800"/>
            </a:b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Richard Hrivnák, Viera Stanová, Helena O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ť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helová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, Marta Kubandová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5160" y="5113440"/>
            <a:ext cx="7162920" cy="91692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ATURA 2000 IN SLOVAKIA – BRIDGING </a:t>
            </a:r>
            <a:br>
              <a:rPr sz="1800"/>
            </a:b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Working Grou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3320" y="1198440"/>
            <a:ext cx="736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 5-ročnom intervale v úze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ach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európskeho význam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plnená náhodným (v štatistickom zmysle) výberom lokalít mimo Ú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hodný výber sa bude realizovať tak, že sa celý súbor lokalít biotopu rozdelí na niekoľko homogénnych skupín definovaných podľa kritérií špecifických pre každý typ biotopu (nadmorská výška, región atď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pre typy biotopov, ktoré majú počet lokalít rádovo v stovkách. Poskytne dostatočné údaje o stave lokalít v chránených územiach a s rozumnou spoľahlivosťou o stave lokalít m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berovej vzorky sa musí dostať aspoň 10% lokalít z území mimo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60" y="1150920"/>
            <a:ext cx="74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ybraných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 kratšom ako 5-ročnom cy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3320" y="3398760"/>
            <a:ext cx="87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áhodný výber dostatoč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j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zor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zo základného súbor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3320" y="4351320"/>
            <a:ext cx="772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ber sa 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e riadiť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ľa nadefinovaných homogénnych skupí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lán zb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a urobí na začiatku 6-ročného reportovacieho cykl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dočasne v prípade typov s veľkým množstvom lokalít, alebo v prípade málo ohrozovaných biotopov. Do výberovej vzorky sa musí dostať minimálne 20% lokal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3320" y="1701720"/>
            <a:ext cx="811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sa navrhuje pre typy biotopov s dynamickým režimom (napr. vodné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rašeliniskov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topy), u ktorých z praktických dôvodov (množstvo lokalít) nemožno predpokladať celoplošnejšie pokry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320" y="1039680"/>
            <a:ext cx="72583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ôsob organizácie zberu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ôže by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lišný v období, ktoré možno označiť ako prechodné, keď programy starostlivosti o ÚEV buď nie sú, alebo nezabezpečujú pravidelné informácie o stave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čas tohto obdobia je možné pripustiť v odôvodnených prípadoch náhodný výber pri monitoringu niektorých ty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ďalšom období, keď programy starostlivosti budú zabezpečovať dostatočné množstvo kvalitných dát, sa bu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užívať iba inventarizačné metó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680" y="44136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e každý typ biotopu sa stan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základe počtu lokalít, ich rozmiestnenia a stupňa poznani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rametre pre jeho monitoring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žno odlíšiť spôsob monitoringu v prechodnom období od monitoringu „definitívneho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8760" y="50004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440" y="1163520"/>
            <a:ext cx="8161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hodnotenie stavu poz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átke zhodnotenie, v prípade potreby navrhnúť zmapov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Organizácia zberu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ú sa dva spôsoby – optimálny a dostatočn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ber dát v prechodnom obdob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ak sa líši od prechádzajúce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Kritériá pre homogénne skup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vedú sa špecifické kritéria pre typ biotopu (nadmorská výška, región atď.) podľa jeho distribúcie na Slovens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Interval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v prípade inventarizácie v kratšom ako 5-ročnom cy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as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e sa optimálny čas monitorin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1444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odnotenie monitorovacích d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ľa metodiky pre 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efinovanie a hodnotenie stavu zachovania biotop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835280"/>
            <a:ext cx="8292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okality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EV alebo inak definovaných území ako sú CHÚ, orografické celky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vodia a 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geografických regiónov, resp. národnej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8292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lokalitnej úrovni je možné použiť jednak vážené hodnoty jednotlivých kritérií a jednak syntetickú hodnoty stavu biotopu na lokalite v časovej 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 vhodnejšie využívať tieto hodnoty, pretože umožňujú rozpoznať aj zmeny, ktoré sa dejú v rámci kategórií (A – 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210t" descr=""/>
          <p:cNvPicPr/>
          <p:nvPr/>
        </p:nvPicPr>
        <p:blipFill>
          <a:blip r:embed="rId1"/>
          <a:stretch/>
        </p:blipFill>
        <p:spPr>
          <a:xfrm>
            <a:off x="0" y="249120"/>
            <a:ext cx="6553080" cy="1670040"/>
          </a:xfrm>
          <a:prstGeom prst="rect">
            <a:avLst/>
          </a:prstGeom>
          <a:ln w="0">
            <a:noFill/>
          </a:ln>
        </p:spPr>
      </p:pic>
      <p:pic>
        <p:nvPicPr>
          <p:cNvPr id="127" name="6210" descr=""/>
          <p:cNvPicPr/>
          <p:nvPr/>
        </p:nvPicPr>
        <p:blipFill>
          <a:blip r:embed="rId2"/>
          <a:stretch/>
        </p:blipFill>
        <p:spPr>
          <a:xfrm>
            <a:off x="3035160" y="3921120"/>
            <a:ext cx="610884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6760" y="2101680"/>
            <a:ext cx="85471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biotopu je zachytený mapovaním travinnej vegetá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oritný typ sa bude monitorovať celoplošnou inventarizáciou. Neprioritný spôsobom 2 prípadne 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ípade neprioritného typu 4. spôs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výber viazať na orografické celky – poho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j až jú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6510t" descr=""/>
          <p:cNvPicPr/>
          <p:nvPr/>
        </p:nvPicPr>
        <p:blipFill>
          <a:blip r:embed="rId1"/>
          <a:stretch/>
        </p:blipFill>
        <p:spPr>
          <a:xfrm>
            <a:off x="0" y="203040"/>
            <a:ext cx="557856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6510" descr=""/>
          <p:cNvPicPr/>
          <p:nvPr/>
        </p:nvPicPr>
        <p:blipFill>
          <a:blip r:embed="rId2"/>
          <a:stretch/>
        </p:blipFill>
        <p:spPr>
          <a:xfrm>
            <a:off x="3065400" y="3924360"/>
            <a:ext cx="6078600" cy="293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7040" y="1465200"/>
            <a:ext cx="680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travinnej veget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ľadom na množstvo lokalít navrhujeme 4. spôso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lokalít podľa základnej regionalizácie Slovenska (západ, stred a výc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d prvým kosení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7140t" descr=""/>
          <p:cNvPicPr/>
          <p:nvPr/>
        </p:nvPicPr>
        <p:blipFill>
          <a:blip r:embed="rId1"/>
          <a:stretch/>
        </p:blipFill>
        <p:spPr>
          <a:xfrm>
            <a:off x="0" y="263520"/>
            <a:ext cx="4976640" cy="987480"/>
          </a:xfrm>
          <a:prstGeom prst="rect">
            <a:avLst/>
          </a:prstGeom>
          <a:ln w="0">
            <a:noFill/>
          </a:ln>
        </p:spPr>
      </p:pic>
      <p:pic>
        <p:nvPicPr>
          <p:cNvPr id="133" name="7140" descr=""/>
          <p:cNvPicPr/>
          <p:nvPr/>
        </p:nvPicPr>
        <p:blipFill>
          <a:blip r:embed="rId2"/>
          <a:stretch/>
        </p:blipFill>
        <p:spPr>
          <a:xfrm>
            <a:off x="2895480" y="3838680"/>
            <a:ext cx="6067440" cy="29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4640" y="1682640"/>
            <a:ext cx="655488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rašeliní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plošná inventarizá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náhodný vý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sa uskutoční podľa orografického člen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ún až sept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9000" y="409680"/>
            <a:ext cx="62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dnotenie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u zachovani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esných biotopo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1371600"/>
            <a:ext cx="76579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odnotili sme 59 typov a subtypov biotopov podľa Katalógu biotopov Slovenska a 40 podľa H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kovo bolo spracovaných 17 992 lokalít, kde boli identifikované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hodnotili sme skalné a sutinové biotopy, ktoré vyžadovali prepracovanie ich koncep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Je to prvé priblíženie, v ktorom sme neaplikovali všetky hodnotiace kritéri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2860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838080"/>
          <a:ext cx="914400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333880" y="24120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íklad hodnotenia stavu zach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1346040"/>
            <a:ext cx="7505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podával aktuálne informácie o stave všetkých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prepojený s plánovaním a realizáciou manaž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uskutočniteľný z hľadiska expertných kapac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finančne efektív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napojený na ďalšie monitorovacie systémy (AEP, RS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720" y="425520"/>
            <a:ext cx="81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o očakávame od monitorovacieho systému pre nelesné biotop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5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6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6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6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7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7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7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240" y="1503360"/>
            <a:ext cx="819180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ávrh monitoringu nelesných biotopov vychádza z údajovej bázy, ktorá bola vytvorená pre potreby návrhu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oncep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je postavený na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m systéme lúk a rašelinísk, ktorý je plne kompatibilný s ISTB Štá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 naplnenia a kvalita dát v rámci týchto IS je v porovnaní s ostatnými údajovými bázami uspokojivý. Nedostato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pokrytých je len niekoľko typov biotopov (napr. kroviny, skalné a vodné biotopy), ktoré sú z hľadiska plochy menej význam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daje s týchto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systémov sa ukázali ako plne vyhovujúce pre hodnotenie stavu zachovania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948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ýchodi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595440"/>
            <a:ext cx="784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ôsob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ber dát sa bude realizovať opakovanou inventarizáciou vymapovaných polygónov (lokalí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je sa metodika mapovania biotopov (Šeffer et al. 2002) s tým, že monitorované budú polygóny, kde boli identifikované biotopy z Dodatku I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 Smernice o biotopo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4094280"/>
            <a:ext cx="7454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kladanie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ukladanie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ud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lúžiť ISTB, ktorý má všetky polia z formulára, ktorý bol pre túto metodiku priprave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720" y="542880"/>
            <a:ext cx="80139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finovali sme štyri zásadné spôsoby zberu údajov, ktoré vychádzajú zo stavu údajovej základne pre nelesné biotop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160" y="2314440"/>
            <a:ext cx="8318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800" anchor="t">
            <a:spAutoFit/>
          </a:bodyPr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oplošná inventarizácia, ktorá v päťročnom intervale zabezpečí hodnotenie každej lok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 5-ročnom intervale v územiach európskeho významu (ÚEV), ktorá bude doplnená náhodným výberom lokalít mimo Ú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ybraných lokalít v kratšom ako 5-ročnom cyk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hodný výber dostatočnej vzorky lokalít zo základného súboru 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204300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ostup je optimálny a zabezpečuje nielen kvalitné dáta o všetkých lokalitách pre potreby národných správ o stave zachovania, ale aj, čo je dôležitejšie, pre potreby konkré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11383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eloplošná inventarizác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orá v päťročnom intervale zabezpečí inventarizáciu každej lok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680" y="3606840"/>
            <a:ext cx="78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äťročný interval je zvolený kvôli prepojeniu s programovaním starostlivosti a agro-environmentálnym programom (projekty sú schvaľované na dobu 5 roko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User</cp:lastModifiedBy>
  <dcterms:modified xsi:type="dcterms:W3CDTF">2004-11-16T14:24:53Z</dcterms:modified>
  <cp:revision>68</cp:revision>
  <dc:subject/>
  <dc:title>Prezentace aplikace PowerPoint</dc:title>
</cp:coreProperties>
</file>