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75B-BAE6-4BD1-BAE8-00A25D39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077-4777-4884-8719-41F80D2F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DD7-4D9A-433E-8678-C07C3DBB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1CD-575D-417E-95FB-F6E6A699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384-E9CE-4E07-98FA-AD3BCF4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161-1CAA-4161-AF3A-62AFFB2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689-8D85-41E8-B21B-B018169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49A-67C1-4002-99F6-E7F72E7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0E0-5165-4146-92FE-2FC315D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69A-2CB5-4294-AF48-E39301B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DCB-5CAB-4E44-883F-9327DD7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3FB-DEBF-442E-8F29-BA47CD0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FB96-23DE-4DF1-BD98-435067BC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 s druhmi ako Pnat , ktoré majú veľmi malý are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ľuch - návrh rozmiestniť body LMS v rastri DFS (kvadráty vytvorené zlúčen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štvor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u optimalizovať vzhľadom na maximalizáciu získaných druhových registrác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ov LMS – proporciálne podľa vegetačných stupňov a ich percentuálneho zastúpenia. Pomôckou na rozmiestenie môže byť r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odov - minimálny variant na získanie výsledkov s výpovednou hodno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nitoring tejto skupiny je možný vykonávať pracovníkmi o špecializáciou na túto skupinu živočí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v letnom období 1.7 – 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átum odchytu na lokalite sa bude rotovať v rámci šiestich dekád (10 dní), tak aby odchyt na lokalite bol uskutočnený v prvom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tóda doplnená detektoringom (TE detektor, nahrávacie zariadenie, anylý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92240"/>
                <a:gridCol w="1189080"/>
                <a:gridCol w="1189800"/>
                <a:gridCol w="1189440"/>
                <a:gridCol w="1189800"/>
                <a:gridCol w="1189080"/>
                <a:gridCol w="118980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zimoví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30 najvýznamnejších zimovísk pre tieto druhy (Rhip, Rfer, Reur, Mmyo/Mbly, Mmys/Mbra, Mdas, Mema, Ppip/pyg, Bbar, Mschr), urobí sa prienik a doplnia sa významné lokality z území slabo pokryt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ferencia zimovísk, ktoré je možné skontrolovať komplex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lu 100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15.januára. - 28. febru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letných kolón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všetkých najpočetnejších známych úkrytov max. však 30 lokalít pre každý druh u ktorého sa zisťuje početnosť letných kolón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mája – 15. jú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dospelých samí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ama kontrola na podkroví (nie vý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Auto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idsať 30km trans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nsekt zložený zo spektra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d západu slnka cca 2-3 h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stávky pri vodných plochách a tokoch – zachytenie druhov viazaných na vodné plochy (Mdau, Mdas) a ostatných druh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Jesenný n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10 lokalít pre Mmys/bra a 10 pre Mmyo/bly z monitorovaných zim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82680"/>
            <a:ext cx="8136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085760"/>
            <a:ext cx="8642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30:56Z</dcterms:created>
  <dc:creator>Admin</dc:creator>
  <dc:description/>
  <dc:language>en-US</dc:language>
  <cp:lastModifiedBy>Saxa</cp:lastModifiedBy>
  <dcterms:modified xsi:type="dcterms:W3CDTF">2004-11-24T07:10:41Z</dcterms:modified>
  <cp:revision>3</cp:revision>
  <dc:subject/>
  <dc:title>Snímk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9266734</vt:r8>
  </property>
  <property fmtid="{D5CDD505-2E9C-101B-9397-08002B2CF9AE}" pid="3" name="_AuthorEmail">
    <vt:lpwstr>kanuch@sav.savzv.sk</vt:lpwstr>
  </property>
  <property fmtid="{D5CDD505-2E9C-101B-9397-08002B2CF9AE}" pid="4" name="_AuthorEmailDisplayName">
    <vt:lpwstr>Peto Kanuch</vt:lpwstr>
  </property>
  <property fmtid="{D5CDD505-2E9C-101B-9397-08002B2CF9AE}" pid="5" name="_EmailSubject">
    <vt:lpwstr>prezentacia</vt:lpwstr>
  </property>
  <property fmtid="{D5CDD505-2E9C-101B-9397-08002B2CF9AE}" pid="6" name="_ReviewingToolsShownOnce">
    <vt:lpwstr/>
  </property>
</Properties>
</file>