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FB0-8A8B-4017-80EA-643A1F63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22E-E504-4163-A308-1B902E2F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916-DB6B-4904-AC0A-4A514DE7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740-D690-42AE-ADC5-160E2EB6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B21-00BF-4FD6-8BB1-31AD0AC8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BF-8D06-45D7-BE4B-84086B94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1EE-1754-4CA3-9A7A-3E42A31E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317-4D44-4221-BB92-4BE6E70F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7A9-EC2D-448A-A625-65DA632B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E1A2-AD49-48AD-A61B-3E77C7F3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CD7-8577-45A1-889F-C9116DE8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810-B081-4EAC-86ED-4A706E30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1519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6B4A-F431-4D87-8093-DB56B0055EC0}" type="datetime">
              <a:rPr b="0" lang="en-CA" sz="1400" spc="-1" strike="noStrike">
                <a:solidFill>
                  <a:srgbClr val="5e574e"/>
                </a:solidFill>
                <a:latin typeface="Arial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099A-A8B9-4E57-8512-71A8FD65447D}" type="slidenum">
              <a:rPr b="0" lang="en-CA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21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ávrh metodiky monitoringu</a:t>
            </a:r>
            <a:br>
              <a:rPr sz="2800"/>
            </a:b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Netopie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7080017a" descr=""/>
          <p:cNvPicPr/>
          <p:nvPr/>
        </p:nvPicPr>
        <p:blipFill>
          <a:blip r:embed="rId1"/>
          <a:stretch/>
        </p:blipFill>
        <p:spPr>
          <a:xfrm>
            <a:off x="3124080" y="234324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Uchaňa čierna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Barbastella barbastellu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Netopier obyčajn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Myotis myotis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krovia a podzemné úkry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Raniak malý (</a:t>
            </a:r>
            <a:r>
              <a:rPr b="0" i="1" lang="sk-SK" sz="2800" spc="-1" strike="noStrike">
                <a:solidFill>
                  <a:srgbClr val="000000"/>
                </a:solidFill>
                <a:latin typeface="Arial Black"/>
              </a:rPr>
              <a:t>Nyctalus leisleri</a:t>
            </a: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801828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 Black"/>
              </a:rPr>
              <a:t>Časový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harmono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925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dhadované náklad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2924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4T12:09:35Z</dcterms:created>
  <dc:creator>PC</dc:creator>
  <dc:description/>
  <dc:language>en-US</dc:language>
  <cp:lastModifiedBy>PC</cp:lastModifiedBy>
  <dcterms:modified xsi:type="dcterms:W3CDTF">2004-11-14T17:08:38Z</dcterms:modified>
  <cp:revision>8</cp:revision>
  <dc:subject/>
  <dc:title>Návrh metodiky monitoringu - netopiere</dc:title>
</cp:coreProperties>
</file>