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A7C-9692-4F6A-8A1B-3FC902A1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53B-E570-435D-885D-97372A5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53A-7672-4DE2-89CF-23D80A70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7BB-4E97-4BB4-8D06-BD1959DB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E62-8F89-4F0B-8850-1C2B051E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39B-48BB-499C-8E20-5F0A8DB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226-96E0-49FB-A422-224E9A1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622-54DE-48C0-8375-9B3F01D3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1C6-729F-41A3-AE0A-A917494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AB2-9E24-4153-9C34-510F7B9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56D-8D03-41B4-A5BE-D1A01E4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D1A-9CA6-47B6-B2A1-45918AA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2145-5127-45D4-A18B-3C14E6D4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ieľe monitoro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chceme dosiahnu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o sledovať či sú vtáky v priaznivom stave a či a ako na ich stav pôsobia prijaté manažmentové 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majú získané údaje a výstupy slúži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spracovanie početností populácií, ich zmien a trendov (vrátane areálový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posúdenie odozvy populácií n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pokrytia populá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98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vzácnych, ohrozených a  koloniálnych druhoch sa dajú monitorovať celé populácie (orol kráľovský, rybár rieč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berové metódy sa použijú pri rozptýlených druhoch (lesné spevavce, druhy otvorenej krajiny, ďatlov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zhromažďujúcich sa druhoch (vodné vtáky) sa uskutoční monitoring vybraných území (sčítanie vodného vtác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výberu metó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ornitológia je vybavená odskúšanými kvantitatívnymi metó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ódy monitoringu vtákov musia byť  jednoducho a rýchlo vykonate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olené metódy musia byť navzájom porovnateľné med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ázky výberu monitorovaných lokalí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hodný / stratifikovaný vý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onitorovanie lokalít v rámci i mimo území Natura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všetkých biogeografických častí Sloven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ber a spracovanie d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ber dát – najlepšie v elektronickej pod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rifikácia dát a ich zhromažďovanie v data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spracovanie dát ich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ätná väzba doručenie výstupov sčítavateľom a správcom jednotlivých území, resp. príslušným pracoviskám ŠOP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o</cp:lastModifiedBy>
  <dcterms:modified xsi:type="dcterms:W3CDTF">2004-11-15T10:20:24Z</dcterms:modified>
  <cp:revision>3</cp:revision>
  <dc:subject/>
  <dc:title>Metodika monitoringu vybraných druhov vtákov - poznámky</dc:title>
</cp:coreProperties>
</file>