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10A-7CE0-4F00-828D-6F030198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CAA-5AE7-4138-8AF1-41C3826D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848-C677-4653-9DF7-C03F9C64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AEF-97C3-4AAB-9C0A-14EB01A6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9C6-8B98-4A68-A8A6-AB669F74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DA4-11E8-419C-909B-238C071B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4ED-F95B-4A97-AD67-9942444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D3D-E5EC-41EE-8182-D9F5EAA3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378-FFD2-42AC-892D-BDB7BA9B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683-A4CE-49EE-81ED-9B7B8D7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85D-7C38-492C-9DFC-C20773F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378-912E-4A88-B546-7F228BD5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F3D5-DFD7-4A42-A73A-16A81EBFD6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1. Rozsah monitoringu: KOĽKO, KEDY a KD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) Výber populác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hrozené, lokalizované, koloniálne druhy 100% populác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týlené druhy – dbať na dostatočnú veľkosť vzo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Priestor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ifikovaný výber vzoriek – plôch s dôrazom na CHVU, biogeografické regióny, pokrytie biotopov, Slovenska, dostupnosť mapov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) Čas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niezdne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imné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gráci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Frekvencia monitoring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KO Č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5986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álne ročná period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iel môže  byť pri monitorovaní niektorých parame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997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3. Návrh monitorovaných ukazovateľov: Č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58136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ritériá a subkritériá použité pri definovaní priaznivého stavu druho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4. Návrh monitorovacej metódy a zberu dá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A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o najviac využiť existujúce programy a aktivity monitorujúce vtác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hrozené, lokalizované, koloniálne druhy – špeciálne metó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ozptýlené druhy – bodový transekt, (mapovacia metóda, prípadne iná kompatibiln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odné zhromažďujúce sa dr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imné sčítanie vodného vtáctva (pásov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tóda dvoch kontrol / hladinové sčítanie (hniezdne obdob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Materiálne a personálne zabezpečenie monitoringu: Č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01280"/>
            <a:ext cx="842472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ersonálne zabezpečenie (počet sčítavateľov, odborn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treba školenia v použití metodík odbor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chova budúcich spolu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roky na finančné zabezpeč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koordinova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6. Vyhodnocovanie a kontrola údajo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y zber, štandardizácia, verifikácia a spracovanie d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borný gar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ytik, správca databá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7. Testovanie navrhnutej metodi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potrebné testovacie obdobie (okrem niektorých skupín) min.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8. Manažmentové odporúčan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ližšia špecifikácia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islav Rybanič</cp:lastModifiedBy>
  <dcterms:modified xsi:type="dcterms:W3CDTF">2004-11-16T10:56:58Z</dcterms:modified>
  <cp:revision>5</cp:revision>
  <dc:subject/>
  <dc:title>Metodika monitoringu vybraných druhov vtákov - poznámky</dc:title>
</cp:coreProperties>
</file>