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0.jpeg" ContentType="image/jpeg"/>
  <Override PartName="/ppt/media/image5.png" ContentType="image/png"/>
  <Override PartName="/ppt/media/image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3F7D-B382-4344-8E17-F3FDE4B84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A1C8-0B09-46E7-B849-C07F6F0ED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465F0-89B3-439B-9615-A017369B5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8030B-259B-4068-AC41-623190F12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F5BD11-0739-41AA-B0CF-DA5444F350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CD21F-F28C-4224-A21D-EBEAA2AB3B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CC290-1D03-4879-B9D6-1452FC81B6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75E8C3-F791-4148-89BF-5E1C953A3A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F802A-2F6C-4ECF-B844-A667E79F1A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570E8-02B8-480B-A0D0-3A1F43E237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F5341-8F32-479B-B522-FC345D968A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574A1-FD75-4C32-91B7-608195378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A063F-7FCF-4D66-9C41-544AF6775A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DCCF8-4C2B-48C7-A575-F7C49C5007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1B33D-E883-40D9-BA31-3E67A685CA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4FEDD-32C4-4AE0-B4FE-C446F92229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0E85A-8FB5-41CA-8F52-A02487BFCA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8674-DF99-43DD-9357-76731888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2AF4-9C82-44F8-A477-B152F303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99686-B808-43EC-ADC2-CAB37A611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F811-7852-4163-8336-78646447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1943-2BF5-412D-A4EC-AE6CA0F0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1C45-38E5-4BEE-9F7A-DE027983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9F60-51FF-4B7C-BB33-B6911BF58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0574-65ED-4586-857C-86707AA905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9BB-3E1A-4AF6-945A-E24B934C87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sopsr.sk/istb/index.php?m=klienti&amp;ac=6&amp;k=3"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sopsr.sk/istb/index.php?m=klienti&amp;ac=6&amp;k=5" TargetMode="External"/><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oleObject" Target="../embeddings/oleObject2.bin"/><Relationship Id="rId11" Type="http://schemas.openxmlformats.org/officeDocument/2006/relationships/image" Target="../media/image8.png"/><Relationship Id="rId12" Type="http://schemas.openxmlformats.org/officeDocument/2006/relationships/hyperlink" Target="http://www.sopsr.sk/istb/index.php?m=klienti&amp;ac=6&amp;k=2" TargetMode="External"/><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484280"/>
            <a:ext cx="828036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ahoma"/>
              </a:rPr>
              <a:t>Zhodnotenie definovania priaznivého stavu živočíšnych druhov</a:t>
            </a:r>
            <a:br>
              <a:rPr sz="3200"/>
            </a:br>
            <a:endParaRPr b="0" lang="en-US" sz="3200" spc="-1" strike="noStrike">
              <a:solidFill>
                <a:srgbClr val="ffffff"/>
              </a:solidFill>
              <a:latin typeface="Tahoma"/>
            </a:endParaRPr>
          </a:p>
        </p:txBody>
      </p:sp>
      <p:sp>
        <p:nvSpPr>
          <p:cNvPr id="84" name="PlaceHolder 2"/>
          <p:cNvSpPr>
            <a:spLocks noGrp="1"/>
          </p:cNvSpPr>
          <p:nvPr>
            <p:ph/>
          </p:nvPr>
        </p:nvSpPr>
        <p:spPr>
          <a:xfrm>
            <a:off x="2340000" y="3573360"/>
            <a:ext cx="4464000" cy="1944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ahoma"/>
              </a:rPr>
              <a:t>Bratislava 15. – 16. november 2004</a:t>
            </a:r>
            <a:endParaRPr b="0" lang="en-US" sz="1200" spc="-1" strike="noStrike">
              <a:solidFill>
                <a:srgbClr val="ffffff"/>
              </a:solidFill>
              <a:latin typeface="Tahoma"/>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 </a:t>
            </a:r>
            <a:endParaRPr b="0" lang="en-US" sz="1600" spc="-1" strike="noStrike">
              <a:solidFill>
                <a:srgbClr val="ffffff"/>
              </a:solidFill>
              <a:latin typeface="Tahoma"/>
            </a:endParaRPr>
          </a:p>
          <a:p>
            <a:pPr marL="343080" indent="0" algn="ct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5" name="" descr=""/>
          <p:cNvPicPr/>
          <p:nvPr/>
        </p:nvPicPr>
        <p:blipFill>
          <a:blip r:embed="rId2"/>
          <a:stretch/>
        </p:blipFill>
        <p:spPr>
          <a:xfrm>
            <a:off x="7308720" y="5300640"/>
            <a:ext cx="1200240" cy="99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43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5" name=""/>
          <p:cNvGraphicFramePr/>
          <p:nvPr/>
        </p:nvGraphicFramePr>
        <p:xfrm>
          <a:off x="396720" y="765000"/>
          <a:ext cx="8423280" cy="5456520"/>
        </p:xfrm>
        <a:graphic>
          <a:graphicData uri="http://schemas.openxmlformats.org/drawingml/2006/table">
            <a:tbl>
              <a:tblPr/>
              <a:tblGrid>
                <a:gridCol w="365400"/>
                <a:gridCol w="1722240"/>
                <a:gridCol w="2087640"/>
                <a:gridCol w="2016000"/>
                <a:gridCol w="223200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r>
                        <a:rPr b="1" lang="en-US" sz="1800" spc="-1" strike="noStrike">
                          <a:solidFill>
                            <a:srgbClr val="000000"/>
                          </a:solidFill>
                          <a:latin typeface="Tahoma"/>
                          <a:ea typeface="Times New Roman"/>
                        </a:rPr>
                        <a:t>HROZEN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Žiadne vyrušovanie a prenasledovanie na lokalitách výskytu, nízka intenzita športového rybárstva.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Takmer žiadne vyrušovanie a prenasledovanie na lokalitách výskytu samíc s  mláďatami, priemern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yrušovanie a prenasledovanie na lokalitách výskytu samíc s  mláďatami, vysok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Žiadne znečistenie, narušenie a likvidácia tečúcich a stojatých čistých a na ryby bohatých vôd s bohato štruktúrovanými brehovými porastami, predovšetkým stredné úseky riek a stredne veľké stojaté vody, resp. zvýšenie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Takmer žiadne (&lt;10 %) znečistenie, narušenie a likvidácia tečúcich a stojatých vôd so štruktúrovanými brehovými porastami, resp. kompenzácia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Znečistenie, narušenie a likvidácia tečúcich a stojatých vôd so štruktúrovanými brehovými porastami na rozlohe &gt; 10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77680" y="403920"/>
            <a:ext cx="73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228600"/>
                <a:tab algn="r" pos="1152360"/>
                <a:tab algn="r" pos="2295360"/>
                <a:tab algn="r" pos="3438360"/>
                <a:tab algn="r" pos="4581360"/>
                <a:tab algn="r" pos="5791320"/>
                <a:tab algn="l" pos="6400800"/>
                <a:tab algn="l" pos="7315200"/>
                <a:tab algn="l" pos="8229600"/>
                <a:tab algn="l" pos="9144000"/>
                <a:tab algn="l" pos="10058400"/>
              </a:tabLst>
            </a:pPr>
            <a:r>
              <a:rPr b="1" lang="cs-CZ" sz="2000" spc="-1" strike="noStrike">
                <a:solidFill>
                  <a:srgbClr val="000000"/>
                </a:solidFill>
                <a:latin typeface="Tahoma"/>
              </a:rPr>
              <a:t>Príklad c</a:t>
            </a:r>
            <a:r>
              <a:rPr b="1" lang="cs-CZ" sz="2000" spc="-1" strike="noStrike">
                <a:solidFill>
                  <a:srgbClr val="000000"/>
                </a:solidFill>
                <a:latin typeface="Tahoma"/>
                <a:ea typeface="Times New Roman"/>
              </a:rPr>
              <a:t>elkové</a:t>
            </a:r>
            <a:r>
              <a:rPr b="1" lang="cs-CZ" sz="2000" spc="-1" strike="noStrike">
                <a:solidFill>
                  <a:srgbClr val="000000"/>
                </a:solidFill>
                <a:latin typeface="Tahoma"/>
              </a:rPr>
              <a:t>ho </a:t>
            </a:r>
            <a:r>
              <a:rPr b="1" lang="cs-CZ" sz="2000" spc="-1" strike="noStrike">
                <a:solidFill>
                  <a:srgbClr val="000000"/>
                </a:solidFill>
                <a:latin typeface="Tahoma"/>
                <a:ea typeface="Times New Roman"/>
              </a:rPr>
              <a:t>vyhodnoteni</a:t>
            </a:r>
            <a:r>
              <a:rPr b="1" lang="cs-CZ" sz="2000" spc="-1" strike="noStrike">
                <a:solidFill>
                  <a:srgbClr val="000000"/>
                </a:solidFill>
                <a:latin typeface="Tahoma"/>
              </a:rPr>
              <a:t>a</a:t>
            </a:r>
            <a:r>
              <a:rPr b="1" lang="cs-CZ" sz="2000" spc="-1" strike="noStrike">
                <a:solidFill>
                  <a:srgbClr val="000000"/>
                </a:solidFill>
                <a:latin typeface="Tahoma"/>
                <a:ea typeface="Times New Roman"/>
              </a:rPr>
              <a:t> stavu</a:t>
            </a:r>
            <a:r>
              <a:rPr b="1" lang="cs-CZ" sz="2000" spc="-1" strike="noStrike">
                <a:solidFill>
                  <a:srgbClr val="000000"/>
                </a:solidFill>
                <a:latin typeface="Tahoma"/>
              </a:rPr>
              <a:t> druhu na lokalite</a:t>
            </a:r>
            <a:r>
              <a:rPr b="1" lang="cs-CZ" sz="2000" spc="-1" strike="noStrike">
                <a:solidFill>
                  <a:srgbClr val="000000"/>
                </a:solidFill>
                <a:latin typeface="Tahoma"/>
                <a:ea typeface="Times New Roman"/>
              </a:rPr>
              <a:t>:</a:t>
            </a:r>
            <a:endParaRPr b="0" lang="en-US" sz="2000" spc="-1" strike="noStrike">
              <a:solidFill>
                <a:srgbClr val="ffffff"/>
              </a:solidFill>
              <a:latin typeface="Arial"/>
            </a:endParaRPr>
          </a:p>
        </p:txBody>
      </p:sp>
      <p:graphicFrame>
        <p:nvGraphicFramePr>
          <p:cNvPr id="117" name=""/>
          <p:cNvGraphicFramePr/>
          <p:nvPr/>
        </p:nvGraphicFramePr>
        <p:xfrm>
          <a:off x="453960" y="907920"/>
          <a:ext cx="8221680" cy="5616720"/>
        </p:xfrm>
        <a:graphic>
          <a:graphicData uri="http://schemas.openxmlformats.org/drawingml/2006/table">
            <a:tbl>
              <a:tblPr/>
              <a:tblGrid>
                <a:gridCol w="517680"/>
                <a:gridCol w="2808360"/>
                <a:gridCol w="780840"/>
                <a:gridCol w="731880"/>
                <a:gridCol w="719280"/>
                <a:gridCol w="865080"/>
                <a:gridCol w="934920"/>
                <a:gridCol w="863640"/>
              </a:tblGrid>
              <a:tr h="1067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um</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B</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Váha paramet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Dosiahnutá hodno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Možná hodno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6"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6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Výsledná hodno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64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18" name=""/>
          <p:cNvGraphicFramePr/>
          <p:nvPr/>
        </p:nvGraphicFramePr>
        <p:xfrm>
          <a:off x="1547640" y="5373720"/>
          <a:ext cx="4535640" cy="1278000"/>
        </p:xfrm>
        <a:graphic>
          <a:graphicData uri="http://schemas.openxmlformats.org/drawingml/2006/table">
            <a:tbl>
              <a:tblPr/>
              <a:tblGrid>
                <a:gridCol w="1511640"/>
                <a:gridCol w="1512720"/>
                <a:gridCol w="151128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9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00 – 78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77 - 55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54 - 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68360" y="598320"/>
            <a:ext cx="80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ť štruktúru, rozlohu a kvalitu tečúcich a stojatých čistých a na ryby bohatých vôd s bohato štruktúrovanými brehovými porastami, predovšetkým stredné úseky riek a stredne veľké stojaté vod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bezpečovať technické riešenie potenciálnych bariér na vodných tokoch a prechodov cez cestné komikác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Obmedziť vstup na lokality, ktoré predstavujú dôležité reprodukčné habitat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lepšiť komunikáciu a zvýšiť informovanosť návštevníkov lokalít s výskytom vydry, najmä rybármi a poľovníkm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eľkoplošné sčítania podľa pobytových znakov na modelových územiach, sledovanie areálu, doplnkovo telemetrické sledovan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Doc. Ing. Rudolf Kropil Cs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cia metodiky monitoringu pre  európsky významné druhy  živočíchov </a:t>
            </a:r>
            <a:endParaRPr b="0" lang="en-US" sz="3200" spc="-1" strike="noStrike">
              <a:solidFill>
                <a:srgbClr val="ffffff"/>
              </a:solidFill>
              <a:latin typeface="Arial"/>
            </a:endParaRPr>
          </a:p>
        </p:txBody>
      </p:sp>
      <p:sp>
        <p:nvSpPr>
          <p:cNvPr id="121"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Arial"/>
            </a:endParaRPr>
          </a:p>
        </p:txBody>
      </p:sp>
      <p:pic>
        <p:nvPicPr>
          <p:cNvPr id="122"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51000" y="620640"/>
            <a:ext cx="839772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ieľ monitoring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Pravidelné zisťovanie a hodnotenie stavu európsky významných živočíchov a ich biotopov na Slovensku a dlhodobé sledovanie stability, zmien a vývojových trendov tohto stav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Organizácia zberu dát a ich uklada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Údaje budú zaznamenávané do vytvorenej aplikácie (resp. modulu prepojeného z ISTB rozšíreného o potrebné polia), ktorá bude pravidelne odosielaná do COPK.</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Monitorovacou plochou je územie, kde sú typické podmienky pre existenciu druhu. Monitoring bude orientovaný len do tých typov biotopov, kde je predpoklad prirodzeného výskytu druh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ú zabezpečovať jednotlivé organizačné útvary ŠOP SR prostredníctvom vlastných kapacít, mimovládnych a vedecko-výskumných organizácií a dobrovoľníkov. Potrebné je uváženie spolupráce so školami. Dôležitá je výchova detí a mládeže, propagácia, styk s verejnosťou, osve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692280"/>
            <a:ext cx="7993080" cy="649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ahoma"/>
              </a:rPr>
              <a:t>Návrh obsahu metodiky monitoringu živočíčnych druhov:</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Rozsah monitoring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 výberový - </a:t>
            </a:r>
            <a:r>
              <a:rPr b="0" lang="sk-SK" sz="2400" spc="-1" strike="noStrike">
                <a:solidFill>
                  <a:srgbClr val="000000"/>
                </a:solidFill>
                <a:latin typeface="Tahoma"/>
              </a:rPr>
              <a:t>%, plocha (alebo inak definovaný rozsah) pokrytia populácie a jej biotopu monitoringo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b) priestorový - </a:t>
            </a:r>
            <a:r>
              <a:rPr b="0" lang="sk-SK" sz="2400" spc="-1" strike="noStrike">
                <a:solidFill>
                  <a:srgbClr val="000000"/>
                </a:solidFill>
                <a:latin typeface="Tahoma"/>
              </a:rPr>
              <a:t>optimálne rozmiestnenie monitorovacích aktivít (plôch) a ich veľkosť pre dlhodobé a sústavné sledovanie druhu. V prípade, že nie je možné vybrať TMP, návrh schémy resp. metódy výberu plôc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c) časový - </a:t>
            </a:r>
            <a:r>
              <a:rPr b="0" lang="sk-SK" sz="2400" spc="-1" strike="noStrike">
                <a:solidFill>
                  <a:srgbClr val="000000"/>
                </a:solidFill>
                <a:latin typeface="Tahoma"/>
              </a:rPr>
              <a:t>najvhodnejší čas (resp. časové rozpätie) monitoringu počas roka a dň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63480" y="635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538200" y="836640"/>
            <a:ext cx="813744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2. Frekvencia monitoringu:</a:t>
            </a:r>
            <a:r>
              <a:rPr b="1" lang="sk-SK" sz="2400" spc="-1" strike="noStrike">
                <a:solidFill>
                  <a:srgbClr val="000000"/>
                </a:solidFill>
                <a:latin typeface="Tahoma"/>
              </a:rPr>
              <a:t>	</a:t>
            </a:r>
            <a:r>
              <a:rPr b="0" lang="sk-SK" sz="2400" spc="-1" strike="noStrike">
                <a:solidFill>
                  <a:srgbClr val="000000"/>
                </a:solidFill>
                <a:latin typeface="Tahoma"/>
              </a:rPr>
              <a:t>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635040"/>
            <a:ext cx="828216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3. Návrh monitorovaných parametrov:</a:t>
            </a:r>
            <a:r>
              <a:rPr b="1" lang="sk-SK"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Reporting EK je zameraný na monitorovanie stavu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arametre monitoringu:</a:t>
            </a:r>
            <a:r>
              <a:rPr b="0" lang="sk-SK" sz="2400" spc="-1" strike="noStrike">
                <a:solidFill>
                  <a:srgbClr val="000000"/>
                </a:solidFill>
                <a:latin typeface="Tahoma"/>
              </a:rPr>
              <a:t> použijú sa subkritériá podľa definície priaznivého stav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azovatele monitoringu </a:t>
            </a:r>
            <a:r>
              <a:rPr b="0" lang="sk-SK" sz="2400" spc="-1" strike="noStrike">
                <a:solidFill>
                  <a:srgbClr val="000000"/>
                </a:solidFill>
                <a:latin typeface="Tahoma"/>
              </a:rPr>
              <a:t>(potrebné pre reporting EK). Použijú sa zákl. kritéria hodnotenia FCS získané sumarizáciou sub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reál rozšírenia druhu</a:t>
            </a:r>
            <a:r>
              <a:rPr b="0" lang="sk-SK" sz="2400" spc="-1" strike="noStrike">
                <a:solidFill>
                  <a:srgbClr val="000000"/>
                </a:solidFill>
                <a:latin typeface="Tahoma"/>
              </a:rPr>
              <a:t> – len na úrovni biogeografické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                                                       </a:t>
            </a:r>
            <a:r>
              <a:rPr b="0" lang="sk-SK" sz="2400" spc="-1" strike="noStrike">
                <a:solidFill>
                  <a:srgbClr val="000000"/>
                </a:solidFill>
                <a:latin typeface="Tahoma"/>
              </a:rPr>
              <a:t>regiónu /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populácia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biotop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vplyvy a ohrozenia druhu a jeho biotopu</a:t>
            </a:r>
            <a:r>
              <a:rPr b="0" lang="sk-SK" sz="2400" spc="-1" strike="noStrike">
                <a:solidFill>
                  <a:srgbClr val="000000"/>
                </a:solidFill>
                <a:latin typeface="Tahoma"/>
              </a:rPr>
              <a:t> – 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2560" y="793800"/>
            <a:ext cx="770580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 Návrh monitorovacej metódy a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pis existujúcich metód a postupov (odkaz na zdroj) a zhodnotenie ich využiteľnosti vo vzťahu k cieľom monitoringu a materiálnym a personálnym možnostiam ŠOP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pracovanie minimálneho a optimálneho variantu metodiky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ípadne viac variantov) a načrtnutie ich silných a slabých stránok. Metóda: Nenáročná na zber a spracovanie údajov alebo zaznamenávanie pozorovaných javov. Podrobný opis terénneho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5640" y="836640"/>
            <a:ext cx="734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5. Materiálne a personálne zabezpečen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t>
            </a:r>
            <a:r>
              <a:rPr b="1" lang="sk-SK" sz="2400" spc="-1" strike="noStrike" u="sng">
                <a:solidFill>
                  <a:srgbClr val="000000"/>
                </a:solidFill>
                <a:uFillTx/>
                <a:latin typeface="Tahoma"/>
              </a:rPr>
              <a:t>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álny náčrt potrebného materiálneho, technického, finančného a personálneho zabezpečenia pre navrhovanú metodiku, s ohľadom na nutnosť dlhodobého monitoring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0920" y="838080"/>
            <a:ext cx="6491160" cy="59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CS živočíchov v číslach:</a:t>
            </a:r>
            <a:r>
              <a:rPr b="1" lang="en-US" sz="2400" spc="-1" strike="noStrike">
                <a:solidFill>
                  <a:srgbClr val="000000"/>
                </a:solidFill>
                <a:latin typeface="Tahoma"/>
              </a:rPr>
              <a:t> </a:t>
            </a: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šetkých druhov: 23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skupín (lídrov): 5/6</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ypracovávateľov,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lupracovníkov a oponentov: 6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zapojených organizácií: 1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 descr=""/>
          <p:cNvPicPr/>
          <p:nvPr/>
        </p:nvPicPr>
        <p:blipFill>
          <a:blip r:embed="rId2"/>
          <a:stretch/>
        </p:blipFill>
        <p:spPr>
          <a:xfrm>
            <a:off x="7350120" y="3284640"/>
            <a:ext cx="1793880" cy="3573360"/>
          </a:xfrm>
          <a:prstGeom prst="rect">
            <a:avLst/>
          </a:prstGeom>
          <a:ln w="0">
            <a:noFill/>
          </a:ln>
        </p:spPr>
      </p:pic>
      <p:pic>
        <p:nvPicPr>
          <p:cNvPr id="88" name="" descr="">
            <a:hlinkClick r:id="rId3"/>
          </p:cNvPr>
          <p:cNvPicPr/>
          <p:nvPr/>
        </p:nvPicPr>
        <p:blipFill>
          <a:blip r:embed="rId4"/>
          <a:stretch/>
        </p:blipFill>
        <p:spPr>
          <a:xfrm>
            <a:off x="7020000" y="3645000"/>
            <a:ext cx="623880" cy="1008000"/>
          </a:xfrm>
          <a:prstGeom prst="rect">
            <a:avLst/>
          </a:prstGeom>
          <a:ln w="0">
            <a:noFill/>
          </a:ln>
        </p:spPr>
      </p:pic>
      <p:pic>
        <p:nvPicPr>
          <p:cNvPr id="89" name="" descr=""/>
          <p:cNvPicPr/>
          <p:nvPr/>
        </p:nvPicPr>
        <p:blipFill>
          <a:blip r:embed="rId5"/>
          <a:stretch/>
        </p:blipFill>
        <p:spPr>
          <a:xfrm>
            <a:off x="7331040" y="0"/>
            <a:ext cx="1812960" cy="3322800"/>
          </a:xfrm>
          <a:prstGeom prst="rect">
            <a:avLst/>
          </a:prstGeom>
          <a:ln w="0">
            <a:noFill/>
          </a:ln>
        </p:spPr>
      </p:pic>
      <p:pic>
        <p:nvPicPr>
          <p:cNvPr id="90" name="" descr="">
            <a:hlinkClick r:id="rId6"/>
          </p:cNvPr>
          <p:cNvPicPr/>
          <p:nvPr/>
        </p:nvPicPr>
        <p:blipFill>
          <a:blip r:embed="rId7"/>
          <a:stretch/>
        </p:blipFill>
        <p:spPr>
          <a:xfrm>
            <a:off x="6948360" y="1557360"/>
            <a:ext cx="773280" cy="798480"/>
          </a:xfrm>
          <a:prstGeom prst="rect">
            <a:avLst/>
          </a:prstGeom>
          <a:ln w="0">
            <a:noFill/>
          </a:ln>
        </p:spPr>
      </p:pic>
      <p:graphicFrame>
        <p:nvGraphicFramePr>
          <p:cNvPr id="91" name=""/>
          <p:cNvGraphicFramePr/>
          <p:nvPr/>
        </p:nvGraphicFramePr>
        <p:xfrm>
          <a:off x="6948360" y="5283360"/>
          <a:ext cx="787680" cy="1574640"/>
        </p:xfrm>
        <a:graphic>
          <a:graphicData uri="http://schemas.openxmlformats.org/presentationml/2006/ole">
            <p:oleObj r:id="rId8" spid="">
              <p:embed/>
              <p:pic>
                <p:nvPicPr>
                  <p:cNvPr id="92" name="" descr=""/>
                  <p:cNvPicPr/>
                  <p:nvPr/>
                </p:nvPicPr>
                <p:blipFill>
                  <a:blip r:embed="rId9"/>
                  <a:stretch/>
                </p:blipFill>
                <p:spPr>
                  <a:xfrm>
                    <a:off x="6948360" y="5283360"/>
                    <a:ext cx="787680" cy="1574640"/>
                  </a:xfrm>
                  <a:prstGeom prst="rect">
                    <a:avLst/>
                  </a:prstGeom>
                  <a:ln w="0">
                    <a:noFill/>
                  </a:ln>
                </p:spPr>
              </p:pic>
            </p:oleObj>
          </a:graphicData>
        </a:graphic>
      </p:graphicFrame>
      <p:graphicFrame>
        <p:nvGraphicFramePr>
          <p:cNvPr id="93" name=""/>
          <p:cNvGraphicFramePr/>
          <p:nvPr/>
        </p:nvGraphicFramePr>
        <p:xfrm>
          <a:off x="7020000" y="2924280"/>
          <a:ext cx="671400" cy="807840"/>
        </p:xfrm>
        <a:graphic>
          <a:graphicData uri="http://schemas.openxmlformats.org/presentationml/2006/ole">
            <p:oleObj r:id="rId10" spid="">
              <p:embed/>
              <p:pic>
                <p:nvPicPr>
                  <p:cNvPr id="94" name="" descr=""/>
                  <p:cNvPicPr/>
                  <p:nvPr/>
                </p:nvPicPr>
                <p:blipFill>
                  <a:blip r:embed="rId11"/>
                  <a:stretch/>
                </p:blipFill>
                <p:spPr>
                  <a:xfrm>
                    <a:off x="7020000" y="2924280"/>
                    <a:ext cx="671400" cy="807840"/>
                  </a:xfrm>
                  <a:prstGeom prst="rect">
                    <a:avLst/>
                  </a:prstGeom>
                  <a:ln w="0">
                    <a:noFill/>
                  </a:ln>
                </p:spPr>
              </p:pic>
            </p:oleObj>
          </a:graphicData>
        </a:graphic>
      </p:graphicFrame>
      <p:pic>
        <p:nvPicPr>
          <p:cNvPr id="95" name="" descr="">
            <a:hlinkClick r:id="rId12"/>
          </p:cNvPr>
          <p:cNvPicPr/>
          <p:nvPr/>
        </p:nvPicPr>
        <p:blipFill>
          <a:blip r:embed="rId13"/>
          <a:stretch/>
        </p:blipFill>
        <p:spPr>
          <a:xfrm>
            <a:off x="6877080" y="2349360"/>
            <a:ext cx="863640" cy="619200"/>
          </a:xfrm>
          <a:prstGeom prst="rect">
            <a:avLst/>
          </a:prstGeom>
          <a:ln w="0">
            <a:noFill/>
          </a:ln>
        </p:spPr>
      </p:pic>
      <p:pic>
        <p:nvPicPr>
          <p:cNvPr id="96" name="" descr=""/>
          <p:cNvPicPr/>
          <p:nvPr/>
        </p:nvPicPr>
        <p:blipFill>
          <a:blip r:embed="rId14"/>
          <a:stretch/>
        </p:blipFill>
        <p:spPr>
          <a:xfrm>
            <a:off x="7101000" y="260280"/>
            <a:ext cx="566640" cy="765360"/>
          </a:xfrm>
          <a:prstGeom prst="rect">
            <a:avLst/>
          </a:prstGeom>
          <a:ln w="0">
            <a:noFill/>
          </a:ln>
        </p:spPr>
      </p:pic>
      <p:pic>
        <p:nvPicPr>
          <p:cNvPr id="97" name="" descr=""/>
          <p:cNvPicPr/>
          <p:nvPr/>
        </p:nvPicPr>
        <p:blipFill>
          <a:blip r:embed="rId15"/>
          <a:stretch/>
        </p:blipFill>
        <p:spPr>
          <a:xfrm>
            <a:off x="6804000" y="0"/>
            <a:ext cx="1163520" cy="689040"/>
          </a:xfrm>
          <a:prstGeom prst="rect">
            <a:avLst/>
          </a:prstGeom>
          <a:ln w="0">
            <a:noFill/>
          </a:ln>
        </p:spPr>
      </p:pic>
      <p:pic>
        <p:nvPicPr>
          <p:cNvPr id="98" name="" descr=""/>
          <p:cNvPicPr/>
          <p:nvPr/>
        </p:nvPicPr>
        <p:blipFill>
          <a:blip r:embed="rId16"/>
          <a:stretch/>
        </p:blipFill>
        <p:spPr>
          <a:xfrm>
            <a:off x="6948360" y="795240"/>
            <a:ext cx="762120" cy="762120"/>
          </a:xfrm>
          <a:prstGeom prst="rect">
            <a:avLst/>
          </a:prstGeom>
          <a:ln w="0">
            <a:noFill/>
          </a:ln>
        </p:spPr>
      </p:pic>
      <p:pic>
        <p:nvPicPr>
          <p:cNvPr id="99" name="" descr=""/>
          <p:cNvPicPr/>
          <p:nvPr/>
        </p:nvPicPr>
        <p:blipFill>
          <a:blip r:embed="rId17"/>
          <a:stretch/>
        </p:blipFill>
        <p:spPr>
          <a:xfrm>
            <a:off x="6948360" y="4508640"/>
            <a:ext cx="811440" cy="811080"/>
          </a:xfrm>
          <a:prstGeom prst="rect">
            <a:avLst/>
          </a:prstGeom>
          <a:ln w="0">
            <a:noFill/>
          </a:ln>
        </p:spPr>
      </p:pic>
      <p:pic>
        <p:nvPicPr>
          <p:cNvPr id="100" name="" descr="Znak fakulty"/>
          <p:cNvPicPr/>
          <p:nvPr/>
        </p:nvPicPr>
        <p:blipFill>
          <a:blip r:embed="rId18"/>
          <a:stretch/>
        </p:blipFill>
        <p:spPr>
          <a:xfrm>
            <a:off x="6948360" y="5643720"/>
            <a:ext cx="80964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38280" y="620640"/>
            <a:ext cx="8110440" cy="58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ahoma"/>
              </a:rPr>
              <a:t>6. Vyhodnocovanie a kontrola úda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tvorenie mechanizmu zberu a vyhodnocovania dát z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doterajších štatistických metód spracovania, v dôsledku množstva spracovávaných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existujúcich databáz a GIS vrstiev s ich prepracovaním, alebo doplnením pre účely monitoringu živočíšnych druh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utnosť digitálneho spracovania a vyhodnocovania výsledk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4360" y="549360"/>
            <a:ext cx="777528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7. Testovanie navrhnutej metodik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návrh vhodného spôsobu praktického preverenia navrhnutej metodiky,</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kiaľ je možné považovať navrhovaný spôsob (postup) za v praxi overený, len citovať zdroj, prípadne stručne komentovať výsledky jej praktického overovania či využív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8. Manažmentové odporúč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ávrh ochranných opatrení nutných pre zabezpečenie priaznivého stavu druhu, ktoré by sa mali premietnuť do programov starostlivosti o chránené územi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9. Prehľad použitých základných informačných zdro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4" name="" descr=""/>
          <p:cNvPicPr/>
          <p:nvPr/>
        </p:nvPicPr>
        <p:blipFill>
          <a:blip r:embed="rId2"/>
          <a:stretch/>
        </p:blipFill>
        <p:spPr>
          <a:xfrm>
            <a:off x="6877080" y="5157720"/>
            <a:ext cx="1200240" cy="996840"/>
          </a:xfrm>
          <a:prstGeom prst="rect">
            <a:avLst/>
          </a:prstGeom>
          <a:ln w="0">
            <a:noFill/>
          </a:ln>
        </p:spPr>
      </p:pic>
      <p:pic>
        <p:nvPicPr>
          <p:cNvPr id="135"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7080" y="1700280"/>
            <a:ext cx="7775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acerta viridis </a:t>
            </a:r>
            <a:r>
              <a:rPr b="1" lang="sk-SK" sz="1800" spc="-1" strike="noStrike">
                <a:solidFill>
                  <a:srgbClr val="000000"/>
                </a:solidFill>
                <a:latin typeface="Tahoma"/>
              </a:rPr>
              <a:t>(Laurenti, 176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 Repti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Squam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cert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olytypický druh  s 2.  poddruhmi. Na Slovensku žije nominotypický poddru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r>
              <a:rPr b="1" lang="sk-SK" sz="1800" spc="-1" strike="noStrike">
                <a:solidFill>
                  <a:srgbClr val="000000"/>
                </a:solidFill>
                <a:latin typeface="Tahoma"/>
              </a:rPr>
              <a:t>:</a:t>
            </a:r>
            <a:r>
              <a:rPr b="0" lang="sk-SK" sz="1800" spc="-1" strike="noStrike">
                <a:solidFill>
                  <a:srgbClr val="000000"/>
                </a:solidFill>
                <a:latin typeface="Tahoma"/>
              </a:rPr>
              <a:t> Európa – Od Poľska po Grécko, od Slovinska po Dneper a Tureck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1" lang="sk-SK" sz="1800" spc="-1" strike="noStrike">
                <a:solidFill>
                  <a:srgbClr val="000000"/>
                </a:solidFill>
                <a:latin typeface="Tahoma"/>
              </a:rPr>
              <a:t>:</a:t>
            </a:r>
            <a:r>
              <a:rPr b="0" lang="sk-SK" sz="1800" spc="-1" strike="noStrike">
                <a:solidFill>
                  <a:srgbClr val="000000"/>
                </a:solidFill>
                <a:latin typeface="Tahoma"/>
              </a:rPr>
              <a:t> Teplomilný druh vyskytuje sa v stepných a lesostepných lokalitách spravidla na južne orientovaných svahoch teplých pohorí a pahorkatín. Dolinami riek zasahuje až na stredné Považie, popri Hrone až k Banskej Bystrici, južné svahy Poľany, Slovenský a Drienčanský kras, južné svahy Vihorlatu. Na našom území zriedka prekračuje izohypsu 600 m.n.m., na Muráni bola zaznamenaná až vo výške 1000 m.n.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Stepné a lesostepné lúky, škrapové oblasti, kamenné sute, vinohrady, záhrady, násypy opustených lomy, okraje lesov a rúbanis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1" lang="sk-SK" sz="1800" spc="-1" strike="noStrike">
                <a:solidFill>
                  <a:srgbClr val="000000"/>
                </a:solidFill>
                <a:latin typeface="Tahoma"/>
              </a:rPr>
              <a:t>:</a:t>
            </a:r>
            <a:r>
              <a:rPr b="0" lang="sk-SK" sz="1800" spc="-1" strike="noStrike">
                <a:solidFill>
                  <a:srgbClr val="000000"/>
                </a:solidFill>
                <a:latin typeface="Tahoma"/>
              </a:rPr>
              <a:t> 4b, 6a  (24/2003 Z.z.),  Bern 2, HD 4,  VU</a:t>
            </a:r>
            <a:endParaRPr b="0" lang="en-US" sz="1800" spc="-1" strike="noStrike">
              <a:solidFill>
                <a:srgbClr val="ffffff"/>
              </a:solidFill>
              <a:latin typeface="Arial"/>
            </a:endParaRPr>
          </a:p>
        </p:txBody>
      </p:sp>
      <p:sp>
        <p:nvSpPr>
          <p:cNvPr id="102" name=""/>
          <p:cNvSpPr/>
          <p:nvPr/>
        </p:nvSpPr>
        <p:spPr>
          <a:xfrm>
            <a:off x="147636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jašterice zelenej (</a:t>
            </a:r>
            <a:r>
              <a:rPr b="1" i="1" lang="sk-SK" sz="2400" spc="-1" strike="noStrike">
                <a:solidFill>
                  <a:srgbClr val="000000"/>
                </a:solidFill>
                <a:latin typeface="Tahoma"/>
              </a:rPr>
              <a:t>Lacerta viridis</a:t>
            </a:r>
            <a:r>
              <a:rPr b="1" lang="sk-SK" sz="2400" spc="-1" strike="noStrike">
                <a:solidFill>
                  <a:srgbClr val="000000"/>
                </a:solidFill>
                <a:latin typeface="Tahoma"/>
              </a:rPr>
              <a:t>)</a:t>
            </a:r>
            <a:endParaRPr b="0" lang="en-US" sz="2400" spc="-1" strike="noStrike">
              <a:solidFill>
                <a:srgbClr val="ffffff"/>
              </a:solidFill>
              <a:latin typeface="Arial"/>
            </a:endParaRPr>
          </a:p>
        </p:txBody>
      </p:sp>
      <p:graphicFrame>
        <p:nvGraphicFramePr>
          <p:cNvPr id="103" name=""/>
          <p:cNvGraphicFramePr/>
          <p:nvPr/>
        </p:nvGraphicFramePr>
        <p:xfrm>
          <a:off x="5940360" y="1555920"/>
          <a:ext cx="1554120" cy="1081080"/>
        </p:xfrm>
        <a:graphic>
          <a:graphicData uri="http://schemas.openxmlformats.org/presentationml/2006/ole">
            <p:oleObj r:id="rId2" spid="">
              <p:embed/>
              <p:pic>
                <p:nvPicPr>
                  <p:cNvPr id="104" name="" descr=""/>
                  <p:cNvPicPr/>
                  <p:nvPr/>
                </p:nvPicPr>
                <p:blipFill>
                  <a:blip r:embed="rId3"/>
                  <a:stretch/>
                </p:blipFill>
                <p:spPr>
                  <a:xfrm>
                    <a:off x="5940360" y="1555920"/>
                    <a:ext cx="155412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254160" y="476280"/>
          <a:ext cx="8494560" cy="6168960"/>
        </p:xfrm>
        <a:graphic>
          <a:graphicData uri="http://schemas.openxmlformats.org/drawingml/2006/table">
            <a:tbl>
              <a:tblPr/>
              <a:tblGrid>
                <a:gridCol w="634680"/>
                <a:gridCol w="1338480"/>
                <a:gridCol w="2073240"/>
                <a:gridCol w="2274840"/>
                <a:gridCol w="2173320"/>
              </a:tblGrid>
              <a:tr h="33732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hustota, dynamika populáci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znamenávaný pri každej návšteve  lokality. Juvenilné jedince sú pravidelne zaznamenávané.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namenávaný nepravidelne, v malých počtoch.. Reprodukcia zriedkav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prítomný, náhodný výskyt, veľmi vzácny výsky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štruktúr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avidelne zaznamenávané všetky vývojové štádi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pravidelne zaznamenávané jedince spravidla len dospelé. Juvenilné jedince zriedkavé alebo chýbajú</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ojedinelé výskyty adultných jedincov, absencia výskytu</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trend a kontinuita areál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ľký, stabilný vo vnútri , alebo zväčšujúci sa areál  na okraji celkov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stabilný, pomaly sa zmenšujúci  areál, okrajový pulzujúci areál na okraji geografického, hypsometrick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malý, výrazne sa zmenšujúci, degradovaný, zanikajúci, neexistujúci areá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ea typeface="Times New Roman"/>
                        </a:rPr>
                        <a:t>prepojenosť / izoláci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v blízkosti ďalších populácií, vzájomná migrácia jedincov jednoduch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na okraji výskytu, čiastočná izolácia (prekážka, väčšia vzdialenosť),  od ostatných populácií,  vzájomná migrácia obmedzen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izolovaná, žiadna migrác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22200" y="620640"/>
          <a:ext cx="8497800" cy="5423040"/>
        </p:xfrm>
        <a:graphic>
          <a:graphicData uri="http://schemas.openxmlformats.org/drawingml/2006/table">
            <a:tbl>
              <a:tblPr/>
              <a:tblGrid>
                <a:gridCol w="744480"/>
                <a:gridCol w="1189080"/>
                <a:gridCol w="2006640"/>
                <a:gridCol w="2254320"/>
                <a:gridCol w="2303280"/>
              </a:tblGrid>
              <a:tr h="36036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v biotopu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dobrý stav optimálna veľkosť, pôvodný, alebo pôvodnému stavu podobný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uboptimálna veľkosť, sukcesia , nepôvodný – vhodný, čiastočne nevyhovujúc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vyhovujúci, mal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ilná sukces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Z</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iotopu a populáci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gatívne vplyvy nie sú, lokality v dostatočnej vzdialenosti od chemicky ošetrovanej krajin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časté antropogénne vplyvy:  lesnícka,  urbanistická, poľnohospodárska činnosť v blízkom okolí, rekreačný tlak</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ilné negatívne vplyvy, degradované, nevhodné biotop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119700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nie pôvodných lesostepných, biotopov, obmedzenie chemizácie krajiny. V období aktivity zákaz vypaľovania trávy a podrastov.  Obmedzenie sukcesie trávnato krovinatých, xerotermných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prieskum vhodných lokalít, pozorovanie, sčítavanie, odchyt do rúk alebo pomocou slučky, dokumentác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RNDr. Ján Kautm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54200" y="1273320"/>
            <a:ext cx="7921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utra lutra </a:t>
            </a:r>
            <a:r>
              <a:rPr b="1" lang="sk-SK" sz="1800" spc="-1" strike="noStrike">
                <a:solidFill>
                  <a:srgbClr val="000000"/>
                </a:solidFill>
                <a:latin typeface="Tahoma"/>
              </a:rPr>
              <a:t>(Linnaeus, 175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cicavce (Mamma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šelmotvaré (Carnivo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sicovité (Mustel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o väčšine Európy, hlavne v jej východnej časti, v západnej časti Pyrenejského polostrova, vo Francúzsku a na Britských ostrovoch, v Ázii po japonské ostrovy, Sumatru a Jávu a tiež v severnej Afr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0" lang="sk-SK" sz="1800" spc="-1" strike="noStrike">
                <a:solidFill>
                  <a:srgbClr val="000000"/>
                </a:solidFill>
                <a:latin typeface="Tahoma"/>
              </a:rPr>
              <a:t> Na takmer celom území Slovenska s výnimkou jeho západnej a juhovýchodnej čas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Všetky typy tečúcich a stojatých čistých na ryby bohatých vôd, predovšetkým stredné úseky riek s bohatou štruktúrou pobrežia, najmä zákrutami, meandrami, podmytými brehmi a hustým zárast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0" lang="sk-SK" sz="1800" spc="-1" strike="noStrike">
                <a:solidFill>
                  <a:srgbClr val="000000"/>
                </a:solidFill>
                <a:latin typeface="Tahoma"/>
              </a:rPr>
              <a:t> podľa IUCN: V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Zaradenie do národnej a medzinárodnej legislatív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ríloha vyhlášky MŽP SR č. 24/2003 Z.z. 4b, 6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D 2, HD 4, Be 2, W 1, E</a:t>
            </a:r>
            <a:endParaRPr b="0" lang="en-US" sz="1800" spc="-1" strike="noStrike">
              <a:solidFill>
                <a:srgbClr val="ffffff"/>
              </a:solidFill>
              <a:latin typeface="Arial"/>
            </a:endParaRPr>
          </a:p>
        </p:txBody>
      </p:sp>
      <p:sp>
        <p:nvSpPr>
          <p:cNvPr id="109" name=""/>
          <p:cNvSpPr/>
          <p:nvPr/>
        </p:nvSpPr>
        <p:spPr>
          <a:xfrm>
            <a:off x="155592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vydry riečnej </a:t>
            </a:r>
            <a:r>
              <a:rPr b="1" i="1" lang="sk-SK" sz="2400" spc="-1" strike="noStrike">
                <a:solidFill>
                  <a:srgbClr val="000000"/>
                </a:solidFill>
                <a:latin typeface="Tahoma"/>
              </a:rPr>
              <a:t>(Lutra lutra)</a:t>
            </a:r>
            <a:endParaRPr b="0" lang="en-US" sz="2400" spc="-1" strike="noStrike">
              <a:solidFill>
                <a:srgbClr val="ffffff"/>
              </a:solidFill>
              <a:latin typeface="Arial"/>
            </a:endParaRPr>
          </a:p>
        </p:txBody>
      </p:sp>
      <p:graphicFrame>
        <p:nvGraphicFramePr>
          <p:cNvPr id="110" name=""/>
          <p:cNvGraphicFramePr/>
          <p:nvPr/>
        </p:nvGraphicFramePr>
        <p:xfrm>
          <a:off x="5724360" y="1557360"/>
          <a:ext cx="1511640" cy="1209600"/>
        </p:xfrm>
        <a:graphic>
          <a:graphicData uri="http://schemas.openxmlformats.org/presentationml/2006/ole">
            <p:oleObj r:id="rId2" spid="">
              <p:embed/>
              <p:pic>
                <p:nvPicPr>
                  <p:cNvPr id="111" name="" descr=""/>
                  <p:cNvPicPr/>
                  <p:nvPr/>
                </p:nvPicPr>
                <p:blipFill>
                  <a:blip r:embed="rId3"/>
                  <a:stretch/>
                </p:blipFill>
                <p:spPr>
                  <a:xfrm>
                    <a:off x="5724360" y="1557360"/>
                    <a:ext cx="151164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384120" y="981000"/>
          <a:ext cx="8435520" cy="5113080"/>
        </p:xfrm>
        <a:graphic>
          <a:graphicData uri="http://schemas.openxmlformats.org/drawingml/2006/table">
            <a:tbl>
              <a:tblPr/>
              <a:tblGrid>
                <a:gridCol w="365040"/>
                <a:gridCol w="1715040"/>
                <a:gridCol w="2012400"/>
                <a:gridCol w="1944720"/>
                <a:gridCol w="2398320"/>
              </a:tblGrid>
              <a:tr h="48780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80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PULA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gt; 500 jedincov, resp. priemerná hustota &gt; 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200-500 jedincov, resp. priemerná hustota 2-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lt; 200 jedincov, resp. priemerná hustota &lt; 2 jedince/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progresívna, stúpa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stabilná na úrovni prirodzenej fluktuácie so zmenami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klesá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väč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je stabilný, mierne zmeny sú v rozsahu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men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395280" y="836640"/>
          <a:ext cx="8497440" cy="5187960"/>
        </p:xfrm>
        <a:graphic>
          <a:graphicData uri="http://schemas.openxmlformats.org/drawingml/2006/table">
            <a:tbl>
              <a:tblPr/>
              <a:tblGrid>
                <a:gridCol w="367920"/>
                <a:gridCol w="1756800"/>
                <a:gridCol w="2124720"/>
                <a:gridCol w="2051280"/>
                <a:gridCol w="2196720"/>
              </a:tblGrid>
              <a:tr h="5792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9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 </a:t>
                      </a:r>
                      <a:r>
                        <a:rPr b="1" lang="cs-CZ"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predovšetkým stredné úseky riek s množstvom zákrut, meandrov, podmytými brehmi a hustým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brehy a  štruktúrované brehové porasty tečúcich a stojatých čistých vôd s množstvom zákrut, meandrov, podmytými brehmi a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s množstvom zákrut, meandrov a hustým zárastom sú len sporadick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6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šetky typy tečúcich a stojatých čistých a na ryby bohatých vôd, predovšetkým stredné úseky riek a stredne veľké stojaté vody.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tečúce a stojaté čisté a na ryby bohaté vody, predovšetkým stredné úseky riek a stredne veľké stoj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iné ako tečúce a stojaté čisté a na ryby boh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4-11-22T07:24:05Z</dcterms:modified>
  <cp:revision>75</cp:revision>
  <dc:subject/>
  <dc:title>Snímek 1</dc:title>
</cp:coreProperties>
</file>