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FBE-764E-4281-9DA1-28EB3653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664-ECE2-4E6F-82CD-AF2E7542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456-6733-45B1-9622-663C444C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D53-8188-4A1C-BF01-EFCD16B6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FC9-B67F-4DFF-8C75-1C9E4183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58C-5A80-475F-895A-859442FA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53E-D662-4EB7-AFE8-5FD7518E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B41-6ED1-4BBE-B926-90B45A54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9C7-537D-43BF-80E6-7C656DE6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FB0-8B50-42BB-931D-5AE5B15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825-72B9-4CAF-A94C-D347984F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509-6FF6-468B-BFED-639770B6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97A5-331B-4A6F-AC37-DED520626B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960" y="291960"/>
            <a:ext cx="8128080" cy="1739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K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ncepcia monitoringu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sných biotopov</a:t>
            </a:r>
            <a:r>
              <a:rPr b="1" lang="cs-CZ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Ján Šeffer, Rastislav Lasák, Ivan Jarolímek, Milan Valachovi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č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br>
              <a:rPr sz="1800"/>
            </a:b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Richard Hrivnák, Viera Stanová, Helena O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ť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helová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, Marta Kubandová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3320" y="1039680"/>
            <a:ext cx="72583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ôsob organizácie zberu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ôže by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lišný v období, ktoré možno označiť ako prechodné, keď programy starostlivosti o ÚEV buď nie sú, alebo nezabezpečujú pravidelné informácie o stave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čas tohto obdobia je možné pripustiť v odôvodnených prípadoch náhodný výber pri monitoringu niektorých ty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 ďalšom období, keď programy starostlivosti budú zabezpečovať dostatočné množstvo kvalitných dát, sa bu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užívať iba inventarizačné metó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680" y="44136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e každý typ biotopu sa stanov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základe počtu lokalít, ich rozmiestnenia a stupňa poznani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rametre pre jeho monitoring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ožno odlíšiť spôsob monitoringu v prechodnom období od monitoringu „definitívneho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760" y="50004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3440" y="1163520"/>
            <a:ext cx="8161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hodnotenie stavu pozn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átke zhodnotenie, v prípade potreby navrhnúť zmapova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Organizácia zberu d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ú sa dva spôsoby – optimálny a dostatočn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ber dát v prechodnom obdob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ak sa líši od prechádzajúce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Kritériá pre homogénne skup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vedú sa špecifické kritéria pre typ biotopu (nadmorská výška, región atď.) podľa jeho distribúcie na Slovens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Interval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v prípade inventarizácie v kratšom ako 5-ročnom cyk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as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e sa optimálny čas monitorin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14440"/>
            <a:ext cx="79246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odnotenie monitorovacích d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ľa metodiky pre 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efinovanie a hodnotenie stavu zachovania biotop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835280"/>
            <a:ext cx="8292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okality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EV alebo inak definovaných území ako sú CHÚ, orografické celky,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vodia a p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geografických regiónov, resp. národnej úr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267080"/>
            <a:ext cx="8292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lokalitnej úrovni je možné použiť jednak vážené hodnoty jednotlivých kritérií a jednak syntetickú hodnoty stavu biotopu na lokalite v časovej r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 vhodnejšie využívať tieto hodnoty, pretože umožňujú rozpoznať aj zmeny, ktoré sa dejú v rámci kategórií (A – 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6210t" descr=""/>
          <p:cNvPicPr/>
          <p:nvPr/>
        </p:nvPicPr>
        <p:blipFill>
          <a:blip r:embed="rId1"/>
          <a:stretch/>
        </p:blipFill>
        <p:spPr>
          <a:xfrm>
            <a:off x="0" y="249120"/>
            <a:ext cx="6553080" cy="1670040"/>
          </a:xfrm>
          <a:prstGeom prst="rect">
            <a:avLst/>
          </a:prstGeom>
          <a:ln w="0">
            <a:noFill/>
          </a:ln>
        </p:spPr>
      </p:pic>
      <p:pic>
        <p:nvPicPr>
          <p:cNvPr id="118" name="6210" descr=""/>
          <p:cNvPicPr/>
          <p:nvPr/>
        </p:nvPicPr>
        <p:blipFill>
          <a:blip r:embed="rId2"/>
          <a:stretch/>
        </p:blipFill>
        <p:spPr>
          <a:xfrm>
            <a:off x="3035160" y="3921120"/>
            <a:ext cx="6108840" cy="2948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6760" y="2101680"/>
            <a:ext cx="854712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p biotopu je zachytený mapovaním travinnej vegetá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oritný typ sa bude monitorovať celoplošnou inventarizáciou. Neprioritný spôsobom 2 prípadne 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rípade neprioritného typu 4. spôso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výber viazať na orografické celky – poho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j až jú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510t" descr=""/>
          <p:cNvPicPr/>
          <p:nvPr/>
        </p:nvPicPr>
        <p:blipFill>
          <a:blip r:embed="rId1"/>
          <a:stretch/>
        </p:blipFill>
        <p:spPr>
          <a:xfrm>
            <a:off x="0" y="203040"/>
            <a:ext cx="557856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6510" descr=""/>
          <p:cNvPicPr/>
          <p:nvPr/>
        </p:nvPicPr>
        <p:blipFill>
          <a:blip r:embed="rId2"/>
          <a:stretch/>
        </p:blipFill>
        <p:spPr>
          <a:xfrm>
            <a:off x="3065400" y="3924360"/>
            <a:ext cx="6078600" cy="2933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7040" y="1465200"/>
            <a:ext cx="680400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travinnej veget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ľadom na množstvo lokalít navrhujeme 4. spôsob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lokalít podľa základnej regionalizácie Slovenska (západ, stred a výcho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d prvým kosení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7140t" descr=""/>
          <p:cNvPicPr/>
          <p:nvPr/>
        </p:nvPicPr>
        <p:blipFill>
          <a:blip r:embed="rId1"/>
          <a:stretch/>
        </p:blipFill>
        <p:spPr>
          <a:xfrm>
            <a:off x="0" y="263520"/>
            <a:ext cx="4976640" cy="987480"/>
          </a:xfrm>
          <a:prstGeom prst="rect">
            <a:avLst/>
          </a:prstGeom>
          <a:ln w="0">
            <a:noFill/>
          </a:ln>
        </p:spPr>
      </p:pic>
      <p:pic>
        <p:nvPicPr>
          <p:cNvPr id="124" name="7140" descr=""/>
          <p:cNvPicPr/>
          <p:nvPr/>
        </p:nvPicPr>
        <p:blipFill>
          <a:blip r:embed="rId2"/>
          <a:stretch/>
        </p:blipFill>
        <p:spPr>
          <a:xfrm>
            <a:off x="2895480" y="3838680"/>
            <a:ext cx="6067440" cy="293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640" y="1682640"/>
            <a:ext cx="655488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rašeliní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oplošná inventarizá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náhodný vý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sa uskutoční podľa orografického člen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ún až septe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960" y="1346040"/>
            <a:ext cx="7505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podával aktuálne informácie o stave všetkých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prepojený s plánovaním a realizáciou manažm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uskutočniteľný z hľadiska expertných kapací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finančne efektív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napojený na ďalšie monitorovacie systémy (AEP, RSV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720" y="425520"/>
            <a:ext cx="81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o očakávame od monitorovacieho systému pre nelesné biotop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48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51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54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57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61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64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69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0240" y="1503360"/>
            <a:ext cx="819180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ávrh monitoringu nelesných biotopov vychádza z údajovej bázy, ktorá bola vytvorená pre potreby návrhu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oncep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je postavený na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m systéme lúk a rašelinísk, ktorý je plne kompatibilný s ISTB Štá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 naplnenia a kvalita dát v rámci týchto IS je v porovnaní s ostatnými údajovými bázami uspokojivý. Nedostato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pokrytých je len niekoľko typov biotopov (napr. kroviny, skalné a vodné biotopy), ktoré sú z hľadiska plochy menej významn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daje s týchto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ých systémov sa ukázali ako plne vyhovujúce pre hodnotenie stavu zachovania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9640" y="609480"/>
            <a:ext cx="68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Východis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960" y="595440"/>
            <a:ext cx="7848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ôsob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ber dát sa bude realizovať opakovanou inventarizáciou vymapovaných polygónov (lokalí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je sa metodika mapovania biotopov (Šeffer et al. 2002) s tým, že monitorované budú polygóny, kde boli identifikované biotopy z Dodatku I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 Smernice o biotopo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4094280"/>
            <a:ext cx="7454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kladanie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ukladanie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ud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lúžiť ISTB, ktorý má všetky polia z formulára, ktorý bol pre túto metodiku pripraven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8720" y="542880"/>
            <a:ext cx="801396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finovali sme štyri zásadné spôsoby zberu údajov, ktoré vychádzajú zo stavu údajovej základne pre nelesné biotop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160" y="2314440"/>
            <a:ext cx="831852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46800" anchor="t">
            <a:spAutoFit/>
          </a:bodyPr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oplošná inventarizácia, ktorá v päťročnom intervale zabezpečí hodnotenie každej loka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 5-ročnom intervale v územiach európskeho významu (ÚEV), ktorá bude doplnená náhodným výberom lokalít mimo Ú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ybraných lokalít v kratšom ako 5-ročnom cyk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áhodný výber dostatočnej vzorky lokalít zo základného súboru 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5680" y="2043000"/>
            <a:ext cx="69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postup je optimálny a zabezpečuje nielen kvalitné dáta o všetkých lokalitách pre potreby národných správ o stave zachovania, ale aj, čo je dôležitejšie, pre potreby konkré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5680" y="1138320"/>
            <a:ext cx="805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eloplošná inventarizác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orá v päťročnom intervale zabezpečí inventarizáciu každej lok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5680" y="3606840"/>
            <a:ext cx="78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äťročný interval je zvolený kvôli prepojeniu s programovaním starostlivosti a agro-environmentálnym programom (projekty sú schvaľované na dobu 5 rokov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3320" y="1198440"/>
            <a:ext cx="736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 5-ročnom intervale v úze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ach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európskeho význam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plnená náhodným (v štatistickom zmysle) výberom lokalít mimo Ú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hodný výber sa bude realizovať tak, že sa celý súbor lokalít biotopu rozdelí na niekoľko homogénnych skupín definovaných podľa kritérií špecifických pre každý typ biotopu (nadmorská výška, región atď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pre typy biotopov, ktoré majú počet lokalít rádovo v stovkách. Poskytne dostatočné údaje o stave lokalít v chránených územiach a s rozumnou spoľahlivosťou o stave lokalít mi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berovej vzorky sa musí dostať aspoň 10% lokalít z území mimo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360" y="1150920"/>
            <a:ext cx="74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ybraných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 kratšom ako 5-ročnom cyk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3320" y="3398760"/>
            <a:ext cx="87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áhodný výber dostatoč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j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zor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zo základného súboru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3320" y="4351320"/>
            <a:ext cx="772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ýber sa b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ude riadiť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ľa nadefinovaných homogénnych skupí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lán zb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a urobí na začiatku 6-ročného reportovacieho cykl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dočasne v prípade typov s veľkým množstvom lokalít, alebo v prípade málo ohrozovaných biotopov. Do výberovej vzorky sa musí dostať minimálne 20% lokalí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3320" y="1701720"/>
            <a:ext cx="811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sa navrhuje pre typy biotopov s dynamickým režimom (napr. vodné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 rašeliniskov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topy), u ktorých z praktických dôvodov (množstvo lokalít) nemožno predpokladať celoplošnejšie pokry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Daphne-pc7</cp:lastModifiedBy>
  <dcterms:modified xsi:type="dcterms:W3CDTF">2005-03-14T09:12:42Z</dcterms:modified>
  <cp:revision>63</cp:revision>
  <dc:subject/>
  <dc:title>Prezentace aplikace PowerPoint</dc:title>
</cp:coreProperties>
</file>