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0EA-4218-4077-8061-ED5EEFFF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F24-E254-4223-A618-724CB05F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CAD-2D0A-4A5B-9529-71B70E97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C67-1424-4637-8A17-4CE378CE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491B-6452-41EA-9083-FE8A8934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65B9-560A-4272-833A-E13EE0A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F17E-AD35-4FFC-BC1E-CC8D30BB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F81F-97EC-450B-B375-02629823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6221-958F-4740-A8CB-F8142D6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FB9-5830-4EC0-BF9B-39C4344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CBB6-1DB8-4B25-AD8D-B0DD315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CD9-8330-4703-A34C-54E90D6C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E72-244F-4CEF-905F-3557143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17D4-FCB1-492F-8F69-9167CBF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0D4-DC47-4435-BFA7-C4740421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A73E-1798-4ADE-B58F-13378B15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BA09-24A7-4AFE-9BA7-15F21D5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DA1-EC15-44D2-8F7B-E28FCB2D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E5D-82C4-4E70-8516-313190B4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9A9-AB6D-4511-A7F2-88C518E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1F-9FCD-4E21-B581-848FFFC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2DB-5DAE-4E3E-B9A0-C0D22D1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F61-92DC-4A78-9946-9845E83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644-1F3F-4E21-8B35-99E65FF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978-8985-4FD2-ACE7-AFDEA39DE8C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300-A102-440D-9FDB-CC7B6D7270F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482400"/>
                </a:solidFill>
                <a:latin typeface="Times New Roman"/>
              </a:rPr>
              <a:t>Monitoring európsky významných rastlinných druhov na Slovensk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ng. Marta Kuband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Pri </a:t>
            </a: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nenápadných druhoch a druhoch, ktoré netvoria každoročne nadzemné orgány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– je potrebné jedince na TMP zamerať.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vymedzenej ploche sa zaznamená počet kvitnúcich a plodných exemplárov a počet sterilných jedinc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italitu vypočítame ako podiel kvitnúcich, resp. plodných jedincov z celkového počtu jedincov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istenú vitalitu na trvalej ploche budeme považovať za reprezentatívnu pre celú lokal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4. Stav biotopu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1 Veľkosť biotop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locha reálneho výskytu druh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zhodná s tzv. veľkosťou plochy výskytu druhu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u s okolitou plochou biotopu v 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stanoví sa odhadom alebo pomocou 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vyjadruje veľkosť plochy, kde sa nachádzajú miesta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tenciálne šírenie druhu v rámci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2 Percentuálne zastúpenie inváznych neofytných taxón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pokryvnosť inváznych taxónov v % na ploche biotop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uvedie sa zoznam zistených inváznych taxón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4.3 Svetelné pomery 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– miera zatienenia (zapojenia) resp. presvetlenia biotopu krovinami a stromami v %</a:t>
            </a:r>
            <a:br>
              <a:rPr sz="2400"/>
            </a:b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- stanoví sa odhadom v teréne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4 Nepriaznivé vplyvy -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azni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m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u biotopu prirodzenými procesmi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vysychanie, zarastanie nežiadúcimi druhmi)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ebo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ľudskými aktivitami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lizovanými na lokalit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odvodňovanie, vysádzanie nepôvodných neinváznych taxónov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ebo v jej bezprostrednom okol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skládky odpadu, hnojenie, športové a rekreačné aktiv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každú lokalitu sa nepriaznivé vplyvy predstavujúce ohrozenie lokality bližšie špecifikujú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82400"/>
                </a:solidFill>
                <a:latin typeface="Times New Roman"/>
              </a:rPr>
              <a:t>5. Dynamika populáci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mena v početnosti populácie druhu na lokalite za posledných 10 rokov, resp. iné časové obdo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trebné zohľadniť prirodzené výkyvy v početnosti druhu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harakteristika sa nebude hodnotiť priamo v teré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482400"/>
                </a:solidFill>
                <a:latin typeface="Times New Roman"/>
              </a:rPr>
              <a:t>Koordinácia monitoring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lokality na „intenzívny“ monitoring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oli vyberané na COPK a konzultované s pracovník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covníci na správach dostanú rozpis monitorovaných lokalít na obdobie 6 ro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u každej vybranej lokalite obdržia mapu a formulár vypracovaný zvlášť pre každý druh európskeho význ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lokality nezahrnuté do rozpis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udú podľa možností pracovníkov na organizačných útvaroch kontrolované v stanovených interva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82400"/>
                </a:solidFill>
                <a:latin typeface="Times New Roman"/>
              </a:rPr>
              <a:t>Formulár na monitoring druhov </a:t>
            </a:r>
            <a:r>
              <a:rPr b="0" lang="sk-SK" sz="2800" spc="-1" strike="noStrike">
                <a:solidFill>
                  <a:srgbClr val="482400"/>
                </a:solidFill>
                <a:latin typeface="Times New Roman"/>
              </a:rPr>
              <a:t>obsahuje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dr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organizačného útv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átum monitorin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eno pracovní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odnotiacu tabuľku dr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ázdnu tabuľku na vypĺňanie údaj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iestor pre zaznamena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gatívnych vplyvov v území a jeho bezprostrednom oko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čet kvitnúcich, plodných a sterilných jedincov a veľkosť 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skyt inváznych neofytov v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Vyplnené formuláre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sa vždy koncom kalendárneho roka zašlú na COPK, kde: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budú zhromažďovať pre potreby reportin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základe metodiky sa vypočíta stav druhu na jednotlivých lokalitách a tiež v rámci územia Slove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prípade zhoršenia stavu populácie na lokalite oproti predošlým rokom sa navrhnú manažmentové opatrenia na zlepšenie stavu populá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82400"/>
                </a:solidFill>
                <a:latin typeface="Times New Roman"/>
              </a:rPr>
              <a:t>Ďakujem za pozornosť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poniklec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352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Koncepcia monitoringu pre potreby „reportingu“  bola vypracovaná pre:</a:t>
            </a:r>
            <a:r>
              <a:rPr b="0" lang="sk-SK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37 druhov cievnatých rastlí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z príloh II a IV Smernice o biotop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nezahŕňa 4 druh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cievnatých rastlín, ktoré sú považované za </a:t>
            </a: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vyhynuté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alebo už dlhšie neboli na našom území zaznamena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nezahŕňa 9 druhov machorasto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pri ktorých nemáme dostatok údajov o ich rozšír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Pre každý monitorovaný druh bol vypracovaný systém monitoringu na základe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hrozenosti druhu na území Slovens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očtu v súčasnosti evidovaných lokalí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šírení druhu na území Slovens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dpokladu zmien jeho biotop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iologických vlastností druhu (výrazné zmeny v početnosti populácií v jednotlivých roko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jednotlivé druhy boli stanovené: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frekvencie monitoringu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aždý rok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2 roky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3 roky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5 alebo 6 rokov  a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10 ro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typy monitoring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šetky lokality sled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avidelne v daný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tervaloch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pri 21 druh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2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branú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zork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ledovať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častejš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yšo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kal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 dlhšo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opred stanovenom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val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8 druh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branú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zorku sledovať pravidel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yšo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okalít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n kontrol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rámci priebežné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povania biotopov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8 druh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993300"/>
                </a:solidFill>
                <a:latin typeface="Times New Roman"/>
              </a:rPr>
              <a:t>Cirsium brachycephalum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Typ 2: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 vybraných 11 lokalitách vykonávať monitoring druhu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2 roky, na ostatných 24 lokalitách monitorovať stav v intervale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6 rok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Najvhodnejšie obdobie pre monitoring: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čase kvitnutia druhu (jún – september), resp. pred kosením lok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82400"/>
                </a:solidFill>
                <a:latin typeface="Times New Roman"/>
              </a:rPr>
              <a:t>Monitorované parametre druhov európskeho významu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veľkosť plochy výskytu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ť plochy v 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torú osídľuje na lokalite anexový druh v podobe fertilných, sterilných alebo poškodených jedinc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stanovuje sa odhadom priamo na lokalite alebo sa zameria pomocou GPS (nezisťuje sa dodatočne z GIS-vrsti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ak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ác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vo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niekoľko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bre 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ohraničených mikropopulácií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čet plôch mikropopuláci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ak má druh 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rozptýlen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ý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 výskyt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á plocha, na ktorej sa druh rozptylene vyskytuje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e len bezprostredné okolie jedincov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2. Počet jedincov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očet jedincov anexového druhu (fertilných, sterilnýc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škodených spolu) zaznamenaný na lokali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ri druhoch tvoriacich trsy – počet trso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ri druhu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Marsilea quadrifol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veľkosť a súvislosť pora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menšie populác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presný počet exemplá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veľké populácie a populácie v neprístupnom teré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hadom, napr. viac ako 300, do 500 a p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3. Vitalita populáci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ercentuálny podiel kvitnúcich resp. plodných jedincov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elkového počtu jedincov druhu na lokal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i druhoch tvoriacich trsy – podiel kvitnúcich res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lodných trs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isťuje sa </a:t>
            </a:r>
            <a:r>
              <a:rPr b="0" lang="sk-SK" sz="2400" spc="-1" strike="noStrike" u="sng">
                <a:solidFill>
                  <a:srgbClr val="993300"/>
                </a:solidFill>
                <a:uFillTx/>
                <a:latin typeface="Times New Roman"/>
              </a:rPr>
              <a:t>na trvalých plochá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TMP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všetky lokality z 1. typu monitoringu, pri 2. type všetky s výnimkou lokalít monitorovaných raz za 10 rokov a na vybraných lokalitách pri 3. type monitoringu – na zvyšných lokalitách sa vyberie náhodne plocha v rámci lok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Veľkosť plôch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– od veľkosti a prístupnosti lokality, typu biotopu, hustoty populácie druhu na lokalite.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menšie lokality (do 100 m</a:t>
            </a:r>
            <a:r>
              <a:rPr b="1" lang="sk-SK" sz="2400" spc="-1" strike="noStrike" baseline="30000">
                <a:solidFill>
                  <a:srgbClr val="666600"/>
                </a:solidFill>
                <a:latin typeface="Times New Roman"/>
              </a:rPr>
              <a:t>2</a:t>
            </a: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aby TMP zahŕňala väčšinu populácie druhu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rozľahlé lúčne alebo lesné lokalit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transekt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pri lúčnych napr. 5 m široký a 20-30 m dlhý; pri lesných biotopoch najmenej 20 m široký a dlhý podľa potreby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štvorcovú trvalú ploch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rozmery reprezentatívne pre biotop, napr. 20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20 m v lesných biotopo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pobrežné a vod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transek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rozmery podľa potreby a podmien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stepné a rašelin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plocha 4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skal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štvorcová plocha alebo transek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rozmery podľa podmien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46:12Z</dcterms:created>
  <dc:creator>PC</dc:creator>
  <dc:description/>
  <dc:language>en-US</dc:language>
  <cp:lastModifiedBy>PC</cp:lastModifiedBy>
  <dcterms:modified xsi:type="dcterms:W3CDTF">2005-03-14T11:29:10Z</dcterms:modified>
  <cp:revision>13</cp:revision>
  <dc:subject/>
  <dc:title>Monitoring európsky významných rastlinných druhov na Slovensku</dc:title>
</cp:coreProperties>
</file>