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E23-D939-403D-A7AB-CA02A58C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8B4-27E3-464A-A043-E209F792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B86-4FB4-4FE5-8B0B-1BF36031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839-752D-4C74-A6C0-128803F2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57A-C601-48A3-839B-37777BF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459-2571-4833-B27B-0BA7732F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5B5-651B-490E-87C2-E6D8915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57B-E248-41A2-8F79-73A6ABDB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D27-5AD5-4302-B2BD-6AC06BC2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4E9-C6D1-4F47-8418-8103503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5C2-8A3B-4D51-8AE9-C41F005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F31-2F7C-403D-A3E2-DD5E8976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B4C-1861-49AA-9EEA-A538E6854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-3240"/>
            <a:ext cx="9142560" cy="689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hare logo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61760" cy="38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2200" y="227880"/>
            <a:ext cx="18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WINNING SK 2002 IB/EN/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4040" y="30492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TUR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9520" y="24382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 2000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Príklady monitoringu v Nemecku</a:t>
            </a:r>
            <a:br>
              <a:rPr sz="4000"/>
            </a:b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astlinné druhy európskeho význymu</a:t>
            </a:r>
            <a:br>
              <a:rPr sz="2800"/>
            </a:br>
            <a:br>
              <a:rPr sz="28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bert Lang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ayerisches Langesamt fur Umweltschut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24720" y="46080"/>
            <a:ext cx="5907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klady monitori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49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457200" y="213372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mernice o biotop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ypripedium calc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desia parnassif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hagnum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 bavorskom proj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960" y="1760400"/>
            <a:ext cx="48006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nschutzkartierung (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nhilfsprogramm (A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tierungen des AHO Bay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58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4724280" y="1770120"/>
            <a:ext cx="441972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atura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uchungen in FFH-Gebieten für Management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chlag zur FFH-Meth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52280" cy="144756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448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3457440" cy="50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2611440" cy="38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ing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v Bavorsku</a:t>
            </a:r>
            <a:br>
              <a:rPr sz="3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nschutzkartierung (ASK) und Artenhilfsprogramm (A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71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hare logo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429000" y="1828800"/>
            <a:ext cx="57150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469200" y="3581280"/>
            <a:ext cx="267480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 rot="5400000">
            <a:off x="7010280" y="3733920"/>
            <a:ext cx="1067040" cy="30456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133720"/>
            <a:ext cx="1067040" cy="30456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28600" y="2446200"/>
            <a:ext cx="5867280" cy="441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03184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ingabeprogramm PC-ASK für die Datenbank Fis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572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real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181480" y="251424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Fin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66000" y="66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FH-Monitoring von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Deutschland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schlag zur Metho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89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6095880" y="662940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sentation_plant monitoring_draft1, STE Lang Albe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962000"/>
            <a:ext cx="7772400" cy="1557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schläge aus den Bundesländern zur Bewertung des Erhaltungszustandes führen zu einem Vorschlag, der in einer Arbeitsgruppe der Länder und des Bundes erarbeitet wurde (s. www.bfn.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13192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5280" y="3809880"/>
            <a:ext cx="25164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514600" y="3581280"/>
            <a:ext cx="6438960" cy="3276720"/>
          </a:xfrm>
          <a:prstGeom prst="borderCallout2">
            <a:avLst>
              <a:gd name="adj1" fmla="val 18750"/>
              <a:gd name="adj2" fmla="val -8333"/>
              <a:gd name="adj3" fmla="val 3486"/>
              <a:gd name="adj4" fmla="val -20439"/>
              <a:gd name="adj5" fmla="val 55958"/>
              <a:gd name="adj6" fmla="val -2660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565440"/>
            <a:ext cx="655308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zugsraum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dung von Wuchsort(komplex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pulationsgröß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dividuenzählung oder Hochrechnung aus Stichpro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tal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ertilitätsrate (fertile, sterile und fruchtende Spro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.a. Vegetationsaufnahmen, pH-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einträchtigung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lächenanteil schä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ythmu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jährlich im Juli-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FH-Monitoring von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Deutschland - Bayerisc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schlag zur Metho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102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01780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14400" y="3886200"/>
            <a:ext cx="199548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905120" y="3886200"/>
            <a:ext cx="199044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819520" y="3886200"/>
            <a:ext cx="202248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733920" y="3886200"/>
            <a:ext cx="224928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1440" y="1905120"/>
            <a:ext cx="6801120" cy="3809880"/>
          </a:xfrm>
          <a:prstGeom prst="borderCallout2">
            <a:avLst>
              <a:gd name="adj1" fmla="val 18750"/>
              <a:gd name="adj2" fmla="val -8333"/>
              <a:gd name="adj3" fmla="val 3000"/>
              <a:gd name="adj4" fmla="val -5486"/>
              <a:gd name="adj5" fmla="val 69625"/>
              <a:gd name="adj6" fmla="val -683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1160" y="1962000"/>
            <a:ext cx="69343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zugsraum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5 oder über 5 Teilbestä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pulationsgröß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dividuenzählung oder Hochrechnung aus Stichpro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tal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ertilität durch Zählung von Sprossen mit 1 Blüte oder mehr als 1 Blü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.a. Vegetationsaufnahmen, pH-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einträchtigung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lächenanteil schä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ythmu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r Erfassung 2x im Jahr, Monitoring im 3-Jahres- bzw. 6-Jahres-Rhy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2227320" cy="335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2319120" cy="3352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FH-Monitoring von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desia parnassifol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Deutschland - Bayerisc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schlag zur Metho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118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hare logo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2209680" y="1905120"/>
            <a:ext cx="6667560" cy="4343400"/>
          </a:xfrm>
          <a:prstGeom prst="borderCallout2">
            <a:avLst>
              <a:gd name="adj1" fmla="val 18750"/>
              <a:gd name="adj2" fmla="val -8333"/>
              <a:gd name="adj3" fmla="val 2629"/>
              <a:gd name="adj4" fmla="val -17523"/>
              <a:gd name="adj5" fmla="val 61074"/>
              <a:gd name="adj6" fmla="val -2254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1981080"/>
            <a:ext cx="65534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zugsraum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indigenen Bestände in Deutsch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pulationsgröß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dividuenzählung und / oder Hochrechnung aus Deckung (0,04qm = 1 Exemp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tal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zicht auf Turionen- und Blüten-Zäh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wässerchemismus (z.B. pH-W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einträchtigung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lächenanteil der begleitenden Arten und der Beschattung in 10%-Schritten schä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ythmu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iotische Ersterfassung im Monatsrhythmus, Nutzung 2x jährlich, Monitoring im 2-Jahres-Rhythmus (abiotische Faktoren eventuell jähr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H-Monitoringkonzept fü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hagnum spp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hlt bislang für Deutsc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209680"/>
            <a:ext cx="8229600" cy="3733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286000"/>
            <a:ext cx="8381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chl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k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fung mit dem Monitoring der Moor- Lebensraumtypen, das sind 3160, 7110-7150, 7230 und 91D0 (Achtung: es fehlen die sauren Niedermo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knüpfung mit dem Monitoring der Moor-dominierten SAC-Gebi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 bei aktuellen Problemen, z.B. grossf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gem Torfabbau. Dazu sind Referenzwerte notwend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129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57:58Z</dcterms:created>
  <dc:creator>BB</dc:creator>
  <dc:description/>
  <dc:language>en-US</dc:language>
  <cp:lastModifiedBy>Medveďová</cp:lastModifiedBy>
  <dcterms:modified xsi:type="dcterms:W3CDTF">2006-01-26T14:16:19Z</dcterms:modified>
  <cp:revision>52</cp:revision>
  <dc:subject/>
  <dc:title>Slide 1</dc:title>
</cp:coreProperties>
</file>