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99E-2CE8-4402-BFEA-A6978FBE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6C7-5322-4954-9F7A-51778E5C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8A2-86CC-4632-984F-E6DB15B5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DE4-C30F-4B5F-BFD6-BB88A97F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CFD-8921-40CE-A0F5-890C8DEB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935-BF5B-4C65-9413-E07DAFA5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722-1F1A-4E27-8A47-6E6555F9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EC1-568F-4FDA-B832-7A53E887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F9D-87D4-4529-853D-E9EC1433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C7A-4748-494D-9AF9-7F1DE9FF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509-4108-4D65-841E-C5EF49F4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8A5-866C-45B6-A714-F99DB3C8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CD99-ADA8-4F06-82C7-7FC079C903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he „Favourable Conservation Status“ Of Annex I-Habitats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(Habitats-Dire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ort About The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bert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winning SK2002/IB/EN/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atislava, 20.01.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_nat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9880" cy="99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02D-C5C6-4C58-84FF-AEEE17B059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commendations of the Working Group Gras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05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38080" y="2286000"/>
            <a:ext cx="784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pping of the habiatat types: building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pping of fauna not oblig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gradations´ reasons: referenc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rvey of habitat types within and beyond the S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rveillance at least all 6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surface of the habitat type is not part of the conservation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B48-E7A0-470D-AEE6-7F4C9BA48B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commendations of the Working Group Gras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12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9480" y="2362320"/>
            <a:ext cx="8077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some cases (i.e. habitat type 6210) the contact-biotopes are integrated into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each habitat type structures have to be listed. The grades have to be described as exact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each habitat type the typical plant-species (animals if possible) a regional list has to be work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worst of several grade parameters predo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10B-30AF-4782-9FEF-1AC73151AB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- A Short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18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62120" y="1371600"/>
            <a:ext cx="7543800" cy="4400640"/>
            <a:chOff x="762120" y="1371600"/>
            <a:chExt cx="7543800" cy="4400640"/>
          </a:xfrm>
        </p:grpSpPr>
        <p:sp>
          <p:nvSpPr>
            <p:cNvPr id="122" name=""/>
            <p:cNvSpPr/>
            <p:nvPr/>
          </p:nvSpPr>
          <p:spPr>
            <a:xfrm>
              <a:off x="1523880" y="1371600"/>
              <a:ext cx="2590920" cy="43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irective 92/43/E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otes“ 97/266/E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irst National Working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AN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German State Agenc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arious National Working Grou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4280" y="1371600"/>
              <a:ext cx="3581640" cy="44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990000"/>
                  </a:solidFill>
                  <a:latin typeface="Arial"/>
                </a:rPr>
                <a:t>Conservation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 sub-crite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 German sub-criteria as basis for all habitat 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cception of the basis by the States Minist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mplementation of specific German States´ stand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ecommendations for the specific stand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21640" y="1371600"/>
              <a:ext cx="394200" cy="40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1371600"/>
              <a:ext cx="838080" cy="40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838080" y="23623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8FC-C81F-4809-9F51-EFFC8BBFCC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arious examples of the grading-system have been worked out by the Germa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nge between expert judgement and fixed criteria-lists in manuals (Example: typical spec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 Two Exemples: Habitat Types 6520 &amp; 9160</a:t>
            </a:r>
            <a:br>
              <a:rPr sz="28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1. Habitat Type 6520 Mountain hay me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30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A25-C662-403E-B1B4-F16CA064CF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 The Term „Favourable Conservation Statu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 In The Habitats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2. In The Document „Standard Data Form -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planatory Notes“ = „Not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 Two Examples: Habitat types 6520 and 9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47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A01-2310-47DF-9C5B-53DB70F28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 The Term Favourable Conservation Status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1. In The Habitats-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1. Intension of the Directive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logue, Art. 2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2. Definition of the term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1 (e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ex III A(c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lanatory Notes, 1 (i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ex III B (b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lanatory Notes, 1 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3. Proposition for protection and site selectio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rt. 3 (1), Art. 4 (4), Art. 14 (1)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11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rt.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1.4. Financial matter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rt. 8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1.5. Re-introduction of Annex IV-specie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rt.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53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8E2-6C1E-4070-BA0A-919A054483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value of a given Habitat Type in a site depends on three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esentativity = Annex III A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lative Surface = Annex III A 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Annex III A (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59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F7F-E489-4742-BF1F-DE0103FEA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6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criterion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is summed up to the gr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 = excel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 = g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 = average or 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65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1AD-DBBA-42C0-B570-5479D184F6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criterion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consists of three sub-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ee of conservation of th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ee of conservation of th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toration pos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first and the last sub-criteria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 expert judgemen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71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12A-B6E2-4A0B-8F50-B209530143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Germany the three sub-criteria of the „Notes“ are implement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leteness of the typical habitat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leteness of the typical species of the habi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a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77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EFB-60D4-4A6C-B962-5B6795CD8A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rades of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83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" name=""/>
          <p:cNvGraphicFramePr/>
          <p:nvPr/>
        </p:nvGraphicFramePr>
        <p:xfrm>
          <a:off x="860400" y="1905120"/>
          <a:ext cx="8283600" cy="436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0400" y="1905120"/>
                    <a:ext cx="828360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C05-D885-4889-B850-A9B9381326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me additions of the sub-criteria of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91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2438280"/>
            <a:ext cx="7354800" cy="2097360"/>
            <a:chOff x="762120" y="2438280"/>
            <a:chExt cx="7354800" cy="2097360"/>
          </a:xfrm>
        </p:grpSpPr>
        <p:graphicFrame>
          <p:nvGraphicFramePr>
            <p:cNvPr id="95" name=""/>
            <p:cNvGraphicFramePr/>
            <p:nvPr/>
          </p:nvGraphicFramePr>
          <p:xfrm>
            <a:off x="2443320" y="2505240"/>
            <a:ext cx="5673600" cy="20304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43320" y="2505240"/>
                      <a:ext cx="5673600" cy="203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762120" y="2438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es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38080" y="4114800"/>
            <a:ext cx="7274160" cy="2401920"/>
            <a:chOff x="838080" y="4114800"/>
            <a:chExt cx="7274160" cy="2401920"/>
          </a:xfrm>
        </p:grpSpPr>
        <p:graphicFrame>
          <p:nvGraphicFramePr>
            <p:cNvPr id="99" name=""/>
            <p:cNvGraphicFramePr/>
            <p:nvPr/>
          </p:nvGraphicFramePr>
          <p:xfrm>
            <a:off x="2438280" y="4114800"/>
            <a:ext cx="5673960" cy="240192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38280" y="4114800"/>
                      <a:ext cx="5673960" cy="24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838080" y="4114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3C5-0779-49B6-AB8C-38F03DD43F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8:54:39Z</dcterms:created>
  <dc:creator>Lang Albert</dc:creator>
  <dc:description/>
  <dc:language>en-US</dc:language>
  <cp:lastModifiedBy>ŠOP SR</cp:lastModifiedBy>
  <dcterms:modified xsi:type="dcterms:W3CDTF">2004-02-03T18:25:17Z</dcterms:modified>
  <cp:revision>50</cp:revision>
  <dc:subject/>
  <dc:title>The „Favourable conservation status“ Of Habitats  Of Annex I (Habitats-Directive)</dc:title>
</cp:coreProperties>
</file>