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B8D-1CFD-4742-BBF8-2CD59553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B81-BEA1-4C71-97E6-7C461A6B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D96-5021-433D-8874-7CC40B82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B66-D4F8-421C-AB54-5246C90F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2C3-F2B4-4F4F-AB65-7E5EA939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B70-C794-457F-9D2D-31038F4F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23F-49CB-4455-8ECE-088333B7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68D-3228-48D6-9C95-54362061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124-5A99-4811-9967-BC23503B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71D-5A12-470D-A75D-5BF014F5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38E-A2EC-4D7C-A337-20267931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879-D258-4D69-8C07-54B0337C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AAD7-1E3B-4882-B403-98822C43412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PRIAZNIVÉHO STAVU </a:t>
            </a:r>
            <a:r>
              <a:rPr b="1" lang="sk-SK" sz="4000" spc="-1" strike="noStrike">
                <a:solidFill>
                  <a:srgbClr val="000000"/>
                </a:solidFill>
                <a:latin typeface="Times New Roman"/>
              </a:rPr>
              <a:t>ŽIVOČÍŠNYCH </a:t>
            </a:r>
            <a:r>
              <a:rPr b="1" lang="sk-SK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DRUH</a:t>
            </a:r>
            <a:r>
              <a:rPr b="1" lang="sk-SK" sz="40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oman Rajtar, Andrej Saxa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Štátna ochrana prírody Slovenskej republik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Centrum ochrany prírody a krajin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Lazovná 10, Banská Bystrica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ajtar@sopsr.sk, saxa@sopsr.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Izolovan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pulácia (takmer) izolovan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zolovaná populácia, ale na okrajoch areálu rozšírenia (marginál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neizolovaná populácia v rámci zväčšeného areálu rozšírenia (rozšíre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 Celkové hodnot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vynikajúce hodnot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dobré hodnot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dostačujúce hodnot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Smernica Rady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/409/EHS o ochrane voľne žijúc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ánok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Členské štáty budú podporovať výskum a akúkoľvek činnosť požadovanú ako základ pre ochranu, manažment a využívanie populácií všetkých druhov vtákov uvedených v článku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Zvláštna pozornosť bude venovaná výskumu a činnostiam zameraným na predmety uvedené v prílohe V. Členské štáty dodajú Komisii všetky informácie potrebné na to, aby mohla prijať adekvátne opatrenia na koordináciu výskumu a činností uvedených v tomto člán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ánok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Členské štáty postúpia Komisii každé tri roky správu o implementácii opatrení prijatých v jednotlivých štátoch.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íloha V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rodné zoznamy druhov, ktorým hrozí vyhynutie alebo zvlášť ohrozených druhov s ohľadom na ich zemepisné rozšíre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znam a ekologický opis oblastí, ktoré sú zvlášť dôležité pre sťahovavé druhy na ich migračných trasách a ako zimoviská a hniezdisk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znam údajov o početnosti populácií sťahovavých druhov na základe výsledkov ich krúžkov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tenie vplyvu metód odchytu voľne žijúceho vtáctva na početnosť ich populác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voj alebo zdokonalenie ekologických metód prevencie škôd spôsobených vták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nie niektorých druhov ako indikátorov znečist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údium nepriaznivých účinkov chemického znečistenia na početnosť populácií vtáčích druh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é princípy a požiadavky pri definovaní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priaznivého stavu živočíšneho druhu (FCS)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né myslenie pri definovaní FCS v základných princípoch, kritériách a rámcoch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anentná komunikácia vrámci pracovných skupín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onalé poznanie ekológie jednotlivých druhov v podmienkach Slovenska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dlhodobých trendov (minulých, súčasných a predpokladaných) vo vývoji druh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ovo a priestorovo dynamický a flexibilný model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zahraničných prístupov pri definovaní priaznivého stavu a jeho nadväznosti na vypracovanie metodiky monitoring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viacerých metodických prístupov v monitoringu druhov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adavky EK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premietnutie do parametrov charakterizujúcich priaznivý resp. nepriaznivý stav a následne parametrov zisťovaných v monitoring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é princípy a požiadavky pri definovaní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priaznivého stavu živočíšneho druhu (FCS)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0.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stnosti parametrov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tižné, ľahko sledovateľné a merateľ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vyhodnocovanie a analýzy nesmú byť veľmi komplikova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ážajúce a reagujúce na významné dopady a ohrozenia priaznivého sta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 príliš citlivé (reagujúce aj na nevýznamné zásahy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chytávajúce účinky manažmentových opatre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stihujúce biotopové podmienky druhov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finovať FCS druhu vo vzťahu k jeho biotopu a prostrednictvom neho (dostatok vhodných biotopov pre jednotlvé vývojové resp. vekové štádia dru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rčenie váhy jednotlivých parametrov (napr.1-10) pre možnosť celkového vyhodnotenia (napr. A, B, C, D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PRIAZNIVÉHO STAVU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ŽIVOČÍŠNYCH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RUH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dri skupí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stavov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RNDr. Oto Majzlan, Ph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ojživelníky, plazy, ry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Dr. Ján Kaut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avce okrem netopier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 Ing. Rudolf Kropil, C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op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. Peter Kaň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á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. Rastislav Rybani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Základné okruhy problé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Čo je priaznivý stav živočíšneho druh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 čoho priaznivý stav živočíšneho druhu vyplýv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 ktoré živočíšne druhy priaznivý stav stanovuj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ké charakteristiky musí definovanie priaznivého st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živočíšneho druhu obsahovať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o je priaznivý stav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druhu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Z čoho priaznivý stav živočíšneho druhu vyplýv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ernic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y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/43/EHS o ochrane biotopov, voľne žijúcich živočíchov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ľne rastúcich rastlí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k-SK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innosťou členských štátov je definovať a zabezpečiť „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ý sta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druhov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opov v súlade so Smernic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 druhu z hľadiska ochrany prírody sa bude považovať za „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ý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ke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Times New Roman"/>
              </a:rPr>
              <a:t>ú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je o populačnej dynamike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íslušného druhu naznačujú, že sa dlhodobo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ržuje ako   životaschopný prvok svojho biotop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rodzený areál rozšírenia druh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nezmenšuje a pravdepodobne sa ani v dohľadnej do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bude   zmenšovať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a pravdepodobne aj bude existovať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statok biotopov na dlhodobé zachovanie jeho populá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o je priaznivý stav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druhu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Z čoho priaznivý stav živočíšneho druhu vyplýva?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on 543/2002 Z.z. o ochrane prírody a kraji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5 Priaznivý stav druhu, priaznivý stav biotopu a priaznivý stav časti kraj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Za priaznivý stav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 hľadiska jeho ochrany (ďalej len „priaznivý stav druhu “) sa považuje taký stav, ke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daje o populačnej dynamik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uhu naznačujú, že sa dlhodobo udržuje ako životaschopný prvok svojho biotop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rodzený areál druh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nezmenšuj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uje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statok biotopov na dlhodobé zachovani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ho populá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o je priaznivý stav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druhu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Z čoho priaznivý stav živočíšneho druhu vyplýv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8 Súvislá európska sústava chránených úze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s. 1: „.....cieľom súvislej európskej sústavy chránených území je zachovať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ý sta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ov európskeho významu a 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ý sta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uhov európskeho významu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 ktoré živočíšne druhy priaznivý stav stanovuj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živočíchov z prílohy II, IV a V Smernice Rady 92/43/EHS z 21. mája 1992 o ochrane biotopov, voľne žijúcich živočíchov a voľne rastúcich rastlí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tákov z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ílohy I  Smernice Rady 79/409/EHS z 2. apríla 1979 o ochrane vo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ľ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ne žijúcich vtákov 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grujú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ru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vtákov (druhy zaradené v Bonnskej konvencii).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Zoznamy druhov pre definovanie priaznivého sta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Invertebrata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Pisces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Amphibia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Reptilia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Mammalia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Aves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ernic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/43/EHS o ochrane biotopov, voľ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júcich živočíchov a voľne rastúcich rastl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ú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je o populačnej dynamike príslušného dru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údaje o 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rodzen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om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reál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íslušného druh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údaje o 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otopo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a dlhodobé zachovanie populá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íslušného dru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Údaje o populá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Relatívna početn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  100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   15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     2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odstatný výsk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Zachoval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vynikajúca zachoval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dobrá zachoval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priemerná alebo znížená zachoval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eň zachovania vlastností daného biotopu dôležitých pre určité dru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nosti obno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3:49:00Z</dcterms:created>
  <dc:creator>ŠOP SR</dc:creator>
  <dc:description/>
  <dc:language>en-US</dc:language>
  <cp:lastModifiedBy>sopsr.saxa</cp:lastModifiedBy>
  <dcterms:modified xsi:type="dcterms:W3CDTF">2004-02-02T07:21:10Z</dcterms:modified>
  <cp:revision>8</cp:revision>
  <dc:subject/>
  <dc:title>DEFINOVANIE PRIAZNIVÉHO STAVU ŽIVOČÍŠNYCH DRUHOV </dc:title>
</cp:coreProperties>
</file>