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4B26-2FF2-422B-9C45-81C2B617A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C194-A5EB-4532-8453-6D5C3C5B6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3FC7-11A6-492F-A253-11C3A9DE6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0867-2872-443B-964D-12810BAD0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54F7-85E3-4314-90E3-037C84900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9773-29FC-4727-B246-7DD8B9B4E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FABD-E3F5-478A-815E-58E501D1A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DD02-27EA-41CB-A8BA-B2D58A360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5F58-8747-4B73-8637-EA586D573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8978-180C-45FE-9AEB-02DAA0B9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94D4-8F39-489B-811E-B65553857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3F3B-E667-4237-AC27-CB175DCF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58C76-5D47-4F16-8BA1-6B8C127D3BA8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DEFINOVANIE PRIAZNIVÉHO STAVU </a:t>
            </a:r>
            <a:r>
              <a:rPr b="1" lang="sk-SK" sz="4000" spc="-1" strike="noStrike">
                <a:solidFill>
                  <a:srgbClr val="000000"/>
                </a:solidFill>
                <a:latin typeface="Times New Roman"/>
              </a:rPr>
              <a:t>ŽIVOČÍŠNYCH </a:t>
            </a:r>
            <a:r>
              <a:rPr b="1" lang="sk-SK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DRUH</a:t>
            </a:r>
            <a:r>
              <a:rPr b="1" lang="sk-SK" sz="4000" spc="-1" strike="noStrike">
                <a:solidFill>
                  <a:srgbClr val="000000"/>
                </a:solidFill>
                <a:latin typeface="Times New Roman"/>
              </a:rPr>
              <a:t>OV</a:t>
            </a: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09880"/>
            <a:ext cx="64008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Roman Rajtar, Andrej Saxa 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Štátna ochrana prírody Slovenskej republik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Centrum ochrany prírody a krajiny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 Lazovná 10, Banská Bystrica 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rajtar@sopsr.sk, saxa@sopsr.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kteristiky vyžadované Európskou komisiou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 Izolovanos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pulácia (takmer) izolovaná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izolovaná populácia, ale na okrajoch areálu rozšírenia (marginál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: neizolovaná populácia v rámci zväčšeného areálu rozšírenia (rozšírená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 Celkové hodnote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: vynikajúce hodnote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: dobré hodnote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: dostačujúce hodnote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kteristiky vyžadované Európskou komisiou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Smernica Rady</a:t>
            </a: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/409/EHS o ochrane voľne žijúci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ák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lánok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Členské štáty budú podporovať výskum a akúkoľvek činnosť požadovanú ako základ pre ochranu, manažment a využívanie populácií všetkých druhov vtákov uvedených v článku 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Zvláštna pozornosť bude venovaná výskumu a činnostiam zameraným na predmety uvedené v prílohe V. Členské štáty dodajú Komisii všetky informácie potrebné na to, aby mohla prijať adekvátne opatrenia na koordináciu výskumu a činností uvedených v tomto článk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lánok 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Členské štáty postúpia Komisii každé tri roky správu o implementácii opatrení prijatých v jednotlivých štátoch.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kteristiky vyžadované Európskou komisiou: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Príloha V B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árodné zoznamy druhov, ktorým hrozí vyhynutie alebo zvlášť ohrozených druhov s ohľadom na ich zemepisné rozšíreni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oznam a ekologický opis oblastí, ktoré sú zvlášť dôležité pre sťahovavé druhy na ich migračných trasách a ako zimoviská a hniezdiská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oznam údajov o početnosti populácií sťahovavých druhov na základe výsledkov ich krúžkovan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dnotenie vplyvu metód odchytu voľne žijúceho vtáctva na početnosť ich populáci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voj alebo zdokonalenie ekologických metód prevencie škôd spôsobených vtákm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čenie niektorých druhov ako indikátorov znečisten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túdium nepriaznivých účinkov chemického znečistenia na početnosť populácií vtáčích druhov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ákladné princípy a požiadavky pri definovaní</a:t>
            </a: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 priaznivého stavu živočíšneho druhu (FCS)</a:t>
            </a:r>
            <a:r>
              <a:rPr b="1" lang="sk-SK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dnotné myslenie pri definovaní FCS v základných princípoch, kritériách a rámcoch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anentná komunikácia vrámci pracovných skupín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konalé poznanie ekológie jednotlivých druhov v podmienkach Slovenska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znanie dlhodobých trendov (minulých, súčasných a predpokladaných) vo vývoji druhu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asovo a priestorovo dynamický a flexibilný model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znanie zahraničných prístupov pri definovaní priaznivého stavu a jeho nadväznosti na vypracovanie metodiky monitoringu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znanie viacerých metodických prístupov v monitoringu druhov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žiadavky EK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h premietnutie do parametrov charakterizujúcich priaznivý resp. nepriaznivý stav a následne parametrov zisťovaných v monitoringu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ákladné princípy a požiadavky pri definovaní</a:t>
            </a: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 priaznivého stavu živočíšneho druhu (FCS)</a:t>
            </a:r>
            <a:r>
              <a:rPr b="1" lang="sk-SK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10.  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lastnosti parametrov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stižné, ľahko sledovateľné a merateľn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h vyhodnocovanie a analýzy nesmú byť veľmi komplikovan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rážajúce a reagujúce na významné dopady a ohrozenia priaznivého stav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e príliš citlivé (reagujúce aj na nevýznamné zásahy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chytávajúce účinky manažmentových opatren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ystihujúce biotopové podmienky druhov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11.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Definovať FCS druhu vo vzťahu k jeho biotopu a prostrednictvom neho (dostatok vhodných biotopov pre jednotlvé vývojové resp. vekové štádia druh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12.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Určenie váhy jednotlivých parametrov (napr.1-10) pre možnosť celkového vyhodnotenia (napr. A, B, C, D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DEFINOVANIE PRIAZNIVÉHO STAVU </a:t>
            </a: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ŽIVOČÍŠNYCH </a:t>
            </a:r>
            <a:r>
              <a:rPr b="1" lang="sk-SK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DRUH</a:t>
            </a: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ídri skupí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zstavov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. RNDr. Oto Majzlan, Ph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ojživelníky, plazy, ry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NDr. Ján Kaut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cavce okrem netopiero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 Ing. Rudolf Kropil, CS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opi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g. Peter Kaňu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ták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r. Rastislav Rybani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Times New Roman"/>
              </a:rPr>
              <a:t>Ďakujeme za pozornosť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Základné okruhy problé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15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Čo je priaznivý stav živočíšneho druh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Z čoho priaznivý stav živočíšneho druhu vyplýv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Pre ktoré živočíšne druhy priaznivý stav stanovuje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Aké charakteristiky musí definovanie priaznivého stav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živočíšneho druhu obsahovať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o je priaznivý stav</a:t>
            </a: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 druhu</a:t>
            </a:r>
            <a:r>
              <a:rPr b="1" lang="sk-SK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br>
              <a:rPr sz="2800"/>
            </a:b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 Z čoho priaznivý stav živočíšneho druhu vyplýv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7631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ernic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ady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2/43/EHS o ochrane biotopov, voľne žijúcich živočíchov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ľne rastúcich rastlí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sk-SK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vinnosťou členských štátov je definovať a zabezpečiť „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aznivý stav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 druhov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topov v súlade so Smernicam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v druhu z hľadiska ochrany prírody sa bude považovať za „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aznivý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 keď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0000"/>
                </a:solidFill>
                <a:latin typeface="Times New Roman"/>
              </a:rPr>
              <a:t>ú</a:t>
            </a:r>
            <a:r>
              <a:rPr b="1" lang="sk-SK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aje o populačnej dynamike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íslušného druhu naznačujú, že sa dlhodobo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držuje ako   životaschopný prvok svojho biotopu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irodzený areál rozšírenia druhu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a nezmenšuje a pravdepodobne sa ani v dohľadnej do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bude   zmenšovať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 a pravdepodobne aj bude existovať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k-SK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statok biotopov na dlhodobé zachovanie jeho populác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o je priaznivý stav</a:t>
            </a: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 druhu</a:t>
            </a:r>
            <a:r>
              <a:rPr b="1" lang="sk-SK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br>
              <a:rPr sz="2800"/>
            </a:b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 Z čoho priaznivý stav živočíšneho druhu vyplýva?</a:t>
            </a: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ákon 543/2002 Z.z. o ochrane prírody a krajin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 5 Priaznivý stav druhu, priaznivý stav biotopu a priaznivý stav časti kraji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 Za priaznivý stav 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hu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 hľadiska jeho ochrany (ďalej len „priaznivý stav druhu “) sa považuje taký stav, ke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</a:t>
            </a:r>
            <a:r>
              <a:rPr b="1" lang="sk-SK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údaje o populačnej dynamike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ruhu naznačujú, že sa dlhodobo udržuje ako životaschopný prvok svojho biotopu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irodzený areál druhu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a nezmenšuj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istuje </a:t>
            </a:r>
            <a:r>
              <a:rPr b="1" lang="sk-SK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statok biotopov na dlhodobé zachovanie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eho populác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o je priaznivý stav</a:t>
            </a: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 druhu</a:t>
            </a:r>
            <a:r>
              <a:rPr b="1" lang="sk-SK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br>
              <a:rPr sz="2800"/>
            </a:b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 Z čoho priaznivý stav živočíšneho druhu vyplýv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2743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 28 Súvislá európska sústava chránených územ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s. 1: „.....cieľom súvislej európskej sústavy chránených území je zachovať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aznivý stav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iotopov európskeho významu a 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aznivý stav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ruhov európskeho významu.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Pre ktoré živočíšne druhy priaznivý stav stanovujem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h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živočíchov z prílohy II, IV a V Smernice Rady 92/43/EHS z 21. mája 1992 o ochrane biotopov, voľne žijúcich živočíchov a voľne rastúcich rastlí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h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tákov z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prílohy I  Smernice Rady 79/409/EHS z 2. apríla 1979 o ochrane vo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ľ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ne žijúcich vtákov 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igrujú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druh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vtákov (druhy zaradené v Bonnskej konvencii).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Zoznamy druhov pre definovanie priaznivého stav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800" spc="-1" strike="noStrike">
                <a:solidFill>
                  <a:srgbClr val="000000"/>
                </a:solidFill>
                <a:latin typeface="Times New Roman"/>
              </a:rPr>
              <a:t>Invertebrata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6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800" spc="-1" strike="noStrike">
                <a:solidFill>
                  <a:srgbClr val="000000"/>
                </a:solidFill>
                <a:latin typeface="Times New Roman"/>
              </a:rPr>
              <a:t>Pisces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2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800" spc="-1" strike="noStrike">
                <a:solidFill>
                  <a:srgbClr val="000000"/>
                </a:solidFill>
                <a:latin typeface="Times New Roman"/>
              </a:rPr>
              <a:t>Amphibia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800" spc="-1" strike="noStrike">
                <a:solidFill>
                  <a:srgbClr val="000000"/>
                </a:solidFill>
                <a:latin typeface="Times New Roman"/>
              </a:rPr>
              <a:t>Reptilia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800" spc="-1" strike="noStrike">
                <a:solidFill>
                  <a:srgbClr val="000000"/>
                </a:solidFill>
                <a:latin typeface="Times New Roman"/>
              </a:rPr>
              <a:t>Mammalia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4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800" spc="-1" strike="noStrike">
                <a:solidFill>
                  <a:srgbClr val="000000"/>
                </a:solidFill>
                <a:latin typeface="Times New Roman"/>
              </a:rPr>
              <a:t>Aves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8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848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kteristiky vyžadované Európskou komisiou: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ernic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ady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2/43/EHS o ochrane biotopov, voľ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ijúcich živočíchov a voľne rastúcich rastlí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0000"/>
                </a:solidFill>
                <a:latin typeface="Times New Roman"/>
              </a:rPr>
              <a:t>ú</a:t>
            </a:r>
            <a:r>
              <a:rPr b="0" lang="sk-SK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aje o populačnej dynamike príslušného druh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0000"/>
                </a:solidFill>
                <a:latin typeface="Times New Roman"/>
              </a:rPr>
              <a:t>údaje o </a:t>
            </a:r>
            <a:r>
              <a:rPr b="0" lang="sk-SK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irodzen</a:t>
            </a:r>
            <a:r>
              <a:rPr b="0" lang="sk-SK" sz="2800" spc="-1" strike="noStrike">
                <a:solidFill>
                  <a:srgbClr val="ff0000"/>
                </a:solidFill>
                <a:latin typeface="Times New Roman"/>
              </a:rPr>
              <a:t>om</a:t>
            </a:r>
            <a:r>
              <a:rPr b="0" lang="sk-SK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areál</a:t>
            </a:r>
            <a:r>
              <a:rPr b="0" lang="sk-SK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sk-SK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príslušného druh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0000"/>
                </a:solidFill>
                <a:latin typeface="Times New Roman"/>
              </a:rPr>
              <a:t>údaje o </a:t>
            </a:r>
            <a:r>
              <a:rPr b="0" lang="sk-SK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iotopo</a:t>
            </a:r>
            <a:r>
              <a:rPr b="0" lang="sk-SK" sz="28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0" lang="sk-SK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na dlhodobé zachovanie populác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íslušného druh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kteristiky vyžadované Európskou komisiou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Údaje o populác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Relatívna početnos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                     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:   100%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                     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:    15%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p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                     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:      2%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p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                     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podstatný výsky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Zachovalos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: vynikajúca zachovalos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: dobrá zachovalos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: priemerná alebo znížená zachovalos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peň zachovania vlastností daného biotopu dôležitých pre určité druh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žnosti obnov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5T13:49:00Z</dcterms:created>
  <dc:creator>ŠOP SR</dc:creator>
  <dc:description/>
  <dc:language>en-US</dc:language>
  <cp:lastModifiedBy>sopsr.saxa</cp:lastModifiedBy>
  <dcterms:modified xsi:type="dcterms:W3CDTF">2004-02-02T07:21:10Z</dcterms:modified>
  <cp:revision>8</cp:revision>
  <dc:subject/>
  <dc:title>DEFINOVANIE PRIAZNIVÉHO STAVU ŽIVOČÍŠNYCH DRUHOV </dc:title>
</cp:coreProperties>
</file>