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0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80010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4425120"/>
            <a:ext cx="80010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1440" y="251460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442512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1440" y="442512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2576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7160" y="2514600"/>
            <a:ext cx="2576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2560" y="2514600"/>
            <a:ext cx="2576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4425120"/>
            <a:ext cx="2576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7160" y="4425120"/>
            <a:ext cx="2576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2560" y="4425120"/>
            <a:ext cx="25761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904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1440" y="2514600"/>
            <a:ext cx="3904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1440" y="2514600"/>
            <a:ext cx="3904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442512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904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1440" y="251460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1440" y="442512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1440" y="2514600"/>
            <a:ext cx="39042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4425120"/>
            <a:ext cx="80010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98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183360"/>
            <a:ext cx="9144000" cy="67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Garamond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1760" y="25146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40080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4eee4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4eee4"/>
                </a:solidFill>
                <a:latin typeface="Garamond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5434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4eee4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4eee4"/>
                </a:solidFill>
                <a:latin typeface="Garamond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an_sima@env.cz" TargetMode="External"/><Relationship Id="rId2" Type="http://schemas.openxmlformats.org/officeDocument/2006/relationships/hyperlink" Target="mailto:jan_sima@env.cz" TargetMode="External"/><Relationship Id="rId3" Type="http://schemas.openxmlformats.org/officeDocument/2006/relationships/hyperlink" Target="mailto:jan_sima@env.cz" TargetMode="External"/><Relationship Id="rId4" Type="http://schemas.openxmlformats.org/officeDocument/2006/relationships/hyperlink" Target="mailto:jan_sima@env.cz" TargetMode="External"/><Relationship Id="rId5" Type="http://schemas.openxmlformats.org/officeDocument/2006/relationships/hyperlink" Target="mailto:jan_sima@env.cz" TargetMode="External"/><Relationship Id="rId6" Type="http://schemas.openxmlformats.org/officeDocument/2006/relationships/hyperlink" Target="mailto:jan_sima@env.cz" TargetMode="External"/><Relationship Id="rId7" Type="http://schemas.openxmlformats.org/officeDocument/2006/relationships/hyperlink" Target="mailto:jan_sima@env.cz" TargetMode="External"/><Relationship Id="rId8" Type="http://schemas.openxmlformats.org/officeDocument/2006/relationships/hyperlink" Target="mailto:alena_cervena@env.cz" TargetMode="External"/><Relationship Id="rId9" Type="http://schemas.openxmlformats.org/officeDocument/2006/relationships/hyperlink" Target="mailto:alena_cervena@env.cz" TargetMode="External"/><Relationship Id="rId10" Type="http://schemas.openxmlformats.org/officeDocument/2006/relationships/hyperlink" Target="mailto:alena_cervena@env.cz" TargetMode="External"/><Relationship Id="rId11" Type="http://schemas.openxmlformats.org/officeDocument/2006/relationships/hyperlink" Target="mailto:alena_cervena@env.cz" TargetMode="External"/><Relationship Id="rId12" Type="http://schemas.openxmlformats.org/officeDocument/2006/relationships/hyperlink" Target="mailto:alena_cervena@env.cz" TargetMode="External"/><Relationship Id="rId13" Type="http://schemas.openxmlformats.org/officeDocument/2006/relationships/hyperlink" Target="mailto:alena_cervena@env.cz" TargetMode="External"/><Relationship Id="rId14" Type="http://schemas.openxmlformats.org/officeDocument/2006/relationships/hyperlink" Target="mailto:alena_cervena@env.cz" TargetMode="External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Garamond"/>
              </a:rPr>
              <a:t>Legislativní ochrana velkých šelem v ČR</a:t>
            </a:r>
            <a:endParaRPr b="0" lang="en-US" sz="32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g. Jan Šíma, Ing. Alena Červená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dbor zvláště chráněných částí přírody MŽ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257800"/>
            <a:ext cx="28195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Garamond"/>
              </a:rPr>
              <a:t>Ministerstvo životního prostřed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Garamond"/>
              </a:rPr>
              <a:t>Vršovická 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Garamond"/>
              </a:rPr>
              <a:t>Praha 10, 100 10</a:t>
            </a:r>
            <a:r>
              <a:rPr b="0" lang="en-US" sz="1600" spc="-1" strike="noStrike">
                <a:solidFill>
                  <a:srgbClr val="003300"/>
                </a:solidFill>
                <a:latin typeface="Garamond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5257800"/>
            <a:ext cx="28195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Garamond"/>
              </a:rPr>
              <a:t>&lt;footer&gt;</a:t>
            </a:r>
            <a:r>
              <a:rPr b="0" lang="cs-CZ" sz="1600" spc="-1" strike="noStrike">
                <a:solidFill>
                  <a:srgbClr val="003300"/>
                </a:solidFill>
                <a:latin typeface="Garamond"/>
              </a:rPr>
              <a:t>Tel: ++420-267 122 5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Garamond"/>
              </a:rPr>
              <a:t>Fax: ++420-267 126 5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Garamond"/>
              </a:rPr>
              <a:t>Email: jan_sima@env.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5280" y="177336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utnost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ohlášení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škody do 48 hod. místnímu OOP (obec III) a následně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podání žádosti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na KÚ (max. do 6 měsíců s výjimkou škod na zdraví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áhrada poskytována MF ze státního rozpočtu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3240360" cy="307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Garamond"/>
              </a:rPr>
              <a:t>Zákon č. 449/2001, o myslivosti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8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dvěd, vlk i rys -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zvěř, kterou nelze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lovit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podle mezinárodních smluv, jimiž je ČR vázána a které byly vyhlášeny ve Sbírce zákonů nebo druhy zvěře, které jsou zvláště chráněnými živočichy podle zvláštních právních předpisů a nebyla-li k jejich lovu povolena výjimka podle těchto předpisů (§ 2, odst. c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ástroje využitelné k ochraně šelem (hl. § 9 zákaz rušení zvěře aj., § 45 zakázané způsoby lovu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ov omezen na držitele loveckých lístků splňující další podmínky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Garamond"/>
              </a:rPr>
              <a:t>Sankce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9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zákon č. 114/1992 Sb. - pokuty do výše 100(resp. 200 v ZCHÚ) tis. Kč u fyzických osob a do 2 mil. Kč u právnických osob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zákon č. 449/2001 Sb. až do 200 tis. Kč (mj. porušení zakázaných způsobů lovu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restní odpovědnost – zákon č. 140/1961 Sb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oškození složky ŽP, usmrcení chráněného živočicha - až 3 roky odnětí svobody (§181a odst. 1 a § 181f odst. 1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ytláctví – až 2 roky (§ 178a odst. 1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1267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Garamond"/>
              </a:rPr>
              <a:t>Závěr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31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eexistuje společenská shoda na významu šelem a způsobech jejich ochran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legislativní ochrana ani náhrady škod nevedou k omezení pytláctví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eexistuje vhodný ekonomický stimulační nástroj a náhrady škod mají nedostatk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eprovázanost zákonů a administrativní komplikovanost postupu znesnadňují řešení problémových situací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latná legislativa neumožňuje použít kontrolovatelné regulační modely (kvóty, licencovaný odstřel); zároveň je nízký předpoklad jejich transparentního dodržování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6000" y="5157720"/>
            <a:ext cx="28195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Garamond"/>
              </a:rPr>
              <a:t>Ministerstvo životního prostřed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Garamond"/>
              </a:rPr>
              <a:t>Vršovická 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Garamond"/>
              </a:rPr>
              <a:t>Praha 10, 100 10</a:t>
            </a:r>
            <a:r>
              <a:rPr b="0" lang="en-US" sz="1600" spc="-1" strike="noStrike">
                <a:solidFill>
                  <a:srgbClr val="003300"/>
                </a:solidFill>
                <a:latin typeface="Garamond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5084640"/>
            <a:ext cx="2665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Garamond"/>
              </a:rPr>
              <a:t>&lt;footer&gt;</a:t>
            </a:r>
            <a:r>
              <a:rPr b="0" lang="cs-CZ" sz="1600" spc="-1" strike="noStrike">
                <a:solidFill>
                  <a:srgbClr val="003300"/>
                </a:solidFill>
                <a:latin typeface="Garamond"/>
              </a:rPr>
              <a:t>Tel: ++420-267 122 5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Garamond"/>
              </a:rPr>
              <a:t>Fax: ++420-267 126 5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300"/>
                </a:solidFill>
                <a:latin typeface="Garamond"/>
              </a:rPr>
              <a:t>Email:</a:t>
            </a:r>
            <a:r>
              <a:rPr b="0" lang="cs-CZ" sz="1800" spc="-1" strike="noStrike">
                <a:solidFill>
                  <a:srgbClr val="003300"/>
                </a:solidFill>
                <a:latin typeface="Garamond"/>
              </a:rPr>
              <a:t> 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1"/>
              </a:rPr>
              <a:t>jan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2"/>
              </a:rPr>
              <a:t>_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3"/>
              </a:rPr>
              <a:t>sima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4"/>
              </a:rPr>
              <a:t>@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5"/>
              </a:rPr>
              <a:t>env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6"/>
              </a:rPr>
              <a:t>.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7"/>
              </a:rPr>
              <a:t>cz</a:t>
            </a:r>
            <a:r>
              <a:rPr b="0" lang="cs-CZ" sz="1800" spc="-1" strike="noStrike">
                <a:solidFill>
                  <a:srgbClr val="000000"/>
                </a:solidFill>
                <a:latin typeface="Garamond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8"/>
              </a:rPr>
              <a:t>alena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9"/>
              </a:rPr>
              <a:t>_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10"/>
              </a:rPr>
              <a:t>cervena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11"/>
              </a:rPr>
              <a:t>@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12"/>
              </a:rPr>
              <a:t>env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13"/>
              </a:rPr>
              <a:t>.</a:t>
            </a:r>
            <a:r>
              <a:rPr b="0" lang="cs-CZ" sz="1800" spc="-1" strike="noStrike" u="sng">
                <a:solidFill>
                  <a:srgbClr val="33cc33"/>
                </a:solidFill>
                <a:uFillTx/>
                <a:latin typeface="Garamond"/>
                <a:hlinkClick r:id="rId14"/>
              </a:rPr>
              <a:t>c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3040" y="2421000"/>
            <a:ext cx="27687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ěku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oz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3492360" y="1844640"/>
            <a:ext cx="4389480" cy="292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040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V ČR výskyt 3 druhů velkých šelem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Rys ostrovid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cs-CZ" sz="2600" spc="-1" strike="noStrike">
                <a:solidFill>
                  <a:srgbClr val="000000"/>
                </a:solidFill>
                <a:latin typeface="Garamond"/>
              </a:rPr>
              <a:t>Lynx lynx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) – 75 – 100 ex., Šumava a Z Čechy, Jeseníky, Moravskoslezské Beskydy, Javorník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Vlk </a:t>
            </a:r>
            <a:r>
              <a:rPr b="0" i="1" lang="cs-CZ" sz="2600" spc="-1" strike="noStrike">
                <a:solidFill>
                  <a:srgbClr val="000000"/>
                </a:solidFill>
                <a:latin typeface="Garamond"/>
              </a:rPr>
              <a:t>Canis lupus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) -  do 10 ex., Beskydy, Šumava(?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Medvěd hnědý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cs-CZ" sz="2600" spc="-1" strike="noStrike">
                <a:solidFill>
                  <a:srgbClr val="000000"/>
                </a:solidFill>
                <a:latin typeface="Garamond"/>
              </a:rPr>
              <a:t>Ursus arctos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) – do 5 ex., Moravskoslezské Beskydy, Javorník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598560" cy="242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762120" y="64008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9640" y="3813120"/>
            <a:ext cx="3816360" cy="2454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708360" y="4186080"/>
            <a:ext cx="179064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8001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Stav druhů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Červený seznam ohrožených druhů ČR, Praha 2003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aramond"/>
              </a:rPr>
              <a:t>Red List</a:t>
            </a:r>
            <a:r>
              <a:rPr b="0" lang="cs-CZ" sz="2000" spc="-1" strike="noStrike">
                <a:solidFill>
                  <a:srgbClr val="000000"/>
                </a:solidFill>
                <a:latin typeface="Garamond"/>
              </a:rPr>
              <a:t> of Treatened Species in the Czech Republi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rys ostrovid – </a:t>
            </a: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EN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 (endangered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vlk – </a:t>
            </a: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CR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 (critically endangered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medvěd hnědý - </a:t>
            </a: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CR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 (critically endangered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3284640"/>
            <a:ext cx="50328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3357720"/>
            <a:ext cx="115236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3716280"/>
            <a:ext cx="9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8000" y="3860280"/>
            <a:ext cx="43200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87640" y="4508640"/>
            <a:ext cx="2913120" cy="218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Garamond"/>
              </a:rPr>
              <a:t>Mezinárodní úmluvy a ochrana v rámci EU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8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Bernská úmluva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 - ČR přistoupila k Úmluvě o ochraně evropských planě rostoucích rostlin, volně žijících živočichů a přírodních stanovišť v r. 1998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k lovu (zařazení do přílohy II) vlka a medvěda (a dalších druhů) podala ČR výhradu, která ale není uplatňována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CITES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 – v ČR platná od r. 1992, všechny velké šelmy – kat. A (medvěd, vlk – příloha I, rys – příloha II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aramond"/>
              </a:rPr>
              <a:t>Směrnice 92/43/EHS „o stanovištích“</a:t>
            </a: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 – všechny velké šelmy v příloze II i IV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vlk a medvěd - vymezena 1 EVL (Beskydy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aramond"/>
              </a:rPr>
              <a:t>Rys – 4 EVL (Beskydy, Šumava, Boletice, Blanský les)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Garamond"/>
              </a:rPr>
              <a:t>Zákon č. 114/1992 Sb. o ochraně přírody a krajiny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Základní podmínky ochrany zvláště chráněných živočichů - § 50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 ochrana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všech svých vývojových stádiích, užívaných přirozených i umělých sídel a jejich biotopu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v souladu s požadavky směrnice 92/43/EEC „o stanovištích“ stanoveny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zákazy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- škodlivě zasahovat do přirozeného vývoje, zejména je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chytat, chovat v zajetí, rušit, zraňovat nebo usmrcovat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sbírat, ničit, poškozovat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či přemisťovat jejich vývojová stádia nebo jimi užívaná sídl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ržet, chovat, dopravovat, prodávat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, vyměňovat, nabízet za účelem prodeje nebo výměny.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tejně jako zvláště chráněný živočich nebo rostlina je chráněn i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rtvý jedinec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ohoto druhu, jeho část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ebo výrobek z něho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u něhož je patrné z průvodního dokumentu, obalu, značky, etikety nebo z jiných okolností, že je vyroben z částí takového živočicha nebo rostliny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16360" y="4076640"/>
            <a:ext cx="3816360" cy="250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4000" y="184464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Vyhláška č. 395/1992 Sb.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edvěd, vlk – kriticky ohrožený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rys – silně ohrožený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96000" y="1625760"/>
            <a:ext cx="3024000" cy="29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87640" y="3357720"/>
            <a:ext cx="3456000" cy="25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4000" y="3500280"/>
            <a:ext cx="2852640" cy="314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4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Výjimky ze zákazů u zvláště chráněných druhů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(§ 56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ouze v případech kdy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výrazně převažuje jiný veřejný zájem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nad zájmem ochrany přírod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eexistuje jiné uspokojivého řešení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populace druhu bude zachována v příznivém stavu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z hlediska ochran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649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a ze zákonem stanovených důvodů (mj. v zájmu </a:t>
            </a: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předcházení závažným škodám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na úrodě, domácích zvířatech, lesích, rybářském nebo vodním hospodářství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1412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Garamond"/>
              </a:rPr>
              <a:t>Zákon č. 115/2000 Sb., „o náhradách škod“</a:t>
            </a:r>
            <a:endParaRPr b="0" lang="en-US" sz="2800" spc="-1" strike="noStrike">
              <a:solidFill>
                <a:srgbClr val="0033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3141720"/>
            <a:ext cx="42181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a životě a zdraví oso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a domácích zvířatech (dle definice v §2 písm. a) – podmínka zákl. ochranných opatření (elektrický ohradník, dohled, uzavřené objekty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a hlídacích psec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a včelstvech a včelařském zaříze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7640" y="3068280"/>
            <a:ext cx="41259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a nesklizených polních plodinách (ne po agrotechnické lhůtě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a trvalých porostec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a uzavřených objektech nebo movitých věcech v uzavřených objektech (včetně škod způsobených vyplašeným dobytkem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060640"/>
            <a:ext cx="8820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žnost náhrady u všech 3 šelem (§ 3 písm. e, f, g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předmět náhrady škody (§ 4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120" y="5719680"/>
            <a:ext cx="376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2:50:45Z</dcterms:created>
  <dc:creator>Mat</dc:creator>
  <dc:description/>
  <dc:language>en-US</dc:language>
  <cp:lastModifiedBy>Jaroslav Červený</cp:lastModifiedBy>
  <dcterms:modified xsi:type="dcterms:W3CDTF">2008-02-10T21:05:56Z</dcterms:modified>
  <cp:revision>33</cp:revision>
  <dc:subject/>
  <dc:title>Prezentace aplikace PowerPoint</dc:title>
</cp:coreProperties>
</file>