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8.wmf" ContentType="image/x-wmf"/>
  <Override PartName="/ppt/media/image9.png" ContentType="image/png"/>
  <Override PartName="/ppt/media/image33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20.jpeg" ContentType="image/jpe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6E8-7AAB-48D8-AFA5-F489D584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782-2774-4785-A37C-31B0448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F04-6A5E-4655-A03D-66D792F0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597-7B1C-458A-8027-A0BF495B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C2A7-CD73-4EC5-AF34-C3C3658F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6ED3-52D0-4642-A6A7-62FAC4A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1673-0B34-4C37-B198-AB25C306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F3C3-7465-42C3-B3F6-0738985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F3D0-5C71-49A8-B3E1-B43F7CA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F4E-7361-4A21-80DA-C959C73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9DC5-BCB3-44B0-B2DE-1026A74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A15-AFE5-422A-A18E-970783AA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2B64-8FF5-44B5-A883-7BA2F88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0D92-21A8-40C5-A9A0-7D6EC76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336-E57C-4A92-B526-5464DEB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031-7E07-4E6B-8C14-60FE0AA3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E91-1A0E-4045-922A-CD7CDB39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DCE-74C9-486B-A2D8-EF8AC6B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865-4789-4553-870D-99ED0D7B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2EC-E1F1-4C06-AEF7-B47158D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E47-05B5-4782-B746-96FD773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5D2-D566-43A9-9713-D833B61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CF7-C885-490D-A4B0-AFB0929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4F6-7239-430B-AB9F-CDDD29E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1f5e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7170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3C81-F5C8-4810-8D3B-AE3BBF87497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1f5e3e"/>
              </a:gs>
              <a:gs pos="50000">
                <a:srgbClr val="339966">
                  <a:alpha val="50196"/>
                </a:srgbClr>
              </a:gs>
              <a:gs pos="100000">
                <a:srgbClr val="1f5e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7170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846-3D38-47D1-975C-77DF79753AE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713800" cy="19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4f5cd"/>
                </a:solidFill>
                <a:latin typeface="Arial"/>
                <a:ea typeface="Arial"/>
              </a:rPr>
              <a:t>Právne aspekty ochrany veľkých šeliem na Slovensk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52480"/>
            <a:ext cx="4343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ichal Adam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ter Pilinsk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Štátna ochrana prírody 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MŽP 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6118200"/>
            <a:ext cx="4343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Bratislava, 11.2.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2087640" cy="1630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2319480"/>
            <a:ext cx="4572000" cy="4538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56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4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336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8088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zšírenie vlka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na Sloven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 územia s 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jeho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oro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u ochran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956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zšírenie vlka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na Sloven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 migračné korid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79292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336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57880" y="2060640"/>
            <a:ext cx="2670120" cy="4032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648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</a:tblGrid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125760" y="639144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400" y="1563840"/>
            <a:ext cx="57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početnosť sa odhaduje na 4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844640"/>
          <a:ext cx="871524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87152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7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rozšíren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792920" y="0"/>
            <a:ext cx="135108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1360" y="-6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816300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Č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, 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50920" y="263700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celoročne chránený druh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, pre ktorý sa vyhlasujú chránené úz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druh európskeho významu)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poločenská hodn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80 000,- 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6360" y="3790800"/>
            <a:ext cx="4464000" cy="30672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Náhrada škôd - kompenzác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4907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edveď hnedý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Ursus arcto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lk dravý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anis lup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rys ostrovid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ynx  lynx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0560" y="3357720"/>
            <a:ext cx="3097080" cy="218268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77080" y="2997360"/>
            <a:ext cx="1747800" cy="25128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2235240" cy="22176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redmet náhrady škô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86080"/>
            <a:ext cx="7632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život a zdravie fyzickej osob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brané domestikované živočíchy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kôň, osol, ich krížen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bytok, ovca, koza, ošípaná,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hydina,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ráliky 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ožušinové živočích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y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oužívané na stráženie pred útokmi šelie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ryby chované na hospodársky účel v rybochovný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riadenia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čelstvá a včel. zariaden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ľné plodin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eviny a lesné poras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poľovná raticová z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v oblastiach s celoročn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ochranou medveďa a v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ost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26828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dložiť písomnú žiadosť najneskôr do jedného mesiaca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d vzniku šk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komis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Úrad životného prostr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esný úr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ŠOP S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jiteľ (poškoden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ďal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formulár o obhliadke šk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rozhodnutie o uhrad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eposkytuje sa, ak škoda bola spôsobená chráneným živočíchom mimo doby jeho druhovej ochrany alebo na  území, pre  ktoré bola  povolená výnim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16360" y="1952640"/>
            <a:ext cx="4176720" cy="31320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478476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3860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odmienk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26828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áhrada škody na domestikovaných živočícho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kopytníky musia byť umiestnené v uzatvorenom objekte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 elektrickom ohradníku alebo pod priamym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hľadom osoby alebo pastierskeho p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hydina, králiky a kožušinové živočíchy musia byť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umiestnené v uzatvorenom ob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škody sú spravidla spôsobované veľkými šelmami –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edveď, vlk, ry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29440" y="4657680"/>
            <a:ext cx="2914560" cy="22003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4000" y="4678200"/>
            <a:ext cx="2160360" cy="2135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240360" cy="2174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</a:rPr>
              <a:t>Veľké šelmy na Slovensk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336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Medveď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Ursus arcto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lk 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ys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Lynx lynx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819520" cy="207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2819520" cy="17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1984320" cy="2579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1080" cy="518796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Legislatí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557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zákon o ochrane prírody a krajiny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č. 543/2002 Z.z. (vyhl. 24/2003 Z. z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poľovný zákon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23/1962 Zb. (vyhl. 172/1975 Zb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27600" y="3576600"/>
            <a:ext cx="5181480" cy="33084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Medveď 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193840"/>
          <a:ext cx="4246560" cy="4114800"/>
        </p:xfrm>
        <a:graphic>
          <a:graphicData uri="http://schemas.openxmlformats.org/drawingml/2006/table">
            <a:tbl>
              <a:tblPr/>
              <a:tblGrid>
                <a:gridCol w="958680"/>
                <a:gridCol w="1123920"/>
                <a:gridCol w="988920"/>
                <a:gridCol w="1175040"/>
              </a:tblGrid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69000" y="2637000"/>
            <a:ext cx="3806640" cy="285264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504760" y="6021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6280" y="1698480"/>
            <a:ext cx="68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Reálna početnosť sa odhaduje na 8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2060640"/>
          <a:ext cx="8856720" cy="44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856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4051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         </a:t>
            </a:r>
            <a:r>
              <a:rPr b="1" lang="sk-SK" sz="4000" spc="-1" strike="noStrike">
                <a:solidFill>
                  <a:srgbClr val="f4f5cd"/>
                </a:solidFill>
                <a:latin typeface="Arial"/>
                <a:ea typeface="Arial"/>
              </a:rPr>
              <a:t>Medveď rozšíren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48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Medveď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3640" y="3348000"/>
            <a:ext cx="4032360" cy="288936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, 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4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c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24000" y="2743200"/>
            <a:ext cx="4752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celoročne chránený druh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, pre ktorý sa vyhlasuj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é úz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prioritný druh eur. významu)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poločenská hodn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80 000,- 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ýnimka na usmrten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tzv. regulačný odst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chranný lov tzv. škodníkov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2103480"/>
            <a:ext cx="2368440" cy="3557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008040" y="64641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480" y="1490760"/>
            <a:ext cx="57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početnosť sa odhaduje na 5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844640"/>
          <a:ext cx="7993080" cy="455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44640"/>
                    <a:ext cx="7993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047600"/>
            <a:ext cx="8277480" cy="581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152360"/>
            <a:ext cx="8065800" cy="5705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rozšíren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8576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058240" y="0"/>
            <a:ext cx="10857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2895480"/>
            <a:ext cx="51055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druh s čiastočnou ochrano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ý v čase od 16.1. do  31.10. kalendárneho rok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ve oblasti s celoročnou ochranou- CHKO Kysuce a NP Slovenský k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 pre ktorý sa vyhlasuj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é územ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prioritný druh európske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ýznam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26120" y="3048120"/>
            <a:ext cx="3809880" cy="338292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700360" y="1989000"/>
            <a:ext cx="576360" cy="5749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li</cp:lastModifiedBy>
  <dcterms:modified xsi:type="dcterms:W3CDTF">2008-02-09T20:59:30Z</dcterms:modified>
  <cp:revision>141</cp:revision>
  <dc:subject/>
  <dc:title>Prezentace aplikace PowerPoint</dc:title>
</cp:coreProperties>
</file>