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3.wmf" ContentType="image/x-wmf"/>
  <Override PartName="/ppt/media/image10.png" ContentType="image/png"/>
  <Override PartName="/ppt/media/image11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CEA-2F79-4DA8-B337-E577D2B1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56E9-AD1A-4411-A80F-77BEA14A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C1A-1804-42AA-9C21-FE4B52D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A2A-12EE-47D1-84F2-FE385F9A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F02B-8A0A-43AF-B455-36F6101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F11-EE8C-4FC9-84C4-896EB6E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B648-92FF-4863-84E0-355A501C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0FC-6D28-4925-B119-9BBE9511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C34-8A58-4274-BBEA-FD647AD9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D25-335D-4A77-B2A7-8A5B8DFD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FEE-C54D-4AF0-8F41-D8B06583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95CF-B6D8-47A7-AC37-4ADE7E02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60ED-4877-4828-B2D7-7DAF79D57FBB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ZNAM ZÁPADNÝCH KARPÁT PRE OCHRANU A ZACHOVANIE VEĽKÝCH ŠELIEM V STREDNEJ EURÓP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638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H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EL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. SLAMEČKA – D. KRAJ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117504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0574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doeurópsky inštitút ekológie zveri, Viedeň, Brno, Ni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kumný ústav živočíšnej výroby, SCPV Nit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venský poľovnícky zväz Bratisl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304920"/>
            <a:ext cx="19810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29000" y="228600"/>
          <a:ext cx="2209680" cy="15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228600"/>
                    <a:ext cx="220968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39092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rcRect l="11912" t="5051" r="78145" b="87551"/>
          <a:stretch/>
        </p:blipFill>
        <p:spPr>
          <a:xfrm>
            <a:off x="6877080" y="404640"/>
            <a:ext cx="144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87760" cy="710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3564000" y="0"/>
          <a:ext cx="5580000" cy="360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0"/>
                    <a:ext cx="558000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3635280" y="3645000"/>
            <a:ext cx="55087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af svedčí o nežiaducom trvalom náraste medvedej populácie v západných Karpatoch v dôsledku jej nedostatočnej regulácie, spôsobenej nadmernými reštrikciami zo strany MŽP SR pri realizovaní jeho povoleného redukčného lovu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521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5229360"/>
            <a:ext cx="8964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ovnanie počtu zničených úľov a strhnutých hosp. zvierat (v ks) s vývojom početnosti medveďa (v %) v rokoch 1997 – 2006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čty HZ a včelstiev na Slovensku za uvedené obdobie poklesl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Škody spôsobené medveďom na hosp. zvieratách a včelstvách sú z pohľadu národného hospodárstva bezvýznamné, z lokálneho pohľadu však značné a ich nahradzovanie je zatiaľ neuspokojivé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 nahrádza škody medveďom len tam, kde nebol povolený odstr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j keď sa ho nepodarilo realizovať, čo môže viesť aj k nežiaducim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gál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stre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trebné zintenzívniť ochranu proti škodám spôsobeným veľkými šelmam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aždoročne dochádza k priamym fyzickým stretom medveďov s ľuďmi (5 – 6 osôb). Ich následky sú často vážn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írastok medvieďat dosahuje v lete až 20 % jarného stavu populácie. Preto je jej regulácia, minimálne vo výške 10 % nevyhnutná. Tá sa však bude môcť realizovať len vtedy, keď prestanú kontraproduktívne byrokratické obmedzenia jej realizác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áv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893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dačné pôsobenie všetkých troch druhov veľkých šeliem je na Slovensku synergické a preto zvlášť citeľn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še skúsenosti potvrdzujú, že keď sa veľké šelmy početne racionálne regulujú, je možný úspešný manažment raticovej zveri a aj škody na hosp. zvieratách a včelstvách možno udržať na únosnej úrov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Je potrebné udržiavať primerané stavy raticovej zveri nielen v záujme jej poľovníckeho obhospodarovania, ale aj ako základného zdroja obživy veľkých šel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ápadné Karpaty sú významným refúgiom veľkých šeliem v strednej Európe, odkiaľ tieto môžu spontánne migrovať do susedných štátov. Ide o autochtónnych členov karpatskej fauny a preto ich musíme trvalo zachovať, samozrejme v únosnej početnos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8864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prelome 19. a 20. storočia žili v Karpatoch posledné a najzápadnejšie populácie veľkých šeliem v strednej Euró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Z tohto aspektu boli východné Karpaty lepším refúgiom veľkých šeliem ako západn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západných Karpatoch bola početnosť veľkých šeliem už len minimálna (asi 20 – 30 medveďov, málo rysov, minimum vlkov na východe Slovenska a ich občasné zimné invázie z Poľsk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eľká raticová zver bola v absolútnom minime, srnčia bola trochu početnejšia a preto predstavovali hospodárske zvieratá na pastvinách významný zdroj potravy pre veľké šelm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Preto boli veľké šelmy silne prenasledované a pretrvával aj trofejový lov medveďov, realizovaný najmä českými poľovníkmi a to aj na Podkarpatskej Ru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roku 1933 bola z iniciatívy poľovníkov zavedená ochrana medveďa a jeho stavy sa začali zvyšovať. Vlk bol stále intenzívne lovený. Početnosť vlka a rysa sa zvýšila až po II. svetovej voj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tedy sa rozšíril najmä rys, vznikla malá populácia aj na severovýchode Moravy, ktorá však bola čoskoro zlikvidovaná. Rysy zo západných Karpát sa objavovali aj v býv. NDR, Maďarsku a Rakúsku, ale taktiež tam dlho nepreži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Na prelome 60. a 70. rokov minulého storočia sa stavy  vlka a rysa dostali opäť do minima a preto im bol v roku 1975, z iniciatívy poľovníkov, uzákonený čas ochrany od 1. marca do 15. septem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 dôsledku toho sa veľmi rozšíril areál vlka a početnosť všetkých troch druhov veľkých šeliem neustále narasta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56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3049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Areál veľkých šeliem v západných Karpato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943600"/>
            <a:ext cx="88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elená farba znázorňuje zalesnenie (199 k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z čoho veľké šelmy osídľujú asi 70 - 75 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956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R421" descr=""/>
          <p:cNvPicPr/>
          <p:nvPr/>
        </p:nvPicPr>
        <p:blipFill>
          <a:blip r:embed="rId1"/>
          <a:stretch/>
        </p:blipFill>
        <p:spPr>
          <a:xfrm>
            <a:off x="0" y="974880"/>
            <a:ext cx="9144000" cy="482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20509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äčšina veľkých šeliem, ktoré odmigrovali zo západných Karpát, bola v zahraničí uloven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Vlk a medveď sa v súčasnosti trvalo usídlil na severovýchodnej Morave, pri rysovi na východe ČR je ťažké povedať, akým podielom sú tam zastúpené spontánne migranty zo Slovenska a z umelých introdukci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o Rakúska prenikajú veľké šelmy z Balkánu a aj zo západných Karpát. Napriek tomu sú tu ich populácie minimálne, lebo pri intenzívnom chove jelenej zveri na hornej hranici lesa v Alpách sú nežiaduce (najmä vlk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Do Maďarska prenikali veľké šelmy zo západných Karpát neustále a prenikajú aj v súčasnosti, stabilizované populácie však zatiaľ nevznikli a sú odkázané na neustály prísun zo Slovens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33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0"/>
            <a:ext cx="38163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Slovenskí poľovníci odchytili veľa živých rysov do sklopcov na účely ich reintrodukcie v Slovinsku, Nemecku, Švajčiarsku, Rakúsku, Francúzsku, Taliansku a v ČR. Export z veľkej časti organizovala ZOO Ostrava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527280"/>
            <a:ext cx="914400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V niektorých rokoch sa na Slovensku lovilo až 100 rysov. Populácia expandovala, rysy prenikali do nových regiónov a často vnikali (najmä mladé) aj do ľudských sídiel. Prírastok populácie je veľmi vysoký (napr. Šumava, Kočevje atď.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Times New Roman"/>
              </a:rPr>
              <a:t>V súčasnosti je početnosť populácie trochu nižšia (okolo 250 jedincov), možno aj v dôsledku nárastu populácie vlka. Je celoročne chránený, robí len minimálne škody na hosp. zvieratách, ale loví veľa prežúvavej zveri (60 – 70 ks ročn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479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4869000"/>
            <a:ext cx="9144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rnec lesný je hlavnou korisťou rysa v západných Karpatoch (r = -0,346, ale do lovu je započítaná aj srnčia zver žijúca mimo areálu rysa). Rys intenzívne loví aj jelenčatá a inú raticovú zver. V súčasnosti takéto porovnávanie pre zákaz lovu rysa nie je možné, o jeho ilegálnom love nemáme informáci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33818" r="0" b="8455"/>
          <a:stretch/>
        </p:blipFill>
        <p:spPr>
          <a:xfrm>
            <a:off x="0" y="0"/>
            <a:ext cx="91440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3500280"/>
            <a:ext cx="9144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2000 sa na Slovensku loví ročne 74 – 118, priemerne  98 vlkov. Ich početnosť odhadujeme na cca 250 jedinco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írastok populácie dosahuje najmenej 50 % z jarného stavu, pričom 1 vlk spotrebuje ročne podľa prof. Bibikova 500 – 800 kg mäsa. Loví nielen raticovú zver, ale aj hosp. zvieratá a občas aj poľovné ps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Vlk v súčasnosti už osídľuje lesy celého severného a stredného Slovenska. Čas jeho lovu je veľmi skrátený (od 1. 11. do 15. 1.), čo úplne nepostačuje na účinnú reguláciu jeho počet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5148360" cy="29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4836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076720" y="0"/>
            <a:ext cx="4067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af presvedčivo ukazuje, že súčasná úroveň regulácie početnosti vlka jeho populáciu neohrozuje. Je potrebná aj v záujme zníženia škôd na hosp. zvieratách (0,8 mil. Sk ročne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997360"/>
          <a:ext cx="4284720" cy="309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997360"/>
                    <a:ext cx="428472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211640" y="2997360"/>
          <a:ext cx="468000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997360"/>
                    <a:ext cx="468000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076720" y="4005360"/>
            <a:ext cx="1008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0,6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65720"/>
            <a:ext cx="838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ovnanie lovu vlka a jeleňa (vľavo), resp. diviaka (vpravo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09:35:13Z</dcterms:created>
  <dc:creator>kastier</dc:creator>
  <dc:description/>
  <dc:language>en-US</dc:language>
  <cp:lastModifiedBy>Jaroslav Slamečka</cp:lastModifiedBy>
  <dcterms:modified xsi:type="dcterms:W3CDTF">2008-01-29T11:09:17Z</dcterms:modified>
  <cp:revision>74</cp:revision>
  <dc:subject/>
  <dc:title>SCHÄDEN DURCH GROSSRAUBWILD IN DER SLOWAKEI UND MÖGLICHKEITEN IHRER VERHÜTUNG (Schutz, Erhaltung und Regulierung des Grossraubwildes) </dc:title>
</cp:coreProperties>
</file>