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015-9521-4571-B7DB-266FF875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B33-5877-4CEB-A176-C0F9648B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8CE-4851-411A-99EA-396CF6EF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EC1-17E1-4185-BDA8-0BAA9808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63F1-C8A3-48C3-91FE-3D237BAA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3801-9E29-4306-B257-10B50812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854B-6143-42DD-97FC-740A3CA1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E1BE-1D2C-425A-8503-B5ECAF07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F7E0-BE3C-4F9C-85F6-7E99659E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001D-3473-40A4-BB4D-FB6C0A65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CF58-C779-4459-AC80-24C33071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24C-39D0-40B4-9005-D57F8182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052F-7D2E-490A-B726-C6A1FED3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128E-50C6-492C-AF51-BAEA869C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C435-EF81-43C8-BF01-120DFF36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9B7E-E4B5-436B-939C-CC5563F3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2A6B-0911-4025-BE7C-B3BEB7BB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AB5-1D2B-4F30-AF38-CD57B47E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81D1-F40D-4134-B374-7EC57F49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178C-D17F-4617-8B29-7CD102D0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0FF-F36C-424F-9D53-9BA3E9BF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30E-0D95-4F63-9554-18DF2353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0EC-D777-4689-8A11-840718A3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1BA-62E0-4407-B7DE-CBA0C7D0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C587-48B2-4481-B3CC-A81A5AB0E90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0283-D23C-4271-A59F-3E6D3472050E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enetická diverzita a diferenciácia populácií medveďa hnedého (</a:t>
            </a: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Ursus arcto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L.) v Karpatoch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tin Str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2997360"/>
            <a:ext cx="67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Genetická diverzita a diferenciácia populácií medveďa hnedého (</a:t>
            </a:r>
            <a:r>
              <a:rPr b="0" i="1" lang="en-US" sz="3600" spc="-1" strike="noStrike">
                <a:solidFill>
                  <a:srgbClr val="e5ffff"/>
                </a:solidFill>
                <a:latin typeface="Tahoma"/>
              </a:rPr>
              <a:t>Ursus arctos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L.) v Karpato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5734080"/>
            <a:ext cx="60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dislav Paule,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Martin Strak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na Krajmerov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amp; Michal Adam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tódy molekulárnej genetik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úžia ako nástroj pre potreby populačnej biológ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had veľkosti populácie, pomer pohla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ovenie populačnej diverzity, diferenciácie, toku génov, systém páre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logenéza, fylogeograf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zervačná biológ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dhad veľkosti populác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hady veľkosti populácie sú obyčajne  skres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einvazívny spôsob odberu vzoriek – vzorky trusu, sr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genotyping – určenie genotypu vzorky na základe analýzy viacerých lokuso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čet neidentických genotypov je funkcio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čtu vyzbieraných vzor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 tejto závislosti je odhadnutá početnosť populác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krosate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 – </a:t>
            </a:r>
            <a:r>
              <a:rPr b="0" lang="sk-SK" sz="32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hort </a:t>
            </a:r>
            <a:r>
              <a:rPr b="0" lang="sk-SK" sz="3200" spc="-1" strike="noStrike" u="sng">
                <a:solidFill>
                  <a:srgbClr val="ffffff"/>
                </a:solidFill>
                <a:uFillTx/>
                <a:latin typeface="Tahoma"/>
              </a:rPr>
              <a:t>T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ndem </a:t>
            </a:r>
            <a:r>
              <a:rPr b="0" lang="sk-SK" sz="3200" spc="-1" strike="noStrike" u="sng">
                <a:solidFill>
                  <a:srgbClr val="ffffff"/>
                </a:solidFill>
                <a:uFillTx/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epe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nukleotidové opakovan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kodominantn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kódujúce úseky – nie sú nositelia informácie pre tvorbu produ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ysoko polymorfné úse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amp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ork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kanív z ulovených medveďov (spolupráca so ŠOP S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orky kr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zinárodná spolupráca – vzorky tkanív z Rumunska a zo Slovins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invazívne odoberanie vzoriek – trus, srsť – oblasť Poľ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uzeálne exponáty – srsť, k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zolácia D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kanivá – fenol/chloroformová metó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Qiagen Tissue K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rus – Qiagen Stool K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mega DNA IQ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C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plifikáci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požadovaných lokusov pomocou termostabilnej polymerá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eoreticky je možné získať z 1 molekuly DNA milióny kópií daného úse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mplifikácia 12 lokusov (Bellemain </a:t>
            </a:r>
            <a:r>
              <a:rPr b="0" i="1" lang="sk-SK" sz="3200" spc="-1" strike="noStrike">
                <a:solidFill>
                  <a:srgbClr val="ffffff"/>
                </a:solidFill>
                <a:latin typeface="Tahoma"/>
              </a:rPr>
              <a:t>et al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. 2004, Waits </a:t>
            </a:r>
            <a:r>
              <a:rPr b="0" i="1" lang="sk-SK" sz="3200" spc="-1" strike="noStrike">
                <a:solidFill>
                  <a:srgbClr val="ffffff"/>
                </a:solidFill>
                <a:latin typeface="Tahoma"/>
              </a:rPr>
              <a:t>et al.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2000) a 1 pohlavne špecifického  markéru (S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5ffff"/>
                </a:solidFill>
                <a:latin typeface="Tahoma"/>
              </a:rPr>
              <a:t>Genotypovan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určenie genotypu jedinca na základe analýzy viacerých lokuso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určenie pohlav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analýza pomocou sekvenát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40388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ie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istiť diverzitu slovenskej populácie (bottleneck) a ako sa líši od ostatných  karpatských a balkánskych populácií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a modelovom území odhadnúť početnosť populáci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okúsiť sa objasniť či územie Západných Karpát predstavovalo glaciálne refúgiu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5ffff"/>
                </a:solidFill>
                <a:latin typeface="Tahoma"/>
              </a:rPr>
              <a:t>Výsledk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votná analýza 94 vzoriek tkanív zo Slovenska, Rumunska, Bosny a Rus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istené efektívne počty alel a alelické frekven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anovená očakávaná a pozorovaná heterozygotnos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orovnanie so Škandinávskou populáciou (Waits </a:t>
            </a:r>
            <a:r>
              <a:rPr b="0" i="1" lang="sk-SK" sz="3200" spc="-1" strike="noStrike">
                <a:solidFill>
                  <a:srgbClr val="ffffff"/>
                </a:solidFill>
                <a:latin typeface="Tahoma"/>
              </a:rPr>
              <a:t>et al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. 200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380880"/>
          <a:ext cx="8229600" cy="4983120"/>
        </p:xfrm>
        <a:graphic>
          <a:graphicData uri="http://schemas.openxmlformats.org/drawingml/2006/table">
            <a:tbl>
              <a:tblPr/>
              <a:tblGrid>
                <a:gridCol w="1303200"/>
                <a:gridCol w="1073160"/>
                <a:gridCol w="1073160"/>
                <a:gridCol w="1276560"/>
                <a:gridCol w="1276200"/>
                <a:gridCol w="1114560"/>
                <a:gridCol w="1112760"/>
              </a:tblGrid>
              <a:tr h="45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k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i="1" lang="en-US" sz="20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i="1" lang="en-US" sz="20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i="1" lang="sk-SK" sz="20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Ne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3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8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7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1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3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2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0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8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6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10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5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7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e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4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4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0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68360" y="5805360"/>
            <a:ext cx="576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sk-SK" sz="1800" spc="-1" strike="noStrike">
                <a:solidFill>
                  <a:srgbClr val="ffffff"/>
                </a:solidFill>
                <a:latin typeface="Tahoma"/>
              </a:rPr>
              <a:t> slovenská populácia (94 jedincov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ahoma"/>
              </a:rPr>
              <a:t>B </a:t>
            </a:r>
            <a:r>
              <a:rPr b="0" lang="sk-SK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sk-SK" sz="1800" spc="-1" strike="noStrike">
                <a:solidFill>
                  <a:srgbClr val="ffffff"/>
                </a:solidFill>
                <a:latin typeface="Tahoma"/>
              </a:rPr>
              <a:t> škandinávska populácia (3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jväčšia populácia – územie Ruska a SV Euró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sleduje populácia v Karpatoch a na Balká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padná Európa – málopočetné populácie ohrozené vyhynut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5ffff"/>
                </a:solidFill>
                <a:latin typeface="Tahoma"/>
              </a:rPr>
              <a:t>Medveď v Európ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orovnanie </a:t>
            </a:r>
            <a:r>
              <a:rPr b="0" lang="sk-SK" sz="3200" spc="-1" strike="noStrike">
                <a:solidFill>
                  <a:srgbClr val="e5ffff"/>
                </a:solidFill>
                <a:latin typeface="Tahoma"/>
              </a:rPr>
              <a:t>karpat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k</a:t>
            </a:r>
            <a:r>
              <a:rPr b="0" lang="sk-SK" sz="3200" spc="-1" strike="noStrike">
                <a:solidFill>
                  <a:srgbClr val="e5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h a balk</a:t>
            </a:r>
            <a:r>
              <a:rPr b="0" lang="sk-SK" sz="3200" spc="-1" strike="noStrike">
                <a:solidFill>
                  <a:srgbClr val="e5ffff"/>
                </a:solidFill>
                <a:latin typeface="Tahoma"/>
              </a:rPr>
              <a:t>á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nskych popul</a:t>
            </a:r>
            <a:r>
              <a:rPr b="0" lang="sk-SK" sz="3200" spc="-1" strike="noStrike">
                <a:solidFill>
                  <a:srgbClr val="e5ffff"/>
                </a:solidFill>
                <a:latin typeface="Tahoma"/>
              </a:rPr>
              <a:t>á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i</a:t>
            </a:r>
            <a:r>
              <a:rPr b="0" lang="sk-SK" sz="3200" spc="-1" strike="noStrike">
                <a:solidFill>
                  <a:srgbClr val="e5ffff"/>
                </a:solidFill>
                <a:latin typeface="Tahoma"/>
              </a:rPr>
              <a:t>í medveď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5ffff"/>
                </a:solidFill>
                <a:latin typeface="Tahoma"/>
              </a:rPr>
              <a:t>Genetická podobnosť populáci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2050920"/>
            <a:ext cx="91440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5280" y="1889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opulácia v Škandinávii – vyššia variabilita vďaka toku génov zo susedných populác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omerne vysoká variabilita napriek zahrdleniu populá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otrebná analýza viacerých lokusov –sledované lokusy nemusia byť dostatočne reprezentatívne, lepšie možnosti porovn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5ffff"/>
                </a:solidFill>
                <a:latin typeface="Tahoma"/>
              </a:rPr>
              <a:t>Záve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5ffff"/>
                </a:solidFill>
                <a:latin typeface="Tahoma"/>
              </a:rPr>
              <a:t>Čo treba dokončiť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orovnanie slovenskej populácie s rumunskou, slovisnkou, prípadne iným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genotypovanie trusu – odhad početnosti v úzko lokalizovanej oblasti (napr. na Poľane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nalýza mtDNA – určenie fylogeografického pôvodu karpatských populácií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508464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Tahoma"/>
              </a:rPr>
              <a:t>Ďakujem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sk-SK" sz="4000" spc="-1" strike="noStrike">
                <a:solidFill>
                  <a:srgbClr val="000000"/>
                </a:solidFill>
                <a:latin typeface="Tahoma"/>
              </a:rPr>
              <a:t> za pozornos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177920"/>
            <a:ext cx="4572000" cy="3424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572000" y="117000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ýza mitochondriálnej DNA – rozdelenie európskych populácii na 2 lí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padoeurópske populácie -pochádzajúce z Balkánu a Pyrene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chodoeurópske – možné glaciálne refúgium v Karpatoch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5ffff"/>
                </a:solidFill>
                <a:latin typeface="Tahoma"/>
              </a:rPr>
              <a:t>Medveď v Európ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ahrdlenie populáci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níženie efektívnej početnosti populáci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ta genetickej variability (genetický drif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nížený reprodukčný potenciál – „inbreeding depression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dveď hnedý v Karpato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a Slovensku v medzivojnovom období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0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0 jedinc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d 2. polovice 20. storočia chránený druh – neustály nárast početnosti populáci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súčasnosti 600–800 jedinc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 základe výnimiek zo zákona – regulačn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chranný odlov 10% populácie roč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 Rumunsku populácia nikdy neklesla pod  1000 jedinc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ek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 pracovn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 hypot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á slovenská populácia zníženú diverzitu oproti rumunskej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 akej miery sa západokarpatské populácie odlišujú od východakarpatských a od balkánskych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dveď hnedý v Karpato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pojenie západokarpatskej a východokarpatskej populácie – obnovenie génového to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a Slovensku diskontinuálne rozšíre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pojenie cez Poľsko, Ukrajin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4360" y="2828880"/>
            <a:ext cx="713556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3923400">
            <a:off x="4217400" y="4893840"/>
            <a:ext cx="557280" cy="636840"/>
          </a:xfrm>
          <a:prstGeom prst="upDownArrow">
            <a:avLst>
              <a:gd name="adj1" fmla="val 50000"/>
              <a:gd name="adj2" fmla="val 2274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796000">
            <a:off x="5579640" y="5084640"/>
            <a:ext cx="557280" cy="4003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3923400">
            <a:off x="2810880" y="3965400"/>
            <a:ext cx="557280" cy="636840"/>
          </a:xfrm>
          <a:prstGeom prst="upDownArrow">
            <a:avLst>
              <a:gd name="adj1" fmla="val 50000"/>
              <a:gd name="adj2" fmla="val 2274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3923400">
            <a:off x="4787640" y="5950080"/>
            <a:ext cx="431640" cy="431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6734400">
            <a:off x="4787280" y="3284280"/>
            <a:ext cx="431640" cy="431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5:08:46Z</dcterms:created>
  <dc:creator>Straka</dc:creator>
  <dc:description/>
  <dc:language>en-US</dc:language>
  <cp:lastModifiedBy>Paule</cp:lastModifiedBy>
  <dcterms:modified xsi:type="dcterms:W3CDTF">2008-02-10T19:21:05Z</dcterms:modified>
  <cp:revision>20</cp:revision>
  <dc:subject/>
  <dc:title>Genetická diverzita a diferenciácia populácií medveďa hnedého v Karpatoch</dc:title>
</cp:coreProperties>
</file>