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335-C59F-45ED-93C3-F9EABA3E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0F8-7DA2-40A4-906B-51AC72DD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951-56B9-4E95-B4F9-5E7D70B3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69E-4FAC-4E0F-B446-F78CA54C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DE4-59BB-4EEF-9116-8A077B95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15D-C15C-46D5-95DD-110F4D50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03E-A321-43A7-BE18-C003CBCA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1D6-F23B-4A95-9C65-DD9AA8C3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E83-2A73-41CA-B2A6-E5127C19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CF8-C10A-4C2B-B7B0-80B3841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5EA-B754-48C8-9C2A-4795031B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246-A79E-491D-958B-297B7324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A255-C1CC-48B7-8958-F41156EDB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opsr.sk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2232000" cy="2068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14385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824120" cy="191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Projekt ochrany a manažmentu medveďa hnedého na Slovensk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596360" y="260280"/>
            <a:ext cx="1201680" cy="16290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221080" y="5661000"/>
            <a:ext cx="388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g. Vladimír A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Štátna ochrana prírody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bor ochrany lesných biotop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960" y="602784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atisl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ebruá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Projekt ochrany a manažmentu medveďa hnedého na Slovensk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erénne (vonkajšie)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. Výberové modelové úz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binované telemetrické merania – GPS, terestr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ermovízne ka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oplošné sčíta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. Územie Slovensk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ber vzoriek tru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raniometrické mer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itchellova metóda zisťovania v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dber vzoriek na veterinárne vyšetr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avidelné pozorovania v rámci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isťovanie a presná evidencia škôd spôsobených veľkými šelm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Návrh modelového územ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27640" y="34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342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7800" y="313380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HKO/CHPO Poľ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3640" y="3860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99640" y="4149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6880" y="357336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oľovná oblasť J 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Kremnické v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642920" y="278136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79640" y="2997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270180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transký Národný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celárske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vantitatívna a kvalitatívna analýza získaného empirického 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asová analýza všetkých vykonaných meraní a zisťova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všeobecnenie získaných informácií na celé úze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ovnanie výsledkov ŠOP SR a výsledkov poľovníckej štat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ovnanie výsledkov s výsledkami v iných kraji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very a odporúčania pre ochranársku aj poľovnícku p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ypracovanie jednoduchej metodiky na zisťovanie a aktualizáciu údajov o populác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ypracovanie metód optimálneho spôsobu manaž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iele a prínosy projekt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presnenie údajov 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celkovej populáci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pohlavnej a vekovej štruktú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dennej a sezónnej aktivi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zdravotnom stave a kondíc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priestorovej aktivite a migrác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veľkosti a prekrývaní domovských okrskov (HOME RANG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vzájomných vnútrodruhových vzťahoch v rámci populá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ochrane a poľovnom obhospodarov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pracovani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gramov starostlivos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plán ochrany a manažmentu veľkých šeli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pracovanie (čiastočná úprava)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ch plánov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v rámci európskeho akčného plá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dzinárodná spolupráca pri riešení problematiky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chrany a manažmentu veľkých šel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38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Ďakujem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62640" y="6453360"/>
            <a:ext cx="28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vladimir.ant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sopsr.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507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Prirodzené podmienky – pasívna ochr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vyšovanie/znižovanie mortality a na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úlad populácie s úživnosťou úz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moregulácia – autoregulačné proc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Kultúrna krajina – aktívna ochrana (manaž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chrana a tvorba životného prostr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chrana dru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- druhová och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územná ochrana (chránené územia kde je predmet ochrany konkrétny dru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ánovaná regulácia početnosti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sah do pohlavnej a vekovej štruktúry popul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Medveď hnedý </a:t>
            </a:r>
            <a:r>
              <a:rPr b="1" i="1" lang="sk-SK" sz="4000" spc="-1" strike="noStrike">
                <a:solidFill>
                  <a:srgbClr val="000000"/>
                </a:solidFill>
                <a:latin typeface="Arial"/>
              </a:rPr>
              <a:t>(Ursus arct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Zákon č. 543/2002 Z. z. o ochrane prír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 krajiny (§ 40, § 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plánovaný zásah do populáci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(regulačný lov, odchy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operatívny manažmen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(ochranný l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Problematika manažmentu medveďa na Slovensk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Areál prirodzeného rozšíren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63640" y="2781360"/>
            <a:ext cx="504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050560" y="3355920"/>
            <a:ext cx="50508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40000" y="3932280"/>
            <a:ext cx="504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27280" y="4508640"/>
            <a:ext cx="504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86064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29264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414972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393228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429264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227664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2000" y="2637000"/>
            <a:ext cx="2160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299736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Dôvody a naliehavosť vypracovania a realizácie projekt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Úroveň poznania – „vedecký odhad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pohlavná a veková štruktúra popul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migrá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HOM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hustota popul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poľovné obhospodarovani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menšovanie prirodzených biotop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šírenie mimo areálu prirodzeného rozšír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vyšovanie hustoty popul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výšené škody spôsobené veľkými šelm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výšené riziko nebezpečných stre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nancovanie projektu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Štrukturálne fo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cecff"/>
                </a:solidFill>
                <a:latin typeface="Arial"/>
              </a:rPr>
              <a:t>Operačný program Životné prostre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ná os 5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chrana a regenerácia prírodného prostredia a kraj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peračný cieľ 5.1 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Zabezpečenie  priaznivého stavu biotopov a dru - hov prostredníctvom vypracovania a  realizácie programov starostli - vosti o  chránené územia vrátane území  NATURA  2000 a programov záchrany pre kriticky ohrozené druhy rastlín, živočíchov a území vrá - tane realizácie monitoringu druhov a biotop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právnená aktivit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I. skupina aktivít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– vypracovanie dokumentov starostlivosti, a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programov starostlivosti o vybrané chránené druhy rastlín a živočíchov (európskeho a národného významu), ak je potrebné stanoviť zásady o tieto druhy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Časový harmonogram a finančná náročnosť projek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</a:rPr>
              <a:t>2008 – 2012 </a:t>
            </a: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→ 5 roko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Hibernácia (nepravý zimný spánok) → cca 4 – 5 mesiaco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Trvanie projektu cca 3 rok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A. Kontrolné dni → 1 – 2x ročn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B. </a:t>
            </a:r>
            <a:r>
              <a:rPr b="0" lang="sk-SK" sz="31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sopsr.sk</a:t>
            </a: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 (informáci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Materiál a metod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cc"/>
                </a:solidFill>
                <a:uFillTx/>
                <a:latin typeface="Arial"/>
              </a:rPr>
              <a:t>Tri základné 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ípravné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énne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celárske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635200"/>
            <a:ext cx="64576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ípravné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vrh pracovnej skupiny – koordinácia celéh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vrh modelových ú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vrh výberového dizaj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hoda s vlastní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vrh software na z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yhodno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ácia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Koordinácia projekt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oordinačná rada pre projek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3399ff"/>
                </a:solidFill>
                <a:latin typeface="Arial"/>
              </a:rPr>
              <a:t>1. Expertná koordinačná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átna ochrana príro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echnická univerzita vo Zvo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niverzita veterinárneho lekárstva Koš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niverzita Mateja Bela v Banskej Bystr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árodné lesnícke centrum vo Zvo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átna veterinárna a potravinová správa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3399ff"/>
                </a:solidFill>
                <a:latin typeface="Arial"/>
              </a:rPr>
              <a:t>2. Výkonná, koordinačno – poradenská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inisterstvo pôdohospodárstva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átna ochrana príro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lovenský poľovnícky zvä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Lesy Slovenskej republiky, š. 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bbe0e3"/>
                </a:solidFill>
                <a:latin typeface="Arial"/>
              </a:rPr>
              <a:t>                                        </a:t>
            </a:r>
            <a:r>
              <a:rPr b="1" lang="sk-SK" sz="2000" spc="-1" strike="noStrike" u="sng">
                <a:solidFill>
                  <a:srgbClr val="bbe0e3"/>
                </a:solidFill>
                <a:uFillTx/>
                <a:latin typeface="Arial"/>
              </a:rPr>
              <a:t>medved</a:t>
            </a:r>
            <a:r>
              <a:rPr b="1" lang="en-US" sz="2000" spc="-1" strike="noStrike" u="sng">
                <a:solidFill>
                  <a:srgbClr val="bbe0e3"/>
                </a:solidFill>
                <a:uFillTx/>
                <a:latin typeface="Arial"/>
              </a:rPr>
              <a:t>@</a:t>
            </a:r>
            <a:r>
              <a:rPr b="1" lang="sk-SK" sz="2000" spc="-1" strike="noStrike" u="sng">
                <a:solidFill>
                  <a:srgbClr val="bbe0e3"/>
                </a:solidFill>
                <a:uFillTx/>
                <a:latin typeface="Arial"/>
              </a:rPr>
              <a:t>sopsr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6:23:58Z</dcterms:created>
  <dc:creator>Kimmiko</dc:creator>
  <dc:description/>
  <dc:language>en-US</dc:language>
  <cp:lastModifiedBy>Antal</cp:lastModifiedBy>
  <dcterms:modified xsi:type="dcterms:W3CDTF">2008-02-13T11:41:33Z</dcterms:modified>
  <cp:revision>58</cp:revision>
  <dc:subject/>
  <dc:title>Snímka 1</dc:title>
</cp:coreProperties>
</file>